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E930-7B23-4DCC-87C2-FB12894D0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- a number multiplied with another to get a product  divisible - able to be divided  sum - answer to an addition problem  prime - only factors are 1 and itself composite has at least one additional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in the ones place is even; If the number in the ones place is a 5 or 0; if the number in the ones place is a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um of the digits is divisible by 3; if the sum of the digits is divisible by 9; if it is even and divisible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647-F6E3-4E25-954D-91AB30AF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7ABF-FDFF-43AD-A08C-50407E3E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8A9A-21EC-491E-B1B8-AC323B4D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4544-B78D-447E-AE00-78E9EF5A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BE4F-5730-4A34-8BE1-3854D4AE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DBCA-BF81-4BE5-A795-F2C30D19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522C-E74C-45F7-B718-55690899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C7B5-67D7-413A-A9E2-A441C51F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49FF-1B11-42A8-9BA6-9EF6443C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21BC-E440-43B6-AC1B-F5AF1126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7ED5-2205-4296-AF64-5F69537E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D0F4-30DB-4053-9F98-B09D9D8B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D794-CC98-40F1-AE25-DCEC6AC9F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:  Students will be able to use divisibility rules to quickly identify the factors of a given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cc"/>
                </a:solidFill>
                <a:latin typeface="Arial"/>
              </a:rPr>
              <a:t>Warm-up:  List all the factors for each number bel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cc"/>
                </a:solidFill>
                <a:latin typeface="Arial"/>
              </a:rPr>
              <a:t>1.)  24 </a:t>
            </a:r>
            <a:r>
              <a:rPr b="1" lang="en-US" sz="29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3366cc"/>
                </a:solidFill>
                <a:latin typeface="Arial"/>
              </a:rPr>
              <a:t>2.)  81</a:t>
            </a:r>
            <a:r>
              <a:rPr b="1" lang="en-US" sz="29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3366cc"/>
                </a:solidFill>
                <a:latin typeface="Arial"/>
              </a:rPr>
              <a:t>3.) 200</a:t>
            </a:r>
            <a:r>
              <a:rPr b="1" lang="en-US" sz="29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3366cc"/>
                </a:solidFill>
                <a:latin typeface="Arial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7760" y="34113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967" y="9475"/>
                </a:moveTo>
                <a:lnTo>
                  <a:pt x="967" y="947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5200" y="3419640"/>
            <a:ext cx="54000" cy="9360"/>
          </a:xfrm>
          <a:custGeom>
            <a:avLst/>
            <a:gdLst/>
            <a:ahLst/>
            <a:rect l="l" t="t" r="r" b="b"/>
            <a:pathLst>
              <a:path w="149" h="26">
                <a:moveTo>
                  <a:pt x="819" y="9525"/>
                </a:moveTo>
                <a:cubicBezTo>
                  <a:pt x="866" y="9525"/>
                  <a:pt x="898" y="9505"/>
                  <a:pt x="943" y="9500"/>
                </a:cubicBezTo>
                <a:cubicBezTo>
                  <a:pt x="951" y="9500"/>
                  <a:pt x="959" y="9500"/>
                  <a:pt x="967" y="95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7760" y="34196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67" y="9500"/>
                </a:moveTo>
                <a:lnTo>
                  <a:pt x="967" y="950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8200" y="3544920"/>
            <a:ext cx="17640" cy="241200"/>
          </a:xfrm>
          <a:custGeom>
            <a:avLst/>
            <a:gdLst/>
            <a:ahLst/>
            <a:rect l="l" t="t" r="r" b="b"/>
            <a:pathLst>
              <a:path w="51" h="671">
                <a:moveTo>
                  <a:pt x="744" y="9872"/>
                </a:moveTo>
                <a:cubicBezTo>
                  <a:pt x="744" y="9763"/>
                  <a:pt x="758" y="10036"/>
                  <a:pt x="769" y="10145"/>
                </a:cubicBezTo>
                <a:cubicBezTo>
                  <a:pt x="781" y="10273"/>
                  <a:pt x="794" y="10389"/>
                  <a:pt x="794" y="10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27320" y="3803760"/>
            <a:ext cx="17640" cy="90360"/>
          </a:xfrm>
          <a:custGeom>
            <a:avLst/>
            <a:gdLst/>
            <a:ahLst/>
            <a:rect l="l" t="t" r="r" b="b"/>
            <a:pathLst>
              <a:path w="51" h="249">
                <a:moveTo>
                  <a:pt x="11212" y="10567"/>
                </a:moveTo>
                <a:cubicBezTo>
                  <a:pt x="11227" y="10697"/>
                  <a:pt x="11237" y="10703"/>
                  <a:pt x="11187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9880" y="4160880"/>
            <a:ext cx="1062000" cy="903240"/>
          </a:xfrm>
          <a:custGeom>
            <a:avLst/>
            <a:gdLst/>
            <a:ahLst/>
            <a:rect l="l" t="t" r="r" b="b"/>
            <a:pathLst>
              <a:path w="2952" h="2506">
                <a:moveTo>
                  <a:pt x="2753" y="11857"/>
                </a:moveTo>
                <a:cubicBezTo>
                  <a:pt x="2753" y="12018"/>
                  <a:pt x="2736" y="12222"/>
                  <a:pt x="2704" y="12378"/>
                </a:cubicBezTo>
                <a:cubicBezTo>
                  <a:pt x="2692" y="12439"/>
                  <a:pt x="2655" y="12577"/>
                  <a:pt x="2629" y="12551"/>
                </a:cubicBezTo>
              </a:path>
              <a:path w="2952" h="2506">
                <a:moveTo>
                  <a:pt x="4142" y="11906"/>
                </a:moveTo>
                <a:cubicBezTo>
                  <a:pt x="4099" y="11974"/>
                  <a:pt x="4278" y="11824"/>
                  <a:pt x="4341" y="11832"/>
                </a:cubicBezTo>
                <a:cubicBezTo>
                  <a:pt x="4885" y="11901"/>
                  <a:pt x="4310" y="12371"/>
                  <a:pt x="4142" y="12452"/>
                </a:cubicBezTo>
                <a:cubicBezTo>
                  <a:pt x="4076" y="12469"/>
                  <a:pt x="4010" y="12485"/>
                  <a:pt x="3944" y="12502"/>
                </a:cubicBezTo>
                <a:cubicBezTo>
                  <a:pt x="4031" y="12316"/>
                  <a:pt x="4206" y="12143"/>
                  <a:pt x="4440" y="12254"/>
                </a:cubicBezTo>
                <a:cubicBezTo>
                  <a:pt x="4536" y="12299"/>
                  <a:pt x="4530" y="12391"/>
                  <a:pt x="4539" y="12477"/>
                </a:cubicBezTo>
              </a:path>
              <a:path w="2952" h="2506">
                <a:moveTo>
                  <a:pt x="4762" y="11832"/>
                </a:moveTo>
                <a:cubicBezTo>
                  <a:pt x="4771" y="11958"/>
                  <a:pt x="4793" y="12199"/>
                  <a:pt x="4961" y="12229"/>
                </a:cubicBezTo>
                <a:cubicBezTo>
                  <a:pt x="5152" y="12202"/>
                  <a:pt x="5222" y="12180"/>
                  <a:pt x="5283" y="12030"/>
                </a:cubicBezTo>
              </a:path>
              <a:path w="2952" h="2506">
                <a:moveTo>
                  <a:pt x="5135" y="11559"/>
                </a:moveTo>
                <a:cubicBezTo>
                  <a:pt x="5135" y="11883"/>
                  <a:pt x="5124" y="12203"/>
                  <a:pt x="5110" y="12526"/>
                </a:cubicBezTo>
                <a:cubicBezTo>
                  <a:pt x="5110" y="12567"/>
                  <a:pt x="5110" y="12609"/>
                  <a:pt x="5110" y="12650"/>
                </a:cubicBezTo>
              </a:path>
              <a:path w="2952" h="2506">
                <a:moveTo>
                  <a:pt x="3249" y="12179"/>
                </a:moveTo>
                <a:cubicBezTo>
                  <a:pt x="3293" y="12256"/>
                  <a:pt x="3378" y="12348"/>
                  <a:pt x="3398" y="12427"/>
                </a:cubicBezTo>
              </a:path>
              <a:path w="2952" h="2506">
                <a:moveTo>
                  <a:pt x="3497" y="12105"/>
                </a:moveTo>
                <a:cubicBezTo>
                  <a:pt x="3400" y="12217"/>
                  <a:pt x="3340" y="12320"/>
                  <a:pt x="3274" y="12452"/>
                </a:cubicBezTo>
              </a:path>
              <a:path w="2952" h="2506">
                <a:moveTo>
                  <a:pt x="2604" y="13196"/>
                </a:moveTo>
                <a:cubicBezTo>
                  <a:pt x="2604" y="13238"/>
                  <a:pt x="2604" y="13263"/>
                  <a:pt x="2604" y="13221"/>
                </a:cubicBezTo>
                <a:cubicBezTo>
                  <a:pt x="2746" y="13132"/>
                  <a:pt x="2959" y="13046"/>
                  <a:pt x="2927" y="13345"/>
                </a:cubicBezTo>
                <a:cubicBezTo>
                  <a:pt x="2889" y="13700"/>
                  <a:pt x="2628" y="13940"/>
                  <a:pt x="2332" y="13841"/>
                </a:cubicBezTo>
                <a:cubicBezTo>
                  <a:pt x="2474" y="13566"/>
                  <a:pt x="2636" y="13469"/>
                  <a:pt x="2902" y="13742"/>
                </a:cubicBezTo>
                <a:cubicBezTo>
                  <a:pt x="2943" y="13823"/>
                  <a:pt x="2960" y="13836"/>
                  <a:pt x="2952" y="13891"/>
                </a:cubicBezTo>
              </a:path>
              <a:path w="2952" h="2506">
                <a:moveTo>
                  <a:pt x="4093" y="13146"/>
                </a:moveTo>
                <a:cubicBezTo>
                  <a:pt x="4093" y="13361"/>
                  <a:pt x="4093" y="13576"/>
                  <a:pt x="4093" y="13791"/>
                </a:cubicBezTo>
              </a:path>
              <a:path w="2952" h="2506">
                <a:moveTo>
                  <a:pt x="4564" y="13122"/>
                </a:moveTo>
                <a:cubicBezTo>
                  <a:pt x="4777" y="13122"/>
                  <a:pt x="4963" y="13168"/>
                  <a:pt x="5011" y="13419"/>
                </a:cubicBezTo>
                <a:cubicBezTo>
                  <a:pt x="5075" y="13754"/>
                  <a:pt x="4751" y="13858"/>
                  <a:pt x="4539" y="13791"/>
                </a:cubicBezTo>
                <a:cubicBezTo>
                  <a:pt x="4719" y="13603"/>
                  <a:pt x="4949" y="13521"/>
                  <a:pt x="5110" y="13841"/>
                </a:cubicBezTo>
                <a:cubicBezTo>
                  <a:pt x="5133" y="13957"/>
                  <a:pt x="5144" y="13990"/>
                  <a:pt x="5110" y="14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75160" y="4187880"/>
            <a:ext cx="3179880" cy="866880"/>
          </a:xfrm>
          <a:custGeom>
            <a:avLst/>
            <a:gdLst/>
            <a:ahLst/>
            <a:rect l="l" t="t" r="r" b="b"/>
            <a:pathLst>
              <a:path w="8832" h="2407">
                <a:moveTo>
                  <a:pt x="14957" y="13097"/>
                </a:moveTo>
                <a:cubicBezTo>
                  <a:pt x="14821" y="13142"/>
                  <a:pt x="14982" y="13353"/>
                  <a:pt x="15007" y="13494"/>
                </a:cubicBezTo>
                <a:cubicBezTo>
                  <a:pt x="15036" y="13658"/>
                  <a:pt x="15081" y="13865"/>
                  <a:pt x="15081" y="14039"/>
                </a:cubicBezTo>
              </a:path>
              <a:path w="8832" h="2407">
                <a:moveTo>
                  <a:pt x="15056" y="12799"/>
                </a:moveTo>
                <a:cubicBezTo>
                  <a:pt x="15146" y="12662"/>
                  <a:pt x="15197" y="12572"/>
                  <a:pt x="15329" y="12452"/>
                </a:cubicBezTo>
                <a:cubicBezTo>
                  <a:pt x="15583" y="12220"/>
                  <a:pt x="15896" y="12103"/>
                  <a:pt x="16222" y="12005"/>
                </a:cubicBezTo>
                <a:cubicBezTo>
                  <a:pt x="16652" y="11875"/>
                  <a:pt x="17093" y="11796"/>
                  <a:pt x="17537" y="11733"/>
                </a:cubicBezTo>
                <a:cubicBezTo>
                  <a:pt x="18061" y="11659"/>
                  <a:pt x="18594" y="11619"/>
                  <a:pt x="19124" y="11633"/>
                </a:cubicBezTo>
                <a:cubicBezTo>
                  <a:pt x="19667" y="11647"/>
                  <a:pt x="20227" y="11685"/>
                  <a:pt x="20762" y="11782"/>
                </a:cubicBezTo>
                <a:cubicBezTo>
                  <a:pt x="21298" y="11879"/>
                  <a:pt x="21811" y="12023"/>
                  <a:pt x="22324" y="12204"/>
                </a:cubicBezTo>
                <a:cubicBezTo>
                  <a:pt x="22628" y="12311"/>
                  <a:pt x="22924" y="12444"/>
                  <a:pt x="23217" y="12576"/>
                </a:cubicBezTo>
                <a:cubicBezTo>
                  <a:pt x="23388" y="12653"/>
                  <a:pt x="23576" y="12739"/>
                  <a:pt x="23738" y="12824"/>
                </a:cubicBezTo>
                <a:cubicBezTo>
                  <a:pt x="23738" y="12849"/>
                  <a:pt x="23738" y="12857"/>
                  <a:pt x="23763" y="12849"/>
                </a:cubicBezTo>
              </a:path>
              <a:path w="8832" h="2407">
                <a:moveTo>
                  <a:pt x="15602" y="12799"/>
                </a:moveTo>
                <a:cubicBezTo>
                  <a:pt x="15704" y="12754"/>
                  <a:pt x="15821" y="12685"/>
                  <a:pt x="15925" y="12650"/>
                </a:cubicBezTo>
                <a:cubicBezTo>
                  <a:pt x="16079" y="12598"/>
                  <a:pt x="16241" y="12581"/>
                  <a:pt x="16396" y="12526"/>
                </a:cubicBezTo>
                <a:cubicBezTo>
                  <a:pt x="16536" y="12477"/>
                  <a:pt x="16679" y="12435"/>
                  <a:pt x="16818" y="12402"/>
                </a:cubicBezTo>
                <a:cubicBezTo>
                  <a:pt x="16993" y="12360"/>
                  <a:pt x="17183" y="12356"/>
                  <a:pt x="17363" y="12328"/>
                </a:cubicBezTo>
                <a:cubicBezTo>
                  <a:pt x="17594" y="12293"/>
                  <a:pt x="17824" y="12220"/>
                  <a:pt x="18058" y="12204"/>
                </a:cubicBezTo>
                <a:cubicBezTo>
                  <a:pt x="18251" y="12191"/>
                  <a:pt x="18436" y="12202"/>
                  <a:pt x="18628" y="12179"/>
                </a:cubicBezTo>
                <a:cubicBezTo>
                  <a:pt x="18794" y="12159"/>
                  <a:pt x="18954" y="12154"/>
                  <a:pt x="19124" y="12154"/>
                </a:cubicBezTo>
                <a:cubicBezTo>
                  <a:pt x="19358" y="12154"/>
                  <a:pt x="19588" y="12163"/>
                  <a:pt x="19819" y="12179"/>
                </a:cubicBezTo>
                <a:cubicBezTo>
                  <a:pt x="20094" y="12197"/>
                  <a:pt x="20365" y="12162"/>
                  <a:pt x="20638" y="12204"/>
                </a:cubicBezTo>
                <a:cubicBezTo>
                  <a:pt x="21004" y="12260"/>
                  <a:pt x="21399" y="12307"/>
                  <a:pt x="21754" y="12402"/>
                </a:cubicBezTo>
                <a:cubicBezTo>
                  <a:pt x="21791" y="12412"/>
                  <a:pt x="21838" y="12439"/>
                  <a:pt x="21878" y="12452"/>
                </a:cubicBezTo>
                <a:cubicBezTo>
                  <a:pt x="21950" y="12476"/>
                  <a:pt x="22029" y="12509"/>
                  <a:pt x="22101" y="12526"/>
                </a:cubicBezTo>
                <a:cubicBezTo>
                  <a:pt x="22160" y="12540"/>
                  <a:pt x="22223" y="12562"/>
                  <a:pt x="22275" y="12576"/>
                </a:cubicBezTo>
                <a:cubicBezTo>
                  <a:pt x="22321" y="12588"/>
                  <a:pt x="22358" y="12583"/>
                  <a:pt x="22399" y="12601"/>
                </a:cubicBezTo>
                <a:cubicBezTo>
                  <a:pt x="22403" y="12603"/>
                  <a:pt x="22450" y="12639"/>
                  <a:pt x="22473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57160" y="4919760"/>
            <a:ext cx="6662880" cy="1162080"/>
          </a:xfrm>
          <a:custGeom>
            <a:avLst/>
            <a:gdLst/>
            <a:ahLst/>
            <a:rect l="l" t="t" r="r" b="b"/>
            <a:pathLst>
              <a:path w="18506" h="3226">
                <a:moveTo>
                  <a:pt x="3423" y="14089"/>
                </a:moveTo>
                <a:cubicBezTo>
                  <a:pt x="3423" y="14196"/>
                  <a:pt x="3440" y="14238"/>
                  <a:pt x="3349" y="14213"/>
                </a:cubicBezTo>
              </a:path>
              <a:path w="18506" h="3226">
                <a:moveTo>
                  <a:pt x="2381" y="14858"/>
                </a:moveTo>
                <a:cubicBezTo>
                  <a:pt x="2456" y="14828"/>
                  <a:pt x="2751" y="14722"/>
                  <a:pt x="2778" y="14858"/>
                </a:cubicBezTo>
                <a:cubicBezTo>
                  <a:pt x="2797" y="14957"/>
                  <a:pt x="2659" y="15051"/>
                  <a:pt x="2604" y="15106"/>
                </a:cubicBezTo>
                <a:cubicBezTo>
                  <a:pt x="2810" y="15106"/>
                  <a:pt x="2824" y="15118"/>
                  <a:pt x="2977" y="15205"/>
                </a:cubicBezTo>
                <a:cubicBezTo>
                  <a:pt x="2917" y="15283"/>
                  <a:pt x="2472" y="15719"/>
                  <a:pt x="2381" y="15404"/>
                </a:cubicBezTo>
                <a:cubicBezTo>
                  <a:pt x="2398" y="15354"/>
                  <a:pt x="2414" y="15305"/>
                  <a:pt x="2431" y="15255"/>
                </a:cubicBezTo>
              </a:path>
              <a:path w="18506" h="3226">
                <a:moveTo>
                  <a:pt x="3200" y="15329"/>
                </a:moveTo>
                <a:cubicBezTo>
                  <a:pt x="3181" y="15463"/>
                  <a:pt x="3154" y="15486"/>
                  <a:pt x="3200" y="15553"/>
                </a:cubicBezTo>
              </a:path>
              <a:path w="18506" h="3226">
                <a:moveTo>
                  <a:pt x="3994" y="14635"/>
                </a:moveTo>
                <a:cubicBezTo>
                  <a:pt x="3989" y="14786"/>
                  <a:pt x="3872" y="15167"/>
                  <a:pt x="3994" y="15280"/>
                </a:cubicBezTo>
                <a:cubicBezTo>
                  <a:pt x="4211" y="15482"/>
                  <a:pt x="4382" y="15147"/>
                  <a:pt x="4490" y="15032"/>
                </a:cubicBezTo>
                <a:cubicBezTo>
                  <a:pt x="4498" y="15032"/>
                  <a:pt x="4506" y="15032"/>
                  <a:pt x="4514" y="15032"/>
                </a:cubicBezTo>
              </a:path>
              <a:path w="18506" h="3226">
                <a:moveTo>
                  <a:pt x="4514" y="15032"/>
                </a:moveTo>
                <a:cubicBezTo>
                  <a:pt x="4471" y="14960"/>
                  <a:pt x="4395" y="14893"/>
                  <a:pt x="4316" y="14982"/>
                </a:cubicBezTo>
                <a:cubicBezTo>
                  <a:pt x="4227" y="15083"/>
                  <a:pt x="4080" y="15269"/>
                  <a:pt x="4242" y="15304"/>
                </a:cubicBezTo>
              </a:path>
              <a:path w="18506" h="3226">
                <a:moveTo>
                  <a:pt x="2753" y="15875"/>
                </a:moveTo>
                <a:cubicBezTo>
                  <a:pt x="2745" y="15883"/>
                  <a:pt x="2737" y="15892"/>
                  <a:pt x="2729" y="15900"/>
                </a:cubicBezTo>
              </a:path>
              <a:path w="18506" h="3226">
                <a:moveTo>
                  <a:pt x="4564" y="14560"/>
                </a:moveTo>
                <a:cubicBezTo>
                  <a:pt x="4454" y="14501"/>
                  <a:pt x="4297" y="14442"/>
                  <a:pt x="4167" y="14486"/>
                </a:cubicBezTo>
                <a:cubicBezTo>
                  <a:pt x="3951" y="14559"/>
                  <a:pt x="3933" y="14732"/>
                  <a:pt x="4018" y="14883"/>
                </a:cubicBezTo>
                <a:cubicBezTo>
                  <a:pt x="4239" y="14861"/>
                  <a:pt x="4567" y="14859"/>
                  <a:pt x="4514" y="14536"/>
                </a:cubicBezTo>
                <a:cubicBezTo>
                  <a:pt x="4498" y="14511"/>
                  <a:pt x="4481" y="14486"/>
                  <a:pt x="4465" y="14461"/>
                </a:cubicBezTo>
                <a:cubicBezTo>
                  <a:pt x="4263" y="14453"/>
                  <a:pt x="3899" y="14507"/>
                  <a:pt x="3994" y="14833"/>
                </a:cubicBezTo>
                <a:cubicBezTo>
                  <a:pt x="4035" y="14874"/>
                  <a:pt x="4077" y="14916"/>
                  <a:pt x="4118" y="14957"/>
                </a:cubicBezTo>
              </a:path>
              <a:path w="18506" h="3226">
                <a:moveTo>
                  <a:pt x="4440" y="14957"/>
                </a:moveTo>
                <a:cubicBezTo>
                  <a:pt x="4303" y="14912"/>
                  <a:pt x="4239" y="14864"/>
                  <a:pt x="4093" y="14982"/>
                </a:cubicBezTo>
                <a:cubicBezTo>
                  <a:pt x="4060" y="15023"/>
                  <a:pt x="4027" y="15065"/>
                  <a:pt x="3994" y="15106"/>
                </a:cubicBezTo>
                <a:cubicBezTo>
                  <a:pt x="4006" y="15308"/>
                  <a:pt x="4198" y="15417"/>
                  <a:pt x="4390" y="15230"/>
                </a:cubicBezTo>
                <a:cubicBezTo>
                  <a:pt x="4573" y="15052"/>
                  <a:pt x="4406" y="14782"/>
                  <a:pt x="4167" y="14858"/>
                </a:cubicBezTo>
                <a:cubicBezTo>
                  <a:pt x="3960" y="14924"/>
                  <a:pt x="3942" y="15107"/>
                  <a:pt x="3894" y="15280"/>
                </a:cubicBezTo>
                <a:cubicBezTo>
                  <a:pt x="4108" y="15342"/>
                  <a:pt x="4482" y="15343"/>
                  <a:pt x="4440" y="14982"/>
                </a:cubicBezTo>
                <a:cubicBezTo>
                  <a:pt x="4401" y="14650"/>
                  <a:pt x="4040" y="15134"/>
                  <a:pt x="4018" y="15180"/>
                </a:cubicBezTo>
                <a:cubicBezTo>
                  <a:pt x="4213" y="15327"/>
                  <a:pt x="4186" y="15295"/>
                  <a:pt x="4390" y="15156"/>
                </a:cubicBezTo>
              </a:path>
              <a:path w="18506" h="3226">
                <a:moveTo>
                  <a:pt x="2456" y="15974"/>
                </a:moveTo>
                <a:cubicBezTo>
                  <a:pt x="2456" y="16148"/>
                  <a:pt x="2415" y="16300"/>
                  <a:pt x="2381" y="16470"/>
                </a:cubicBezTo>
                <a:cubicBezTo>
                  <a:pt x="2583" y="16538"/>
                  <a:pt x="2691" y="16415"/>
                  <a:pt x="2853" y="16297"/>
                </a:cubicBezTo>
              </a:path>
              <a:path w="18506" h="3226">
                <a:moveTo>
                  <a:pt x="2729" y="15900"/>
                </a:moveTo>
                <a:cubicBezTo>
                  <a:pt x="2710" y="16207"/>
                  <a:pt x="2661" y="16509"/>
                  <a:pt x="2654" y="16818"/>
                </a:cubicBezTo>
                <a:cubicBezTo>
                  <a:pt x="2654" y="16843"/>
                  <a:pt x="2654" y="16867"/>
                  <a:pt x="2654" y="16892"/>
                </a:cubicBezTo>
              </a:path>
              <a:path w="18506" h="3226">
                <a:moveTo>
                  <a:pt x="3696" y="16024"/>
                </a:moveTo>
                <a:cubicBezTo>
                  <a:pt x="3696" y="16208"/>
                  <a:pt x="3680" y="16387"/>
                  <a:pt x="3671" y="16570"/>
                </a:cubicBezTo>
                <a:cubicBezTo>
                  <a:pt x="3671" y="16706"/>
                  <a:pt x="3666" y="16744"/>
                  <a:pt x="3721" y="16818"/>
                </a:cubicBezTo>
                <a:cubicBezTo>
                  <a:pt x="3976" y="16832"/>
                  <a:pt x="4056" y="16740"/>
                  <a:pt x="4118" y="16495"/>
                </a:cubicBezTo>
                <a:cubicBezTo>
                  <a:pt x="4118" y="16479"/>
                  <a:pt x="4118" y="16462"/>
                  <a:pt x="4118" y="16446"/>
                </a:cubicBezTo>
                <a:cubicBezTo>
                  <a:pt x="4017" y="16496"/>
                  <a:pt x="3769" y="16651"/>
                  <a:pt x="3845" y="16818"/>
                </a:cubicBezTo>
                <a:cubicBezTo>
                  <a:pt x="3861" y="16818"/>
                  <a:pt x="3878" y="16818"/>
                  <a:pt x="3894" y="16818"/>
                </a:cubicBezTo>
              </a:path>
              <a:path w="18506" h="3226">
                <a:moveTo>
                  <a:pt x="16321" y="13940"/>
                </a:moveTo>
                <a:cubicBezTo>
                  <a:pt x="16389" y="14076"/>
                  <a:pt x="16378" y="14156"/>
                  <a:pt x="16321" y="14288"/>
                </a:cubicBezTo>
              </a:path>
              <a:path w="18506" h="3226">
                <a:moveTo>
                  <a:pt x="8657" y="15255"/>
                </a:moveTo>
                <a:lnTo>
                  <a:pt x="8657" y="15255"/>
                </a:lnTo>
              </a:path>
              <a:path w="18506" h="3226">
                <a:moveTo>
                  <a:pt x="20811" y="13667"/>
                </a:moveTo>
                <a:cubicBezTo>
                  <a:pt x="20874" y="13715"/>
                  <a:pt x="20910" y="13851"/>
                  <a:pt x="20861" y="13940"/>
                </a:cubicBezTo>
                <a:cubicBezTo>
                  <a:pt x="20836" y="13965"/>
                  <a:pt x="20811" y="13990"/>
                  <a:pt x="20786" y="14015"/>
                </a:cubicBezTo>
              </a:path>
              <a:path w="18506" h="3226">
                <a:moveTo>
                  <a:pt x="17934" y="13816"/>
                </a:moveTo>
                <a:cubicBezTo>
                  <a:pt x="18044" y="13908"/>
                  <a:pt x="18079" y="14051"/>
                  <a:pt x="17983" y="14188"/>
                </a:cubicBezTo>
                <a:cubicBezTo>
                  <a:pt x="17958" y="14205"/>
                  <a:pt x="17934" y="14221"/>
                  <a:pt x="17909" y="14238"/>
                </a:cubicBezTo>
              </a:path>
              <a:path w="18506" h="3226">
                <a:moveTo>
                  <a:pt x="19298" y="14039"/>
                </a:moveTo>
                <a:cubicBezTo>
                  <a:pt x="19277" y="14123"/>
                  <a:pt x="19276" y="14143"/>
                  <a:pt x="19248" y="14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73800" y="4572000"/>
            <a:ext cx="2822400" cy="588960"/>
          </a:xfrm>
          <a:custGeom>
            <a:avLst/>
            <a:gdLst/>
            <a:ahLst/>
            <a:rect l="l" t="t" r="r" b="b"/>
            <a:pathLst>
              <a:path w="7840" h="1638">
                <a:moveTo>
                  <a:pt x="15329" y="14015"/>
                </a:moveTo>
                <a:cubicBezTo>
                  <a:pt x="15329" y="14112"/>
                  <a:pt x="15352" y="14230"/>
                  <a:pt x="15280" y="14312"/>
                </a:cubicBezTo>
                <a:cubicBezTo>
                  <a:pt x="15255" y="14320"/>
                  <a:pt x="15230" y="14329"/>
                  <a:pt x="15205" y="14337"/>
                </a:cubicBezTo>
              </a:path>
              <a:path w="7840" h="1638">
                <a:moveTo>
                  <a:pt x="15429" y="13320"/>
                </a:moveTo>
                <a:cubicBezTo>
                  <a:pt x="15429" y="13266"/>
                  <a:pt x="15442" y="13245"/>
                  <a:pt x="15453" y="13221"/>
                </a:cubicBezTo>
                <a:cubicBezTo>
                  <a:pt x="15474" y="13178"/>
                  <a:pt x="15467" y="13145"/>
                  <a:pt x="15503" y="13097"/>
                </a:cubicBezTo>
                <a:cubicBezTo>
                  <a:pt x="15541" y="13047"/>
                  <a:pt x="15590" y="13034"/>
                  <a:pt x="15652" y="13022"/>
                </a:cubicBezTo>
                <a:cubicBezTo>
                  <a:pt x="15745" y="13003"/>
                  <a:pt x="15806" y="13043"/>
                  <a:pt x="15850" y="13122"/>
                </a:cubicBezTo>
                <a:cubicBezTo>
                  <a:pt x="15908" y="13225"/>
                  <a:pt x="15828" y="13355"/>
                  <a:pt x="15776" y="13444"/>
                </a:cubicBezTo>
                <a:cubicBezTo>
                  <a:pt x="15697" y="13580"/>
                  <a:pt x="15694" y="13676"/>
                  <a:pt x="15652" y="13816"/>
                </a:cubicBezTo>
                <a:cubicBezTo>
                  <a:pt x="15652" y="13854"/>
                  <a:pt x="15663" y="13737"/>
                  <a:pt x="15701" y="13692"/>
                </a:cubicBezTo>
                <a:cubicBezTo>
                  <a:pt x="15763" y="13619"/>
                  <a:pt x="15834" y="13596"/>
                  <a:pt x="15900" y="13692"/>
                </a:cubicBezTo>
                <a:cubicBezTo>
                  <a:pt x="15929" y="13734"/>
                  <a:pt x="15925" y="13771"/>
                  <a:pt x="15925" y="13816"/>
                </a:cubicBezTo>
                <a:cubicBezTo>
                  <a:pt x="16023" y="13777"/>
                  <a:pt x="16047" y="13768"/>
                  <a:pt x="16123" y="13692"/>
                </a:cubicBezTo>
              </a:path>
              <a:path w="7840" h="1638">
                <a:moveTo>
                  <a:pt x="22076" y="13072"/>
                </a:moveTo>
                <a:cubicBezTo>
                  <a:pt x="22076" y="13199"/>
                  <a:pt x="22089" y="13319"/>
                  <a:pt x="22101" y="13444"/>
                </a:cubicBezTo>
                <a:cubicBezTo>
                  <a:pt x="22101" y="13461"/>
                  <a:pt x="22101" y="13477"/>
                  <a:pt x="22101" y="13494"/>
                </a:cubicBezTo>
              </a:path>
              <a:path w="7840" h="1638">
                <a:moveTo>
                  <a:pt x="22250" y="13022"/>
                </a:moveTo>
                <a:cubicBezTo>
                  <a:pt x="22167" y="13105"/>
                  <a:pt x="22064" y="13300"/>
                  <a:pt x="22225" y="13395"/>
                </a:cubicBezTo>
                <a:cubicBezTo>
                  <a:pt x="22388" y="13491"/>
                  <a:pt x="22539" y="13229"/>
                  <a:pt x="22473" y="13097"/>
                </a:cubicBezTo>
                <a:cubicBezTo>
                  <a:pt x="22412" y="12974"/>
                  <a:pt x="22301" y="13006"/>
                  <a:pt x="22200" y="13022"/>
                </a:cubicBezTo>
              </a:path>
              <a:path w="7840" h="1638">
                <a:moveTo>
                  <a:pt x="22647" y="13022"/>
                </a:moveTo>
                <a:cubicBezTo>
                  <a:pt x="22525" y="13168"/>
                  <a:pt x="22518" y="13253"/>
                  <a:pt x="22647" y="13395"/>
                </a:cubicBezTo>
                <a:cubicBezTo>
                  <a:pt x="22811" y="13327"/>
                  <a:pt x="22905" y="13212"/>
                  <a:pt x="22721" y="13047"/>
                </a:cubicBezTo>
                <a:cubicBezTo>
                  <a:pt x="22605" y="12943"/>
                  <a:pt x="22573" y="13013"/>
                  <a:pt x="22523" y="13097"/>
                </a:cubicBezTo>
              </a:path>
              <a:path w="7840" h="1638">
                <a:moveTo>
                  <a:pt x="23044" y="13643"/>
                </a:moveTo>
                <a:cubicBezTo>
                  <a:pt x="23044" y="13717"/>
                  <a:pt x="23044" y="13792"/>
                  <a:pt x="23044" y="13866"/>
                </a:cubicBezTo>
              </a:path>
              <a:path w="7840" h="1638">
                <a:moveTo>
                  <a:pt x="16520" y="13146"/>
                </a:moveTo>
                <a:cubicBezTo>
                  <a:pt x="16497" y="13260"/>
                  <a:pt x="16449" y="13377"/>
                  <a:pt x="16421" y="13494"/>
                </a:cubicBezTo>
                <a:cubicBezTo>
                  <a:pt x="16514" y="13475"/>
                  <a:pt x="16569" y="13430"/>
                  <a:pt x="16669" y="13469"/>
                </a:cubicBezTo>
                <a:cubicBezTo>
                  <a:pt x="16797" y="13519"/>
                  <a:pt x="16764" y="13541"/>
                  <a:pt x="16818" y="13370"/>
                </a:cubicBezTo>
              </a:path>
              <a:path w="7840" h="1638">
                <a:moveTo>
                  <a:pt x="16718" y="13097"/>
                </a:moveTo>
                <a:cubicBezTo>
                  <a:pt x="16718" y="13370"/>
                  <a:pt x="16718" y="13642"/>
                  <a:pt x="16718" y="13915"/>
                </a:cubicBezTo>
              </a:path>
              <a:path w="7840" h="1638">
                <a:moveTo>
                  <a:pt x="16793" y="12849"/>
                </a:moveTo>
                <a:cubicBezTo>
                  <a:pt x="16801" y="12849"/>
                  <a:pt x="16987" y="12834"/>
                  <a:pt x="17041" y="12824"/>
                </a:cubicBezTo>
                <a:cubicBezTo>
                  <a:pt x="17122" y="12809"/>
                  <a:pt x="17218" y="12777"/>
                  <a:pt x="17314" y="12774"/>
                </a:cubicBezTo>
                <a:cubicBezTo>
                  <a:pt x="17425" y="12771"/>
                  <a:pt x="17524" y="12753"/>
                  <a:pt x="17636" y="12750"/>
                </a:cubicBezTo>
                <a:cubicBezTo>
                  <a:pt x="17829" y="12744"/>
                  <a:pt x="18017" y="12744"/>
                  <a:pt x="18207" y="12725"/>
                </a:cubicBezTo>
                <a:cubicBezTo>
                  <a:pt x="18330" y="12713"/>
                  <a:pt x="18459" y="12711"/>
                  <a:pt x="18579" y="12700"/>
                </a:cubicBezTo>
                <a:cubicBezTo>
                  <a:pt x="18840" y="12676"/>
                  <a:pt x="19115" y="12703"/>
                  <a:pt x="19372" y="12725"/>
                </a:cubicBezTo>
                <a:cubicBezTo>
                  <a:pt x="19495" y="12735"/>
                  <a:pt x="19623" y="12741"/>
                  <a:pt x="19745" y="12750"/>
                </a:cubicBezTo>
                <a:cubicBezTo>
                  <a:pt x="19890" y="12761"/>
                  <a:pt x="20047" y="12753"/>
                  <a:pt x="20191" y="12774"/>
                </a:cubicBezTo>
                <a:cubicBezTo>
                  <a:pt x="20324" y="12794"/>
                  <a:pt x="20449" y="12814"/>
                  <a:pt x="20588" y="12799"/>
                </a:cubicBezTo>
                <a:cubicBezTo>
                  <a:pt x="20707" y="12786"/>
                  <a:pt x="20791" y="12795"/>
                  <a:pt x="20910" y="12799"/>
                </a:cubicBezTo>
                <a:cubicBezTo>
                  <a:pt x="20975" y="12801"/>
                  <a:pt x="21055" y="12816"/>
                  <a:pt x="21084" y="12824"/>
                </a:cubicBezTo>
              </a:path>
              <a:path w="7840" h="1638">
                <a:moveTo>
                  <a:pt x="20985" y="13072"/>
                </a:moveTo>
                <a:cubicBezTo>
                  <a:pt x="20975" y="13133"/>
                  <a:pt x="20947" y="13188"/>
                  <a:pt x="20935" y="13246"/>
                </a:cubicBezTo>
                <a:cubicBezTo>
                  <a:pt x="21014" y="13246"/>
                  <a:pt x="21159" y="13237"/>
                  <a:pt x="21208" y="13320"/>
                </a:cubicBezTo>
                <a:cubicBezTo>
                  <a:pt x="21300" y="13476"/>
                  <a:pt x="21017" y="13517"/>
                  <a:pt x="20935" y="13469"/>
                </a:cubicBezTo>
                <a:cubicBezTo>
                  <a:pt x="20919" y="13444"/>
                  <a:pt x="20902" y="13420"/>
                  <a:pt x="20886" y="13395"/>
                </a:cubicBezTo>
              </a:path>
              <a:path w="7840" h="1638">
                <a:moveTo>
                  <a:pt x="21010" y="13047"/>
                </a:moveTo>
                <a:cubicBezTo>
                  <a:pt x="21110" y="13040"/>
                  <a:pt x="21206" y="13022"/>
                  <a:pt x="21307" y="13022"/>
                </a:cubicBezTo>
              </a:path>
              <a:path w="7840" h="1638">
                <a:moveTo>
                  <a:pt x="21357" y="13097"/>
                </a:moveTo>
                <a:cubicBezTo>
                  <a:pt x="21260" y="13073"/>
                  <a:pt x="21130" y="13172"/>
                  <a:pt x="21134" y="13295"/>
                </a:cubicBezTo>
                <a:cubicBezTo>
                  <a:pt x="21150" y="13320"/>
                  <a:pt x="21167" y="13345"/>
                  <a:pt x="21183" y="13370"/>
                </a:cubicBezTo>
                <a:cubicBezTo>
                  <a:pt x="21328" y="13415"/>
                  <a:pt x="21530" y="13399"/>
                  <a:pt x="21530" y="13171"/>
                </a:cubicBezTo>
                <a:cubicBezTo>
                  <a:pt x="21530" y="13000"/>
                  <a:pt x="21396" y="13012"/>
                  <a:pt x="21282" y="12998"/>
                </a:cubicBezTo>
              </a:path>
              <a:path w="7840" h="1638">
                <a:moveTo>
                  <a:pt x="17066" y="13990"/>
                </a:moveTo>
                <a:cubicBezTo>
                  <a:pt x="17083" y="14052"/>
                  <a:pt x="17076" y="14199"/>
                  <a:pt x="17016" y="14263"/>
                </a:cubicBezTo>
                <a:cubicBezTo>
                  <a:pt x="16999" y="14271"/>
                  <a:pt x="16983" y="14280"/>
                  <a:pt x="16966" y="14288"/>
                </a:cubicBezTo>
              </a:path>
              <a:path w="7840" h="1638">
                <a:moveTo>
                  <a:pt x="17512" y="13196"/>
                </a:moveTo>
                <a:cubicBezTo>
                  <a:pt x="17577" y="13163"/>
                  <a:pt x="17411" y="13195"/>
                  <a:pt x="17388" y="13196"/>
                </a:cubicBezTo>
                <a:cubicBezTo>
                  <a:pt x="17323" y="13200"/>
                  <a:pt x="17323" y="13337"/>
                  <a:pt x="17314" y="13395"/>
                </a:cubicBezTo>
                <a:cubicBezTo>
                  <a:pt x="17392" y="13395"/>
                  <a:pt x="17456" y="13349"/>
                  <a:pt x="17537" y="13370"/>
                </a:cubicBezTo>
                <a:cubicBezTo>
                  <a:pt x="17691" y="13409"/>
                  <a:pt x="17769" y="13611"/>
                  <a:pt x="17587" y="13692"/>
                </a:cubicBezTo>
                <a:cubicBezTo>
                  <a:pt x="17423" y="13716"/>
                  <a:pt x="17374" y="13729"/>
                  <a:pt x="17289" y="13643"/>
                </a:cubicBezTo>
              </a:path>
              <a:path w="7840" h="1638">
                <a:moveTo>
                  <a:pt x="20117" y="13171"/>
                </a:moveTo>
                <a:cubicBezTo>
                  <a:pt x="20073" y="13171"/>
                  <a:pt x="20077" y="13172"/>
                  <a:pt x="20042" y="13146"/>
                </a:cubicBezTo>
                <a:cubicBezTo>
                  <a:pt x="20015" y="13229"/>
                  <a:pt x="19959" y="13313"/>
                  <a:pt x="19918" y="13395"/>
                </a:cubicBezTo>
                <a:cubicBezTo>
                  <a:pt x="20020" y="13380"/>
                  <a:pt x="20120" y="13355"/>
                  <a:pt x="20216" y="13320"/>
                </a:cubicBezTo>
              </a:path>
              <a:path w="7840" h="1638">
                <a:moveTo>
                  <a:pt x="20241" y="13047"/>
                </a:moveTo>
                <a:cubicBezTo>
                  <a:pt x="20225" y="13224"/>
                  <a:pt x="20166" y="13392"/>
                  <a:pt x="20141" y="13568"/>
                </a:cubicBezTo>
                <a:cubicBezTo>
                  <a:pt x="20141" y="13610"/>
                  <a:pt x="20133" y="13626"/>
                  <a:pt x="20166" y="13618"/>
                </a:cubicBezTo>
              </a:path>
              <a:path w="7840" h="1638">
                <a:moveTo>
                  <a:pt x="20389" y="13146"/>
                </a:moveTo>
                <a:cubicBezTo>
                  <a:pt x="20263" y="13289"/>
                  <a:pt x="20268" y="13415"/>
                  <a:pt x="20315" y="13593"/>
                </a:cubicBezTo>
                <a:cubicBezTo>
                  <a:pt x="20503" y="13553"/>
                  <a:pt x="20654" y="13425"/>
                  <a:pt x="20588" y="13196"/>
                </a:cubicBezTo>
                <a:cubicBezTo>
                  <a:pt x="20502" y="13112"/>
                  <a:pt x="20463" y="13089"/>
                  <a:pt x="20365" y="13146"/>
                </a:cubicBezTo>
              </a:path>
              <a:path w="7840" h="1638">
                <a:moveTo>
                  <a:pt x="17785" y="13246"/>
                </a:moveTo>
                <a:cubicBezTo>
                  <a:pt x="17839" y="13173"/>
                  <a:pt x="17782" y="13207"/>
                  <a:pt x="17884" y="13146"/>
                </a:cubicBezTo>
                <a:cubicBezTo>
                  <a:pt x="18000" y="13077"/>
                  <a:pt x="18150" y="13034"/>
                  <a:pt x="18281" y="12998"/>
                </a:cubicBezTo>
                <a:cubicBezTo>
                  <a:pt x="18433" y="12957"/>
                  <a:pt x="18596" y="12957"/>
                  <a:pt x="18752" y="12923"/>
                </a:cubicBezTo>
                <a:cubicBezTo>
                  <a:pt x="18871" y="12897"/>
                  <a:pt x="18979" y="12898"/>
                  <a:pt x="19100" y="12898"/>
                </a:cubicBezTo>
                <a:cubicBezTo>
                  <a:pt x="19263" y="12898"/>
                  <a:pt x="19414" y="12902"/>
                  <a:pt x="19571" y="12923"/>
                </a:cubicBezTo>
                <a:cubicBezTo>
                  <a:pt x="19629" y="12931"/>
                  <a:pt x="19673" y="12962"/>
                  <a:pt x="19720" y="12973"/>
                </a:cubicBezTo>
                <a:cubicBezTo>
                  <a:pt x="19751" y="12980"/>
                  <a:pt x="19815" y="12997"/>
                  <a:pt x="19819" y="12998"/>
                </a:cubicBezTo>
                <a:cubicBezTo>
                  <a:pt x="19827" y="12998"/>
                  <a:pt x="19836" y="12998"/>
                  <a:pt x="19844" y="12998"/>
                </a:cubicBezTo>
              </a:path>
              <a:path w="7840" h="1638">
                <a:moveTo>
                  <a:pt x="18331" y="13345"/>
                </a:moveTo>
                <a:cubicBezTo>
                  <a:pt x="18323" y="13369"/>
                  <a:pt x="18264" y="13421"/>
                  <a:pt x="18231" y="13444"/>
                </a:cubicBezTo>
                <a:cubicBezTo>
                  <a:pt x="18189" y="13474"/>
                  <a:pt x="18121" y="13497"/>
                  <a:pt x="18157" y="13568"/>
                </a:cubicBezTo>
                <a:cubicBezTo>
                  <a:pt x="18201" y="13655"/>
                  <a:pt x="18362" y="13649"/>
                  <a:pt x="18430" y="13717"/>
                </a:cubicBezTo>
                <a:cubicBezTo>
                  <a:pt x="18489" y="13776"/>
                  <a:pt x="18452" y="13870"/>
                  <a:pt x="18380" y="13891"/>
                </a:cubicBezTo>
                <a:cubicBezTo>
                  <a:pt x="18331" y="13891"/>
                  <a:pt x="18314" y="13891"/>
                  <a:pt x="18281" y="13891"/>
                </a:cubicBezTo>
                <a:cubicBezTo>
                  <a:pt x="18281" y="13800"/>
                  <a:pt x="18296" y="13729"/>
                  <a:pt x="18331" y="13643"/>
                </a:cubicBezTo>
                <a:cubicBezTo>
                  <a:pt x="18361" y="13569"/>
                  <a:pt x="18387" y="13494"/>
                  <a:pt x="18405" y="13419"/>
                </a:cubicBezTo>
                <a:cubicBezTo>
                  <a:pt x="18411" y="13392"/>
                  <a:pt x="18377" y="13387"/>
                  <a:pt x="18355" y="13370"/>
                </a:cubicBezTo>
              </a:path>
              <a:path w="7840" h="1638">
                <a:moveTo>
                  <a:pt x="18504" y="13246"/>
                </a:moveTo>
                <a:cubicBezTo>
                  <a:pt x="18562" y="13174"/>
                  <a:pt x="18574" y="13180"/>
                  <a:pt x="18653" y="13122"/>
                </a:cubicBezTo>
                <a:cubicBezTo>
                  <a:pt x="18699" y="13088"/>
                  <a:pt x="18724" y="13068"/>
                  <a:pt x="18777" y="13047"/>
                </a:cubicBezTo>
                <a:cubicBezTo>
                  <a:pt x="18833" y="13025"/>
                  <a:pt x="18865" y="12998"/>
                  <a:pt x="18926" y="12998"/>
                </a:cubicBezTo>
                <a:cubicBezTo>
                  <a:pt x="18982" y="12998"/>
                  <a:pt x="18995" y="12973"/>
                  <a:pt x="19050" y="12973"/>
                </a:cubicBezTo>
                <a:cubicBezTo>
                  <a:pt x="19095" y="12973"/>
                  <a:pt x="19127" y="12998"/>
                  <a:pt x="19174" y="12998"/>
                </a:cubicBezTo>
                <a:cubicBezTo>
                  <a:pt x="19203" y="12998"/>
                  <a:pt x="19268" y="13012"/>
                  <a:pt x="19298" y="13022"/>
                </a:cubicBezTo>
                <a:cubicBezTo>
                  <a:pt x="19364" y="13044"/>
                  <a:pt x="19407" y="13075"/>
                  <a:pt x="19472" y="13097"/>
                </a:cubicBezTo>
                <a:cubicBezTo>
                  <a:pt x="19502" y="13107"/>
                  <a:pt x="19542" y="13119"/>
                  <a:pt x="19571" y="13122"/>
                </a:cubicBezTo>
                <a:cubicBezTo>
                  <a:pt x="19623" y="13128"/>
                  <a:pt x="19654" y="13157"/>
                  <a:pt x="19695" y="13171"/>
                </a:cubicBezTo>
                <a:cubicBezTo>
                  <a:pt x="19735" y="13184"/>
                  <a:pt x="19705" y="13183"/>
                  <a:pt x="19745" y="13196"/>
                </a:cubicBezTo>
              </a:path>
              <a:path w="7840" h="1638">
                <a:moveTo>
                  <a:pt x="19397" y="13419"/>
                </a:moveTo>
                <a:cubicBezTo>
                  <a:pt x="19389" y="13427"/>
                  <a:pt x="19380" y="13436"/>
                  <a:pt x="19372" y="13444"/>
                </a:cubicBezTo>
                <a:cubicBezTo>
                  <a:pt x="19392" y="13415"/>
                  <a:pt x="19471" y="13333"/>
                  <a:pt x="19496" y="13444"/>
                </a:cubicBezTo>
                <a:cubicBezTo>
                  <a:pt x="19533" y="13610"/>
                  <a:pt x="19475" y="13737"/>
                  <a:pt x="19348" y="13841"/>
                </a:cubicBezTo>
                <a:cubicBezTo>
                  <a:pt x="19331" y="13849"/>
                  <a:pt x="19315" y="13858"/>
                  <a:pt x="19298" y="13866"/>
                </a:cubicBezTo>
                <a:cubicBezTo>
                  <a:pt x="19298" y="13803"/>
                  <a:pt x="19293" y="13735"/>
                  <a:pt x="19372" y="13717"/>
                </a:cubicBezTo>
                <a:cubicBezTo>
                  <a:pt x="19443" y="13701"/>
                  <a:pt x="19492" y="13731"/>
                  <a:pt x="19546" y="13767"/>
                </a:cubicBezTo>
              </a:path>
              <a:path w="7840" h="1638">
                <a:moveTo>
                  <a:pt x="19745" y="13345"/>
                </a:moveTo>
                <a:cubicBezTo>
                  <a:pt x="19717" y="13373"/>
                  <a:pt x="19703" y="13382"/>
                  <a:pt x="19670" y="13370"/>
                </a:cubicBezTo>
                <a:cubicBezTo>
                  <a:pt x="19670" y="13428"/>
                  <a:pt x="19670" y="13485"/>
                  <a:pt x="19670" y="13543"/>
                </a:cubicBezTo>
                <a:cubicBezTo>
                  <a:pt x="19744" y="13471"/>
                  <a:pt x="19750" y="13494"/>
                  <a:pt x="19844" y="13543"/>
                </a:cubicBezTo>
                <a:cubicBezTo>
                  <a:pt x="19957" y="13602"/>
                  <a:pt x="19870" y="13711"/>
                  <a:pt x="19794" y="13767"/>
                </a:cubicBezTo>
                <a:cubicBezTo>
                  <a:pt x="19754" y="13787"/>
                  <a:pt x="19747" y="13795"/>
                  <a:pt x="19720" y="13791"/>
                </a:cubicBezTo>
              </a:path>
              <a:path w="7840" h="1638">
                <a:moveTo>
                  <a:pt x="18579" y="13915"/>
                </a:moveTo>
                <a:cubicBezTo>
                  <a:pt x="18579" y="14024"/>
                  <a:pt x="18599" y="14118"/>
                  <a:pt x="18529" y="14213"/>
                </a:cubicBezTo>
                <a:cubicBezTo>
                  <a:pt x="18512" y="14221"/>
                  <a:pt x="18496" y="14230"/>
                  <a:pt x="18479" y="14238"/>
                </a:cubicBezTo>
              </a:path>
              <a:path w="7840" h="1638">
                <a:moveTo>
                  <a:pt x="18653" y="13419"/>
                </a:moveTo>
                <a:cubicBezTo>
                  <a:pt x="18671" y="13538"/>
                  <a:pt x="18678" y="13646"/>
                  <a:pt x="18678" y="13767"/>
                </a:cubicBezTo>
              </a:path>
              <a:path w="7840" h="1638">
                <a:moveTo>
                  <a:pt x="18752" y="13419"/>
                </a:moveTo>
                <a:cubicBezTo>
                  <a:pt x="18752" y="13506"/>
                  <a:pt x="18751" y="13582"/>
                  <a:pt x="18777" y="13667"/>
                </a:cubicBezTo>
                <a:cubicBezTo>
                  <a:pt x="18785" y="13684"/>
                  <a:pt x="18794" y="13700"/>
                  <a:pt x="18802" y="13717"/>
                </a:cubicBezTo>
                <a:cubicBezTo>
                  <a:pt x="18865" y="13690"/>
                  <a:pt x="18911" y="13643"/>
                  <a:pt x="18852" y="13568"/>
                </a:cubicBezTo>
                <a:cubicBezTo>
                  <a:pt x="18827" y="13537"/>
                  <a:pt x="18811" y="13527"/>
                  <a:pt x="18777" y="13519"/>
                </a:cubicBezTo>
              </a:path>
              <a:path w="7840" h="1638">
                <a:moveTo>
                  <a:pt x="18827" y="13320"/>
                </a:moveTo>
                <a:cubicBezTo>
                  <a:pt x="18923" y="13253"/>
                  <a:pt x="18933" y="13246"/>
                  <a:pt x="19050" y="13246"/>
                </a:cubicBezTo>
                <a:cubicBezTo>
                  <a:pt x="19083" y="13246"/>
                  <a:pt x="19116" y="13246"/>
                  <a:pt x="19149" y="13246"/>
                </a:cubicBezTo>
              </a:path>
              <a:path w="7840" h="1638">
                <a:moveTo>
                  <a:pt x="19149" y="13469"/>
                </a:moveTo>
                <a:cubicBezTo>
                  <a:pt x="19126" y="13446"/>
                  <a:pt x="19118" y="13442"/>
                  <a:pt x="19124" y="13419"/>
                </a:cubicBezTo>
                <a:cubicBezTo>
                  <a:pt x="19172" y="13435"/>
                  <a:pt x="19189" y="13501"/>
                  <a:pt x="19174" y="13568"/>
                </a:cubicBezTo>
                <a:cubicBezTo>
                  <a:pt x="19163" y="13615"/>
                  <a:pt x="19087" y="13618"/>
                  <a:pt x="19050" y="13618"/>
                </a:cubicBezTo>
                <a:cubicBezTo>
                  <a:pt x="19033" y="13618"/>
                  <a:pt x="19017" y="13618"/>
                  <a:pt x="19000" y="13618"/>
                </a:cubicBezTo>
                <a:cubicBezTo>
                  <a:pt x="19038" y="13589"/>
                  <a:pt x="19051" y="13593"/>
                  <a:pt x="19100" y="13593"/>
                </a:cubicBezTo>
              </a:path>
              <a:path w="7840" h="1638">
                <a:moveTo>
                  <a:pt x="19224" y="13395"/>
                </a:moveTo>
                <a:cubicBezTo>
                  <a:pt x="19224" y="13453"/>
                  <a:pt x="19179" y="13491"/>
                  <a:pt x="19224" y="13543"/>
                </a:cubicBezTo>
                <a:cubicBezTo>
                  <a:pt x="19259" y="13543"/>
                  <a:pt x="19276" y="13548"/>
                  <a:pt x="19298" y="13568"/>
                </a:cubicBezTo>
                <a:cubicBezTo>
                  <a:pt x="19337" y="13490"/>
                  <a:pt x="19383" y="13425"/>
                  <a:pt x="19298" y="13370"/>
                </a:cubicBezTo>
                <a:cubicBezTo>
                  <a:pt x="19273" y="13370"/>
                  <a:pt x="19265" y="13370"/>
                  <a:pt x="19248" y="13370"/>
                </a:cubicBezTo>
              </a:path>
              <a:path w="7840" h="1638">
                <a:moveTo>
                  <a:pt x="18951" y="13866"/>
                </a:moveTo>
                <a:cubicBezTo>
                  <a:pt x="18951" y="13919"/>
                  <a:pt x="18945" y="13929"/>
                  <a:pt x="18926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33640" y="6010200"/>
            <a:ext cx="18720" cy="133560"/>
          </a:xfrm>
          <a:custGeom>
            <a:avLst/>
            <a:gdLst/>
            <a:ahLst/>
            <a:rect l="l" t="t" r="r" b="b"/>
            <a:pathLst>
              <a:path w="51" h="373">
                <a:moveTo>
                  <a:pt x="3150" y="16694"/>
                </a:moveTo>
                <a:cubicBezTo>
                  <a:pt x="3155" y="16835"/>
                  <a:pt x="3156" y="16934"/>
                  <a:pt x="3200" y="170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68280" y="3562200"/>
            <a:ext cx="1177920" cy="312840"/>
          </a:xfrm>
          <a:custGeom>
            <a:avLst/>
            <a:gdLst/>
            <a:ahLst/>
            <a:rect l="l" t="t" r="r" b="b"/>
            <a:pathLst>
              <a:path w="3275" h="869">
                <a:moveTo>
                  <a:pt x="3547" y="10517"/>
                </a:moveTo>
                <a:cubicBezTo>
                  <a:pt x="3525" y="10624"/>
                  <a:pt x="3517" y="10648"/>
                  <a:pt x="3522" y="10716"/>
                </a:cubicBezTo>
              </a:path>
              <a:path w="3275" h="869">
                <a:moveTo>
                  <a:pt x="3522" y="10716"/>
                </a:moveTo>
                <a:lnTo>
                  <a:pt x="3522" y="10716"/>
                </a:lnTo>
              </a:path>
              <a:path w="3275" h="869">
                <a:moveTo>
                  <a:pt x="4390" y="10616"/>
                </a:moveTo>
                <a:cubicBezTo>
                  <a:pt x="4390" y="10624"/>
                  <a:pt x="4390" y="10633"/>
                  <a:pt x="4390" y="10641"/>
                </a:cubicBezTo>
              </a:path>
              <a:path w="3275" h="869">
                <a:moveTo>
                  <a:pt x="4390" y="10641"/>
                </a:moveTo>
                <a:lnTo>
                  <a:pt x="4390" y="10641"/>
                </a:lnTo>
              </a:path>
              <a:path w="3275" h="869">
                <a:moveTo>
                  <a:pt x="5755" y="9897"/>
                </a:moveTo>
                <a:cubicBezTo>
                  <a:pt x="5750" y="10039"/>
                  <a:pt x="5747" y="10353"/>
                  <a:pt x="5705" y="10393"/>
                </a:cubicBezTo>
              </a:path>
              <a:path w="3275" h="869">
                <a:moveTo>
                  <a:pt x="6772" y="10616"/>
                </a:moveTo>
                <a:cubicBezTo>
                  <a:pt x="6780" y="10666"/>
                  <a:pt x="6788" y="10715"/>
                  <a:pt x="6796" y="107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8760" y="3259080"/>
            <a:ext cx="2536560" cy="696960"/>
          </a:xfrm>
          <a:custGeom>
            <a:avLst/>
            <a:gdLst/>
            <a:ahLst/>
            <a:rect l="l" t="t" r="r" b="b"/>
            <a:pathLst>
              <a:path w="7045" h="1935">
                <a:moveTo>
                  <a:pt x="1265" y="10468"/>
                </a:moveTo>
                <a:cubicBezTo>
                  <a:pt x="1265" y="10583"/>
                  <a:pt x="1292" y="10732"/>
                  <a:pt x="1240" y="10840"/>
                </a:cubicBezTo>
                <a:cubicBezTo>
                  <a:pt x="1199" y="10881"/>
                  <a:pt x="1175" y="10905"/>
                  <a:pt x="1215" y="10864"/>
                </a:cubicBezTo>
              </a:path>
              <a:path w="7045" h="1935">
                <a:moveTo>
                  <a:pt x="1463" y="9922"/>
                </a:moveTo>
                <a:cubicBezTo>
                  <a:pt x="1667" y="9858"/>
                  <a:pt x="1753" y="9931"/>
                  <a:pt x="1687" y="10170"/>
                </a:cubicBezTo>
                <a:cubicBezTo>
                  <a:pt x="1634" y="10362"/>
                  <a:pt x="1581" y="10382"/>
                  <a:pt x="1414" y="10418"/>
                </a:cubicBezTo>
                <a:cubicBezTo>
                  <a:pt x="1398" y="10229"/>
                  <a:pt x="1483" y="10247"/>
                  <a:pt x="1637" y="10344"/>
                </a:cubicBezTo>
                <a:cubicBezTo>
                  <a:pt x="1724" y="10409"/>
                  <a:pt x="1752" y="10419"/>
                  <a:pt x="1761" y="10492"/>
                </a:cubicBezTo>
              </a:path>
              <a:path w="7045" h="1935">
                <a:moveTo>
                  <a:pt x="1984" y="10666"/>
                </a:moveTo>
                <a:cubicBezTo>
                  <a:pt x="1984" y="10757"/>
                  <a:pt x="1984" y="10765"/>
                  <a:pt x="1984" y="10815"/>
                </a:cubicBezTo>
              </a:path>
              <a:path w="7045" h="1935">
                <a:moveTo>
                  <a:pt x="2133" y="10071"/>
                </a:moveTo>
                <a:cubicBezTo>
                  <a:pt x="2195" y="10064"/>
                  <a:pt x="2483" y="10010"/>
                  <a:pt x="2381" y="10170"/>
                </a:cubicBezTo>
                <a:cubicBezTo>
                  <a:pt x="2356" y="10195"/>
                  <a:pt x="2332" y="10219"/>
                  <a:pt x="2307" y="10244"/>
                </a:cubicBezTo>
                <a:cubicBezTo>
                  <a:pt x="2400" y="10244"/>
                  <a:pt x="2506" y="10275"/>
                  <a:pt x="2480" y="10393"/>
                </a:cubicBezTo>
                <a:cubicBezTo>
                  <a:pt x="2446" y="10550"/>
                  <a:pt x="2244" y="10486"/>
                  <a:pt x="2158" y="10443"/>
                </a:cubicBezTo>
              </a:path>
              <a:path w="7045" h="1935">
                <a:moveTo>
                  <a:pt x="2753" y="10567"/>
                </a:moveTo>
                <a:cubicBezTo>
                  <a:pt x="2753" y="10650"/>
                  <a:pt x="2753" y="10666"/>
                  <a:pt x="2753" y="10716"/>
                </a:cubicBezTo>
              </a:path>
              <a:path w="7045" h="1935">
                <a:moveTo>
                  <a:pt x="2927" y="9996"/>
                </a:moveTo>
                <a:cubicBezTo>
                  <a:pt x="2937" y="10045"/>
                  <a:pt x="2932" y="10161"/>
                  <a:pt x="2952" y="10195"/>
                </a:cubicBezTo>
                <a:cubicBezTo>
                  <a:pt x="3053" y="10368"/>
                  <a:pt x="3251" y="10169"/>
                  <a:pt x="3324" y="10096"/>
                </a:cubicBezTo>
              </a:path>
              <a:path w="7045" h="1935">
                <a:moveTo>
                  <a:pt x="3175" y="9823"/>
                </a:moveTo>
                <a:cubicBezTo>
                  <a:pt x="3202" y="10044"/>
                  <a:pt x="3238" y="10297"/>
                  <a:pt x="3175" y="10517"/>
                </a:cubicBezTo>
                <a:cubicBezTo>
                  <a:pt x="3167" y="10525"/>
                  <a:pt x="3158" y="10534"/>
                  <a:pt x="3150" y="10542"/>
                </a:cubicBezTo>
              </a:path>
              <a:path w="7045" h="1935">
                <a:moveTo>
                  <a:pt x="3919" y="9872"/>
                </a:moveTo>
                <a:cubicBezTo>
                  <a:pt x="3880" y="10105"/>
                  <a:pt x="3840" y="10250"/>
                  <a:pt x="3969" y="10443"/>
                </a:cubicBezTo>
                <a:cubicBezTo>
                  <a:pt x="4134" y="10349"/>
                  <a:pt x="4143" y="10355"/>
                  <a:pt x="4217" y="10170"/>
                </a:cubicBezTo>
                <a:cubicBezTo>
                  <a:pt x="4078" y="10249"/>
                  <a:pt x="3978" y="10302"/>
                  <a:pt x="4018" y="10468"/>
                </a:cubicBezTo>
              </a:path>
              <a:path w="7045" h="1935">
                <a:moveTo>
                  <a:pt x="4961" y="9823"/>
                </a:moveTo>
                <a:cubicBezTo>
                  <a:pt x="4834" y="9877"/>
                  <a:pt x="4781" y="9922"/>
                  <a:pt x="4688" y="10021"/>
                </a:cubicBezTo>
                <a:cubicBezTo>
                  <a:pt x="4790" y="10184"/>
                  <a:pt x="4953" y="10232"/>
                  <a:pt x="5011" y="10418"/>
                </a:cubicBezTo>
                <a:cubicBezTo>
                  <a:pt x="4769" y="10418"/>
                  <a:pt x="4812" y="10240"/>
                  <a:pt x="4911" y="10046"/>
                </a:cubicBezTo>
                <a:cubicBezTo>
                  <a:pt x="4944" y="9982"/>
                  <a:pt x="5013" y="9905"/>
                  <a:pt x="4986" y="9971"/>
                </a:cubicBezTo>
              </a:path>
              <a:path w="7045" h="1935">
                <a:moveTo>
                  <a:pt x="5184" y="10468"/>
                </a:moveTo>
                <a:cubicBezTo>
                  <a:pt x="5184" y="10590"/>
                  <a:pt x="5207" y="10728"/>
                  <a:pt x="5159" y="10840"/>
                </a:cubicBezTo>
                <a:cubicBezTo>
                  <a:pt x="5159" y="10832"/>
                  <a:pt x="5159" y="10823"/>
                  <a:pt x="5159" y="10815"/>
                </a:cubicBezTo>
              </a:path>
              <a:path w="7045" h="1935">
                <a:moveTo>
                  <a:pt x="6176" y="9872"/>
                </a:moveTo>
                <a:cubicBezTo>
                  <a:pt x="6344" y="10026"/>
                  <a:pt x="6619" y="10333"/>
                  <a:pt x="6201" y="10443"/>
                </a:cubicBezTo>
                <a:cubicBezTo>
                  <a:pt x="6079" y="10422"/>
                  <a:pt x="6048" y="10433"/>
                  <a:pt x="6003" y="10368"/>
                </a:cubicBezTo>
                <a:cubicBezTo>
                  <a:pt x="6158" y="10248"/>
                  <a:pt x="6216" y="10348"/>
                  <a:pt x="6350" y="10468"/>
                </a:cubicBezTo>
                <a:cubicBezTo>
                  <a:pt x="6358" y="10476"/>
                  <a:pt x="6367" y="10484"/>
                  <a:pt x="6375" y="10492"/>
                </a:cubicBezTo>
              </a:path>
              <a:path w="7045" h="1935">
                <a:moveTo>
                  <a:pt x="7218" y="9971"/>
                </a:moveTo>
                <a:cubicBezTo>
                  <a:pt x="7368" y="10063"/>
                  <a:pt x="7664" y="10267"/>
                  <a:pt x="7417" y="10468"/>
                </a:cubicBezTo>
                <a:cubicBezTo>
                  <a:pt x="7261" y="10594"/>
                  <a:pt x="7168" y="10494"/>
                  <a:pt x="7094" y="10393"/>
                </a:cubicBezTo>
                <a:cubicBezTo>
                  <a:pt x="7310" y="10286"/>
                  <a:pt x="7406" y="10407"/>
                  <a:pt x="7640" y="10468"/>
                </a:cubicBezTo>
                <a:cubicBezTo>
                  <a:pt x="7648" y="10468"/>
                  <a:pt x="7657" y="10468"/>
                  <a:pt x="7665" y="10468"/>
                </a:cubicBezTo>
              </a:path>
              <a:path w="7045" h="1935">
                <a:moveTo>
                  <a:pt x="7838" y="9971"/>
                </a:moveTo>
                <a:cubicBezTo>
                  <a:pt x="7855" y="10113"/>
                  <a:pt x="7874" y="10157"/>
                  <a:pt x="7962" y="10269"/>
                </a:cubicBezTo>
                <a:cubicBezTo>
                  <a:pt x="8169" y="10196"/>
                  <a:pt x="8267" y="10035"/>
                  <a:pt x="8210" y="9798"/>
                </a:cubicBezTo>
                <a:cubicBezTo>
                  <a:pt x="8194" y="9773"/>
                  <a:pt x="8177" y="9748"/>
                  <a:pt x="8161" y="9723"/>
                </a:cubicBezTo>
                <a:cubicBezTo>
                  <a:pt x="8161" y="9942"/>
                  <a:pt x="8163" y="10177"/>
                  <a:pt x="8136" y="10393"/>
                </a:cubicBezTo>
                <a:cubicBezTo>
                  <a:pt x="8114" y="10458"/>
                  <a:pt x="8116" y="10483"/>
                  <a:pt x="8062" y="10468"/>
                </a:cubicBezTo>
              </a:path>
              <a:path w="7045" h="1935">
                <a:moveTo>
                  <a:pt x="4415" y="10666"/>
                </a:moveTo>
                <a:cubicBezTo>
                  <a:pt x="4474" y="10686"/>
                  <a:pt x="4479" y="10803"/>
                  <a:pt x="4440" y="10864"/>
                </a:cubicBezTo>
                <a:cubicBezTo>
                  <a:pt x="4346" y="10958"/>
                  <a:pt x="4346" y="11000"/>
                  <a:pt x="4266" y="10988"/>
                </a:cubicBezTo>
              </a:path>
              <a:path w="7045" h="1935">
                <a:moveTo>
                  <a:pt x="1860" y="9798"/>
                </a:moveTo>
                <a:cubicBezTo>
                  <a:pt x="1837" y="9822"/>
                  <a:pt x="1859" y="9799"/>
                  <a:pt x="1836" y="9823"/>
                </a:cubicBezTo>
                <a:cubicBezTo>
                  <a:pt x="1908" y="9746"/>
                  <a:pt x="1921" y="9718"/>
                  <a:pt x="2034" y="9649"/>
                </a:cubicBezTo>
                <a:cubicBezTo>
                  <a:pt x="2131" y="9590"/>
                  <a:pt x="2246" y="9569"/>
                  <a:pt x="2332" y="9525"/>
                </a:cubicBezTo>
                <a:cubicBezTo>
                  <a:pt x="2435" y="9471"/>
                  <a:pt x="2534" y="9417"/>
                  <a:pt x="2654" y="9401"/>
                </a:cubicBezTo>
                <a:cubicBezTo>
                  <a:pt x="2835" y="9377"/>
                  <a:pt x="2968" y="9352"/>
                  <a:pt x="3150" y="9302"/>
                </a:cubicBezTo>
                <a:cubicBezTo>
                  <a:pt x="3390" y="9236"/>
                  <a:pt x="3624" y="9190"/>
                  <a:pt x="3870" y="9153"/>
                </a:cubicBezTo>
                <a:cubicBezTo>
                  <a:pt x="4216" y="9102"/>
                  <a:pt x="4562" y="9059"/>
                  <a:pt x="4911" y="9054"/>
                </a:cubicBezTo>
                <a:cubicBezTo>
                  <a:pt x="5157" y="9051"/>
                  <a:pt x="5414" y="9034"/>
                  <a:pt x="5655" y="9079"/>
                </a:cubicBezTo>
                <a:cubicBezTo>
                  <a:pt x="5883" y="9122"/>
                  <a:pt x="6104" y="9152"/>
                  <a:pt x="6325" y="9227"/>
                </a:cubicBezTo>
                <a:cubicBezTo>
                  <a:pt x="6439" y="9266"/>
                  <a:pt x="6538" y="9298"/>
                  <a:pt x="6598" y="9401"/>
                </a:cubicBezTo>
                <a:cubicBezTo>
                  <a:pt x="6620" y="9439"/>
                  <a:pt x="6609" y="9460"/>
                  <a:pt x="6623" y="9500"/>
                </a:cubicBezTo>
                <a:cubicBezTo>
                  <a:pt x="6501" y="9553"/>
                  <a:pt x="6373" y="9603"/>
                  <a:pt x="6251" y="9649"/>
                </a:cubicBezTo>
              </a:path>
              <a:path w="7045" h="1935">
                <a:moveTo>
                  <a:pt x="2505" y="10195"/>
                </a:moveTo>
                <a:cubicBezTo>
                  <a:pt x="2535" y="10119"/>
                  <a:pt x="2497" y="10145"/>
                  <a:pt x="2604" y="10046"/>
                </a:cubicBezTo>
                <a:cubicBezTo>
                  <a:pt x="2718" y="9940"/>
                  <a:pt x="2855" y="9870"/>
                  <a:pt x="3001" y="9823"/>
                </a:cubicBezTo>
                <a:cubicBezTo>
                  <a:pt x="3202" y="9758"/>
                  <a:pt x="3412" y="9736"/>
                  <a:pt x="3621" y="9723"/>
                </a:cubicBezTo>
                <a:cubicBezTo>
                  <a:pt x="3820" y="9711"/>
                  <a:pt x="4019" y="9713"/>
                  <a:pt x="4217" y="9699"/>
                </a:cubicBezTo>
                <a:cubicBezTo>
                  <a:pt x="4338" y="9690"/>
                  <a:pt x="4412" y="9712"/>
                  <a:pt x="4514" y="9748"/>
                </a:cubicBezTo>
                <a:cubicBezTo>
                  <a:pt x="4626" y="9787"/>
                  <a:pt x="4690" y="9841"/>
                  <a:pt x="4787" y="9897"/>
                </a:cubicBezTo>
                <a:cubicBezTo>
                  <a:pt x="4795" y="9897"/>
                  <a:pt x="4804" y="9897"/>
                  <a:pt x="4812" y="9897"/>
                </a:cubicBezTo>
              </a:path>
              <a:path w="7045" h="1935">
                <a:moveTo>
                  <a:pt x="3349" y="9996"/>
                </a:moveTo>
                <a:cubicBezTo>
                  <a:pt x="3443" y="9972"/>
                  <a:pt x="3538" y="9915"/>
                  <a:pt x="3646" y="9897"/>
                </a:cubicBezTo>
                <a:cubicBezTo>
                  <a:pt x="3740" y="9881"/>
                  <a:pt x="3769" y="9937"/>
                  <a:pt x="3795" y="10021"/>
                </a:cubicBezTo>
                <a:cubicBezTo>
                  <a:pt x="3795" y="10046"/>
                  <a:pt x="3795" y="10054"/>
                  <a:pt x="3795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75080" y="3759120"/>
            <a:ext cx="4483080" cy="1197000"/>
          </a:xfrm>
          <a:custGeom>
            <a:avLst/>
            <a:gdLst/>
            <a:ahLst/>
            <a:rect l="l" t="t" r="r" b="b"/>
            <a:pathLst>
              <a:path w="12453" h="3325">
                <a:moveTo>
                  <a:pt x="12179" y="10492"/>
                </a:moveTo>
                <a:cubicBezTo>
                  <a:pt x="12179" y="10567"/>
                  <a:pt x="12204" y="10600"/>
                  <a:pt x="12154" y="10592"/>
                </a:cubicBezTo>
              </a:path>
              <a:path w="12453" h="3325">
                <a:moveTo>
                  <a:pt x="13097" y="10443"/>
                </a:moveTo>
                <a:cubicBezTo>
                  <a:pt x="13140" y="10590"/>
                  <a:pt x="13166" y="10613"/>
                  <a:pt x="13097" y="10740"/>
                </a:cubicBezTo>
              </a:path>
              <a:path w="12453" h="3325">
                <a:moveTo>
                  <a:pt x="24383" y="12923"/>
                </a:moveTo>
                <a:cubicBezTo>
                  <a:pt x="24285" y="13061"/>
                  <a:pt x="24251" y="13143"/>
                  <a:pt x="24333" y="13295"/>
                </a:cubicBezTo>
                <a:cubicBezTo>
                  <a:pt x="24469" y="13304"/>
                  <a:pt x="24651" y="13275"/>
                  <a:pt x="24606" y="13072"/>
                </a:cubicBezTo>
                <a:cubicBezTo>
                  <a:pt x="24573" y="12922"/>
                  <a:pt x="24430" y="12968"/>
                  <a:pt x="24333" y="12973"/>
                </a:cubicBezTo>
              </a:path>
              <a:path w="12453" h="3325">
                <a:moveTo>
                  <a:pt x="21729" y="13494"/>
                </a:moveTo>
                <a:cubicBezTo>
                  <a:pt x="21744" y="13616"/>
                  <a:pt x="21767" y="13719"/>
                  <a:pt x="21654" y="137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67120" y="3027240"/>
            <a:ext cx="1670040" cy="723960"/>
          </a:xfrm>
          <a:custGeom>
            <a:avLst/>
            <a:gdLst/>
            <a:ahLst/>
            <a:rect l="l" t="t" r="r" b="b"/>
            <a:pathLst>
              <a:path w="4640" h="2010">
                <a:moveTo>
                  <a:pt x="10765" y="9525"/>
                </a:moveTo>
                <a:cubicBezTo>
                  <a:pt x="10765" y="9750"/>
                  <a:pt x="10750" y="9970"/>
                  <a:pt x="10740" y="10195"/>
                </a:cubicBezTo>
                <a:cubicBezTo>
                  <a:pt x="10740" y="10236"/>
                  <a:pt x="10740" y="10278"/>
                  <a:pt x="10740" y="10319"/>
                </a:cubicBezTo>
              </a:path>
              <a:path w="4640" h="2010">
                <a:moveTo>
                  <a:pt x="12700" y="9575"/>
                </a:moveTo>
                <a:cubicBezTo>
                  <a:pt x="12658" y="9481"/>
                  <a:pt x="12599" y="9285"/>
                  <a:pt x="12452" y="9351"/>
                </a:cubicBezTo>
                <a:cubicBezTo>
                  <a:pt x="12304" y="9418"/>
                  <a:pt x="12317" y="9594"/>
                  <a:pt x="12303" y="9723"/>
                </a:cubicBezTo>
                <a:cubicBezTo>
                  <a:pt x="12496" y="9758"/>
                  <a:pt x="12535" y="9708"/>
                  <a:pt x="12650" y="9525"/>
                </a:cubicBezTo>
                <a:cubicBezTo>
                  <a:pt x="12650" y="9709"/>
                  <a:pt x="12711" y="9886"/>
                  <a:pt x="12725" y="10071"/>
                </a:cubicBezTo>
                <a:cubicBezTo>
                  <a:pt x="12725" y="10182"/>
                  <a:pt x="12698" y="10205"/>
                  <a:pt x="12750" y="10244"/>
                </a:cubicBezTo>
              </a:path>
              <a:path w="4640" h="2010">
                <a:moveTo>
                  <a:pt x="15056" y="9376"/>
                </a:moveTo>
                <a:cubicBezTo>
                  <a:pt x="14883" y="9376"/>
                  <a:pt x="14734" y="9488"/>
                  <a:pt x="14610" y="9599"/>
                </a:cubicBezTo>
                <a:cubicBezTo>
                  <a:pt x="14585" y="9632"/>
                  <a:pt x="14561" y="9666"/>
                  <a:pt x="14536" y="9699"/>
                </a:cubicBezTo>
                <a:cubicBezTo>
                  <a:pt x="14641" y="9839"/>
                  <a:pt x="14964" y="9858"/>
                  <a:pt x="15007" y="10046"/>
                </a:cubicBezTo>
                <a:cubicBezTo>
                  <a:pt x="14956" y="10173"/>
                  <a:pt x="14936" y="10216"/>
                  <a:pt x="14833" y="10244"/>
                </a:cubicBezTo>
                <a:cubicBezTo>
                  <a:pt x="14739" y="10044"/>
                  <a:pt x="14794" y="9853"/>
                  <a:pt x="14932" y="9649"/>
                </a:cubicBezTo>
                <a:cubicBezTo>
                  <a:pt x="14957" y="9649"/>
                  <a:pt x="14965" y="9649"/>
                  <a:pt x="14957" y="9624"/>
                </a:cubicBezTo>
              </a:path>
              <a:path w="4640" h="2010">
                <a:moveTo>
                  <a:pt x="15329" y="9475"/>
                </a:moveTo>
                <a:cubicBezTo>
                  <a:pt x="15342" y="9691"/>
                  <a:pt x="15373" y="9903"/>
                  <a:pt x="15379" y="10120"/>
                </a:cubicBezTo>
                <a:cubicBezTo>
                  <a:pt x="15379" y="10162"/>
                  <a:pt x="15379" y="10187"/>
                  <a:pt x="15379" y="10145"/>
                </a:cubicBezTo>
              </a:path>
              <a:path w="4640" h="2010">
                <a:moveTo>
                  <a:pt x="11063" y="9029"/>
                </a:moveTo>
                <a:cubicBezTo>
                  <a:pt x="11128" y="8990"/>
                  <a:pt x="11147" y="8971"/>
                  <a:pt x="11212" y="8930"/>
                </a:cubicBezTo>
                <a:cubicBezTo>
                  <a:pt x="11504" y="8744"/>
                  <a:pt x="11844" y="8618"/>
                  <a:pt x="12179" y="8533"/>
                </a:cubicBezTo>
                <a:cubicBezTo>
                  <a:pt x="12452" y="8464"/>
                  <a:pt x="12813" y="8405"/>
                  <a:pt x="13097" y="8409"/>
                </a:cubicBezTo>
                <a:cubicBezTo>
                  <a:pt x="13298" y="8412"/>
                  <a:pt x="13502" y="8444"/>
                  <a:pt x="13692" y="8508"/>
                </a:cubicBezTo>
                <a:cubicBezTo>
                  <a:pt x="13874" y="8569"/>
                  <a:pt x="14110" y="8640"/>
                  <a:pt x="14263" y="8756"/>
                </a:cubicBezTo>
                <a:cubicBezTo>
                  <a:pt x="14331" y="8807"/>
                  <a:pt x="14400" y="8872"/>
                  <a:pt x="14461" y="8930"/>
                </a:cubicBezTo>
                <a:cubicBezTo>
                  <a:pt x="14524" y="8990"/>
                  <a:pt x="14546" y="9052"/>
                  <a:pt x="14585" y="9103"/>
                </a:cubicBezTo>
                <a:cubicBezTo>
                  <a:pt x="14595" y="9116"/>
                  <a:pt x="14649" y="9168"/>
                  <a:pt x="14660" y="9178"/>
                </a:cubicBezTo>
                <a:cubicBezTo>
                  <a:pt x="14668" y="9178"/>
                  <a:pt x="14676" y="9178"/>
                  <a:pt x="14684" y="9178"/>
                </a:cubicBezTo>
              </a:path>
              <a:path w="4640" h="2010">
                <a:moveTo>
                  <a:pt x="12601" y="8954"/>
                </a:moveTo>
                <a:cubicBezTo>
                  <a:pt x="12557" y="8965"/>
                  <a:pt x="12512" y="8971"/>
                  <a:pt x="12526" y="9029"/>
                </a:cubicBezTo>
                <a:cubicBezTo>
                  <a:pt x="12546" y="9110"/>
                  <a:pt x="12576" y="9058"/>
                  <a:pt x="12626" y="9029"/>
                </a:cubicBezTo>
                <a:cubicBezTo>
                  <a:pt x="12626" y="8986"/>
                  <a:pt x="12636" y="8991"/>
                  <a:pt x="12601" y="8979"/>
                </a:cubicBezTo>
                <a:cubicBezTo>
                  <a:pt x="12576" y="9000"/>
                  <a:pt x="12515" y="9136"/>
                  <a:pt x="12601" y="9079"/>
                </a:cubicBezTo>
                <a:cubicBezTo>
                  <a:pt x="12604" y="9077"/>
                  <a:pt x="12601" y="8955"/>
                  <a:pt x="12601" y="9029"/>
                </a:cubicBezTo>
                <a:cubicBezTo>
                  <a:pt x="12601" y="9054"/>
                  <a:pt x="12601" y="9062"/>
                  <a:pt x="12601" y="9029"/>
                </a:cubicBezTo>
              </a:path>
              <a:path w="4640" h="2010">
                <a:moveTo>
                  <a:pt x="11460" y="9971"/>
                </a:moveTo>
                <a:cubicBezTo>
                  <a:pt x="11554" y="9889"/>
                  <a:pt x="11567" y="9856"/>
                  <a:pt x="11683" y="9823"/>
                </a:cubicBezTo>
                <a:cubicBezTo>
                  <a:pt x="11671" y="9946"/>
                  <a:pt x="11657" y="10028"/>
                  <a:pt x="11609" y="10145"/>
                </a:cubicBezTo>
                <a:cubicBezTo>
                  <a:pt x="11692" y="10131"/>
                  <a:pt x="11915" y="10166"/>
                  <a:pt x="11782" y="10319"/>
                </a:cubicBezTo>
                <a:cubicBezTo>
                  <a:pt x="11708" y="10404"/>
                  <a:pt x="11410" y="10374"/>
                  <a:pt x="11509" y="10319"/>
                </a:cubicBezTo>
                <a:cubicBezTo>
                  <a:pt x="11542" y="10311"/>
                  <a:pt x="11576" y="10302"/>
                  <a:pt x="11609" y="10294"/>
                </a:cubicBezTo>
              </a:path>
              <a:path w="4640" h="2010">
                <a:moveTo>
                  <a:pt x="11633" y="9624"/>
                </a:moveTo>
                <a:cubicBezTo>
                  <a:pt x="11661" y="9499"/>
                  <a:pt x="11758" y="9414"/>
                  <a:pt x="11857" y="9327"/>
                </a:cubicBezTo>
                <a:cubicBezTo>
                  <a:pt x="12018" y="9186"/>
                  <a:pt x="12239" y="9033"/>
                  <a:pt x="12427" y="8930"/>
                </a:cubicBezTo>
                <a:cubicBezTo>
                  <a:pt x="12523" y="8877"/>
                  <a:pt x="12644" y="8858"/>
                  <a:pt x="12750" y="8855"/>
                </a:cubicBezTo>
                <a:cubicBezTo>
                  <a:pt x="12871" y="8852"/>
                  <a:pt x="13007" y="8872"/>
                  <a:pt x="13122" y="8905"/>
                </a:cubicBezTo>
                <a:cubicBezTo>
                  <a:pt x="13231" y="8936"/>
                  <a:pt x="13326" y="8987"/>
                  <a:pt x="13395" y="9079"/>
                </a:cubicBezTo>
                <a:cubicBezTo>
                  <a:pt x="13474" y="9184"/>
                  <a:pt x="13496" y="9331"/>
                  <a:pt x="13543" y="9451"/>
                </a:cubicBezTo>
              </a:path>
              <a:path w="4640" h="2010">
                <a:moveTo>
                  <a:pt x="13345" y="9699"/>
                </a:moveTo>
                <a:cubicBezTo>
                  <a:pt x="13475" y="9720"/>
                  <a:pt x="13593" y="9792"/>
                  <a:pt x="13593" y="9947"/>
                </a:cubicBezTo>
                <a:cubicBezTo>
                  <a:pt x="13593" y="10103"/>
                  <a:pt x="13461" y="10337"/>
                  <a:pt x="13271" y="10269"/>
                </a:cubicBezTo>
                <a:cubicBezTo>
                  <a:pt x="13263" y="10253"/>
                  <a:pt x="13254" y="10236"/>
                  <a:pt x="13246" y="10220"/>
                </a:cubicBezTo>
                <a:cubicBezTo>
                  <a:pt x="13289" y="10018"/>
                  <a:pt x="13378" y="10049"/>
                  <a:pt x="13568" y="10096"/>
                </a:cubicBezTo>
                <a:cubicBezTo>
                  <a:pt x="13678" y="10123"/>
                  <a:pt x="13678" y="10166"/>
                  <a:pt x="13692" y="10096"/>
                </a:cubicBezTo>
              </a:path>
              <a:path w="4640" h="2010">
                <a:moveTo>
                  <a:pt x="13568" y="9699"/>
                </a:moveTo>
                <a:cubicBezTo>
                  <a:pt x="13708" y="9629"/>
                  <a:pt x="13725" y="9645"/>
                  <a:pt x="13866" y="9674"/>
                </a:cubicBezTo>
                <a:cubicBezTo>
                  <a:pt x="13964" y="9694"/>
                  <a:pt x="13937" y="9697"/>
                  <a:pt x="13940" y="9847"/>
                </a:cubicBezTo>
                <a:cubicBezTo>
                  <a:pt x="13942" y="9972"/>
                  <a:pt x="13915" y="10220"/>
                  <a:pt x="13915" y="10220"/>
                </a:cubicBezTo>
                <a:cubicBezTo>
                  <a:pt x="13915" y="10212"/>
                  <a:pt x="13915" y="10203"/>
                  <a:pt x="13915" y="10195"/>
                </a:cubicBezTo>
              </a:path>
              <a:path w="4640" h="2010">
                <a:moveTo>
                  <a:pt x="14213" y="10145"/>
                </a:moveTo>
                <a:cubicBezTo>
                  <a:pt x="14245" y="10271"/>
                  <a:pt x="14299" y="10339"/>
                  <a:pt x="14188" y="104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456760" y="4670280"/>
            <a:ext cx="258480" cy="187560"/>
          </a:xfrm>
          <a:custGeom>
            <a:avLst/>
            <a:gdLst/>
            <a:ahLst/>
            <a:rect l="l" t="t" r="r" b="b"/>
            <a:pathLst>
              <a:path w="720" h="522">
                <a:moveTo>
                  <a:pt x="23589" y="13047"/>
                </a:moveTo>
                <a:cubicBezTo>
                  <a:pt x="23770" y="13027"/>
                  <a:pt x="24024" y="13060"/>
                  <a:pt x="23862" y="13320"/>
                </a:cubicBezTo>
                <a:cubicBezTo>
                  <a:pt x="23750" y="13500"/>
                  <a:pt x="23661" y="13492"/>
                  <a:pt x="23490" y="13469"/>
                </a:cubicBezTo>
                <a:cubicBezTo>
                  <a:pt x="23619" y="13277"/>
                  <a:pt x="23705" y="13326"/>
                  <a:pt x="23912" y="13395"/>
                </a:cubicBezTo>
                <a:cubicBezTo>
                  <a:pt x="24053" y="13442"/>
                  <a:pt x="24027" y="13430"/>
                  <a:pt x="24110" y="13320"/>
                </a:cubicBezTo>
              </a:path>
              <a:path w="720" h="522">
                <a:moveTo>
                  <a:pt x="24011" y="12973"/>
                </a:moveTo>
                <a:cubicBezTo>
                  <a:pt x="23961" y="13023"/>
                  <a:pt x="23833" y="13247"/>
                  <a:pt x="23961" y="13320"/>
                </a:cubicBezTo>
                <a:cubicBezTo>
                  <a:pt x="24090" y="13342"/>
                  <a:pt x="24123" y="13361"/>
                  <a:pt x="24185" y="13295"/>
                </a:cubicBezTo>
                <a:cubicBezTo>
                  <a:pt x="24204" y="13138"/>
                  <a:pt x="24204" y="13057"/>
                  <a:pt x="24036" y="12998"/>
                </a:cubicBezTo>
                <a:cubicBezTo>
                  <a:pt x="24028" y="12998"/>
                  <a:pt x="24019" y="12998"/>
                  <a:pt x="24011" y="12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55920" y="5464080"/>
            <a:ext cx="54000" cy="46080"/>
          </a:xfrm>
          <a:custGeom>
            <a:avLst/>
            <a:gdLst/>
            <a:ahLst/>
            <a:rect l="l" t="t" r="r" b="b"/>
            <a:pathLst>
              <a:path w="150" h="125">
                <a:moveTo>
                  <a:pt x="6821" y="15180"/>
                </a:moveTo>
                <a:cubicBezTo>
                  <a:pt x="6845" y="15228"/>
                  <a:pt x="6918" y="15267"/>
                  <a:pt x="6970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3760" y="2963880"/>
            <a:ext cx="428400" cy="9360"/>
          </a:xfrm>
          <a:custGeom>
            <a:avLst/>
            <a:gdLst/>
            <a:ahLst/>
            <a:rect l="l" t="t" r="r" b="b"/>
            <a:pathLst>
              <a:path w="1192" h="26">
                <a:moveTo>
                  <a:pt x="20315" y="8260"/>
                </a:moveTo>
                <a:cubicBezTo>
                  <a:pt x="20453" y="8232"/>
                  <a:pt x="20590" y="8235"/>
                  <a:pt x="20737" y="8235"/>
                </a:cubicBezTo>
                <a:cubicBezTo>
                  <a:pt x="20993" y="8235"/>
                  <a:pt x="21250" y="8235"/>
                  <a:pt x="21506" y="82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7120" y="3125880"/>
            <a:ext cx="2536920" cy="285480"/>
          </a:xfrm>
          <a:custGeom>
            <a:avLst/>
            <a:gdLst/>
            <a:ahLst/>
            <a:rect l="l" t="t" r="r" b="b"/>
            <a:pathLst>
              <a:path w="7046" h="794">
                <a:moveTo>
                  <a:pt x="992" y="9475"/>
                </a:moveTo>
                <a:cubicBezTo>
                  <a:pt x="1033" y="9444"/>
                  <a:pt x="1073" y="9404"/>
                  <a:pt x="1116" y="9376"/>
                </a:cubicBezTo>
                <a:cubicBezTo>
                  <a:pt x="1162" y="9346"/>
                  <a:pt x="1193" y="9331"/>
                  <a:pt x="1240" y="9302"/>
                </a:cubicBezTo>
                <a:cubicBezTo>
                  <a:pt x="1273" y="9282"/>
                  <a:pt x="1323" y="9244"/>
                  <a:pt x="1364" y="9227"/>
                </a:cubicBezTo>
                <a:cubicBezTo>
                  <a:pt x="1389" y="9227"/>
                  <a:pt x="1397" y="9227"/>
                  <a:pt x="1414" y="9227"/>
                </a:cubicBezTo>
                <a:cubicBezTo>
                  <a:pt x="1435" y="9174"/>
                  <a:pt x="1352" y="9184"/>
                  <a:pt x="1414" y="9128"/>
                </a:cubicBezTo>
                <a:cubicBezTo>
                  <a:pt x="1461" y="9086"/>
                  <a:pt x="1629" y="9022"/>
                  <a:pt x="1687" y="9004"/>
                </a:cubicBezTo>
                <a:cubicBezTo>
                  <a:pt x="1880" y="8943"/>
                  <a:pt x="2088" y="8898"/>
                  <a:pt x="2282" y="8855"/>
                </a:cubicBezTo>
                <a:cubicBezTo>
                  <a:pt x="2552" y="8795"/>
                  <a:pt x="2824" y="8737"/>
                  <a:pt x="3101" y="8731"/>
                </a:cubicBezTo>
                <a:cubicBezTo>
                  <a:pt x="3256" y="8728"/>
                  <a:pt x="3417" y="8721"/>
                  <a:pt x="3572" y="8706"/>
                </a:cubicBezTo>
                <a:cubicBezTo>
                  <a:pt x="3681" y="8696"/>
                  <a:pt x="3759" y="8703"/>
                  <a:pt x="3870" y="8706"/>
                </a:cubicBezTo>
                <a:cubicBezTo>
                  <a:pt x="4119" y="8714"/>
                  <a:pt x="4367" y="8727"/>
                  <a:pt x="4614" y="8731"/>
                </a:cubicBezTo>
                <a:cubicBezTo>
                  <a:pt x="4849" y="8735"/>
                  <a:pt x="5076" y="8720"/>
                  <a:pt x="5308" y="8706"/>
                </a:cubicBezTo>
                <a:cubicBezTo>
                  <a:pt x="5467" y="8696"/>
                  <a:pt x="5618" y="8682"/>
                  <a:pt x="5779" y="8682"/>
                </a:cubicBezTo>
                <a:cubicBezTo>
                  <a:pt x="5975" y="8682"/>
                  <a:pt x="6156" y="8699"/>
                  <a:pt x="6350" y="8731"/>
                </a:cubicBezTo>
                <a:cubicBezTo>
                  <a:pt x="6516" y="8758"/>
                  <a:pt x="6683" y="8771"/>
                  <a:pt x="6846" y="8806"/>
                </a:cubicBezTo>
                <a:cubicBezTo>
                  <a:pt x="6955" y="8829"/>
                  <a:pt x="7046" y="8871"/>
                  <a:pt x="7144" y="8905"/>
                </a:cubicBezTo>
                <a:cubicBezTo>
                  <a:pt x="7295" y="8957"/>
                  <a:pt x="7454" y="8998"/>
                  <a:pt x="7590" y="9079"/>
                </a:cubicBezTo>
                <a:cubicBezTo>
                  <a:pt x="7660" y="9120"/>
                  <a:pt x="7720" y="9166"/>
                  <a:pt x="7789" y="9203"/>
                </a:cubicBezTo>
                <a:cubicBezTo>
                  <a:pt x="7816" y="9218"/>
                  <a:pt x="7881" y="9249"/>
                  <a:pt x="7888" y="9252"/>
                </a:cubicBezTo>
                <a:cubicBezTo>
                  <a:pt x="7931" y="9271"/>
                  <a:pt x="7976" y="9282"/>
                  <a:pt x="8012" y="9302"/>
                </a:cubicBezTo>
                <a:cubicBezTo>
                  <a:pt x="8012" y="9327"/>
                  <a:pt x="8012" y="9335"/>
                  <a:pt x="8037" y="93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</a:t>
            </a:r>
            <a:r>
              <a:rPr b="0" lang="en-US" sz="36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765160" y="3941640"/>
            <a:ext cx="49957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eptember 27, 2011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Divisibility R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10552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:  Students will be able to use divisibility rules to quickly identify the factors of a given num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17920" y="5062680"/>
            <a:ext cx="3456000" cy="90360"/>
          </a:xfrm>
          <a:custGeom>
            <a:avLst/>
            <a:gdLst/>
            <a:ahLst/>
            <a:rect l="l" t="t" r="r" b="b"/>
            <a:pathLst>
              <a:path w="9600" h="249">
                <a:moveTo>
                  <a:pt x="9773" y="14139"/>
                </a:moveTo>
                <a:cubicBezTo>
                  <a:pt x="9823" y="14164"/>
                  <a:pt x="9827" y="14213"/>
                  <a:pt x="9922" y="14238"/>
                </a:cubicBezTo>
                <a:cubicBezTo>
                  <a:pt x="10161" y="14300"/>
                  <a:pt x="10311" y="14092"/>
                  <a:pt x="10517" y="14089"/>
                </a:cubicBezTo>
                <a:cubicBezTo>
                  <a:pt x="10625" y="14087"/>
                  <a:pt x="10527" y="14119"/>
                  <a:pt x="10691" y="14163"/>
                </a:cubicBezTo>
                <a:cubicBezTo>
                  <a:pt x="10953" y="14234"/>
                  <a:pt x="11362" y="14100"/>
                  <a:pt x="11584" y="14188"/>
                </a:cubicBezTo>
                <a:cubicBezTo>
                  <a:pt x="11648" y="14213"/>
                  <a:pt x="11643" y="14289"/>
                  <a:pt x="11733" y="14312"/>
                </a:cubicBezTo>
                <a:cubicBezTo>
                  <a:pt x="12113" y="14409"/>
                  <a:pt x="12583" y="14272"/>
                  <a:pt x="12973" y="14288"/>
                </a:cubicBezTo>
                <a:cubicBezTo>
                  <a:pt x="13030" y="14290"/>
                  <a:pt x="13126" y="14311"/>
                  <a:pt x="13196" y="14312"/>
                </a:cubicBezTo>
                <a:cubicBezTo>
                  <a:pt x="13470" y="14316"/>
                  <a:pt x="13741" y="14235"/>
                  <a:pt x="14015" y="14263"/>
                </a:cubicBezTo>
                <a:cubicBezTo>
                  <a:pt x="14149" y="14277"/>
                  <a:pt x="14262" y="14322"/>
                  <a:pt x="14412" y="14312"/>
                </a:cubicBezTo>
                <a:cubicBezTo>
                  <a:pt x="14606" y="14300"/>
                  <a:pt x="14813" y="14171"/>
                  <a:pt x="15007" y="14188"/>
                </a:cubicBezTo>
                <a:cubicBezTo>
                  <a:pt x="15188" y="14204"/>
                  <a:pt x="15305" y="14294"/>
                  <a:pt x="15503" y="14288"/>
                </a:cubicBezTo>
                <a:cubicBezTo>
                  <a:pt x="15727" y="14282"/>
                  <a:pt x="16000" y="14161"/>
                  <a:pt x="16222" y="14213"/>
                </a:cubicBezTo>
                <a:cubicBezTo>
                  <a:pt x="16389" y="14252"/>
                  <a:pt x="16489" y="14279"/>
                  <a:pt x="16669" y="14288"/>
                </a:cubicBezTo>
                <a:cubicBezTo>
                  <a:pt x="16892" y="14299"/>
                  <a:pt x="17069" y="14283"/>
                  <a:pt x="17289" y="14263"/>
                </a:cubicBezTo>
                <a:cubicBezTo>
                  <a:pt x="17478" y="14246"/>
                  <a:pt x="17643" y="14302"/>
                  <a:pt x="17835" y="14288"/>
                </a:cubicBezTo>
                <a:cubicBezTo>
                  <a:pt x="18306" y="14255"/>
                  <a:pt x="18832" y="14218"/>
                  <a:pt x="19298" y="14238"/>
                </a:cubicBezTo>
                <a:cubicBezTo>
                  <a:pt x="19343" y="14238"/>
                  <a:pt x="19356" y="14234"/>
                  <a:pt x="19372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60520" y="560520"/>
            <a:ext cx="705312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jective:  Students will be able to use divisibility rules to quickly identify the factors of a given number.</a:t>
            </a:r>
            <a:br>
              <a:rPr sz="37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Factor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Divisible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Sum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Prime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Composite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If you like working quickly (and avoid doing a lot of scrap work), knowing your divisibility rules well can help you simplify fractions with ease.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3240" y="3697200"/>
            <a:ext cx="117720" cy="561960"/>
          </a:xfrm>
          <a:custGeom>
            <a:avLst/>
            <a:gdLst/>
            <a:ahLst/>
            <a:rect l="l" t="t" r="r" b="b"/>
            <a:pathLst>
              <a:path w="324" h="1564">
                <a:moveTo>
                  <a:pt x="2084" y="10269"/>
                </a:moveTo>
                <a:cubicBezTo>
                  <a:pt x="1997" y="10269"/>
                  <a:pt x="1921" y="10284"/>
                  <a:pt x="1836" y="10294"/>
                </a:cubicBezTo>
                <a:cubicBezTo>
                  <a:pt x="1787" y="10300"/>
                  <a:pt x="1770" y="10302"/>
                  <a:pt x="1761" y="10344"/>
                </a:cubicBezTo>
                <a:cubicBezTo>
                  <a:pt x="1731" y="10488"/>
                  <a:pt x="1821" y="10673"/>
                  <a:pt x="1836" y="10815"/>
                </a:cubicBezTo>
                <a:cubicBezTo>
                  <a:pt x="1846" y="10906"/>
                  <a:pt x="1857" y="10998"/>
                  <a:pt x="1860" y="11088"/>
                </a:cubicBezTo>
                <a:cubicBezTo>
                  <a:pt x="1864" y="11190"/>
                  <a:pt x="1866" y="11286"/>
                  <a:pt x="1885" y="11385"/>
                </a:cubicBezTo>
                <a:cubicBezTo>
                  <a:pt x="1903" y="11481"/>
                  <a:pt x="1910" y="11561"/>
                  <a:pt x="1910" y="11658"/>
                </a:cubicBezTo>
                <a:cubicBezTo>
                  <a:pt x="1910" y="11713"/>
                  <a:pt x="1931" y="11753"/>
                  <a:pt x="1935" y="11807"/>
                </a:cubicBezTo>
                <a:cubicBezTo>
                  <a:pt x="1935" y="11815"/>
                  <a:pt x="1935" y="11824"/>
                  <a:pt x="1935" y="11832"/>
                </a:cubicBezTo>
                <a:cubicBezTo>
                  <a:pt x="1979" y="11826"/>
                  <a:pt x="2017" y="11819"/>
                  <a:pt x="2059" y="118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77080" y="1714680"/>
            <a:ext cx="492120" cy="36360"/>
          </a:xfrm>
          <a:custGeom>
            <a:avLst/>
            <a:gdLst/>
            <a:ahLst/>
            <a:rect l="l" t="t" r="r" b="b"/>
            <a:pathLst>
              <a:path w="1365" h="101">
                <a:moveTo>
                  <a:pt x="21605" y="4862"/>
                </a:moveTo>
                <a:cubicBezTo>
                  <a:pt x="21680" y="4857"/>
                  <a:pt x="21731" y="4849"/>
                  <a:pt x="21803" y="4837"/>
                </a:cubicBezTo>
              </a:path>
              <a:path w="1365" h="101">
                <a:moveTo>
                  <a:pt x="22622" y="4787"/>
                </a:moveTo>
                <a:cubicBezTo>
                  <a:pt x="22740" y="4782"/>
                  <a:pt x="22852" y="4772"/>
                  <a:pt x="22969" y="47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6240" y="1295280"/>
            <a:ext cx="1081080" cy="509760"/>
          </a:xfrm>
          <a:custGeom>
            <a:avLst/>
            <a:gdLst/>
            <a:ahLst/>
            <a:rect l="l" t="t" r="r" b="b"/>
            <a:pathLst>
              <a:path w="3003" h="1415">
                <a:moveTo>
                  <a:pt x="21357" y="3870"/>
                </a:moveTo>
                <a:cubicBezTo>
                  <a:pt x="21542" y="3856"/>
                  <a:pt x="21736" y="4007"/>
                  <a:pt x="21630" y="4242"/>
                </a:cubicBezTo>
                <a:cubicBezTo>
                  <a:pt x="21542" y="4438"/>
                  <a:pt x="21371" y="4424"/>
                  <a:pt x="21208" y="4415"/>
                </a:cubicBezTo>
                <a:cubicBezTo>
                  <a:pt x="21227" y="4136"/>
                  <a:pt x="21465" y="4143"/>
                  <a:pt x="21704" y="4242"/>
                </a:cubicBezTo>
                <a:cubicBezTo>
                  <a:pt x="21770" y="4269"/>
                  <a:pt x="21827" y="4340"/>
                  <a:pt x="21878" y="4390"/>
                </a:cubicBezTo>
              </a:path>
              <a:path w="3003" h="1415">
                <a:moveTo>
                  <a:pt x="21903" y="3845"/>
                </a:moveTo>
                <a:cubicBezTo>
                  <a:pt x="22011" y="3993"/>
                  <a:pt x="22127" y="4138"/>
                  <a:pt x="22225" y="4291"/>
                </a:cubicBezTo>
              </a:path>
              <a:path w="3003" h="1415">
                <a:moveTo>
                  <a:pt x="22225" y="3845"/>
                </a:moveTo>
                <a:cubicBezTo>
                  <a:pt x="22156" y="4015"/>
                  <a:pt x="22084" y="4177"/>
                  <a:pt x="22002" y="4341"/>
                </a:cubicBezTo>
              </a:path>
              <a:path w="3003" h="1415">
                <a:moveTo>
                  <a:pt x="22473" y="3646"/>
                </a:moveTo>
                <a:cubicBezTo>
                  <a:pt x="22587" y="3628"/>
                  <a:pt x="22919" y="3559"/>
                  <a:pt x="22845" y="3795"/>
                </a:cubicBezTo>
                <a:cubicBezTo>
                  <a:pt x="22769" y="3897"/>
                  <a:pt x="22741" y="3931"/>
                  <a:pt x="22647" y="3944"/>
                </a:cubicBezTo>
                <a:cubicBezTo>
                  <a:pt x="22610" y="4000"/>
                  <a:pt x="22768" y="3912"/>
                  <a:pt x="22845" y="3994"/>
                </a:cubicBezTo>
                <a:cubicBezTo>
                  <a:pt x="22958" y="4115"/>
                  <a:pt x="22819" y="4310"/>
                  <a:pt x="22671" y="4266"/>
                </a:cubicBezTo>
                <a:cubicBezTo>
                  <a:pt x="22553" y="4195"/>
                  <a:pt x="22512" y="4178"/>
                  <a:pt x="22547" y="4068"/>
                </a:cubicBezTo>
              </a:path>
              <a:path w="3003" h="1415">
                <a:moveTo>
                  <a:pt x="23068" y="3919"/>
                </a:moveTo>
                <a:cubicBezTo>
                  <a:pt x="23187" y="3886"/>
                  <a:pt x="23297" y="3886"/>
                  <a:pt x="23416" y="3919"/>
                </a:cubicBezTo>
              </a:path>
              <a:path w="3003" h="1415">
                <a:moveTo>
                  <a:pt x="23093" y="4093"/>
                </a:moveTo>
                <a:cubicBezTo>
                  <a:pt x="23222" y="4093"/>
                  <a:pt x="23337" y="4084"/>
                  <a:pt x="23465" y="4068"/>
                </a:cubicBezTo>
              </a:path>
              <a:path w="3003" h="1415">
                <a:moveTo>
                  <a:pt x="23763" y="3597"/>
                </a:moveTo>
                <a:cubicBezTo>
                  <a:pt x="23836" y="3782"/>
                  <a:pt x="23800" y="3940"/>
                  <a:pt x="23788" y="4142"/>
                </a:cubicBezTo>
                <a:cubicBezTo>
                  <a:pt x="23778" y="4300"/>
                  <a:pt x="23888" y="4395"/>
                  <a:pt x="24061" y="4341"/>
                </a:cubicBezTo>
                <a:cubicBezTo>
                  <a:pt x="24235" y="4287"/>
                  <a:pt x="24166" y="4177"/>
                  <a:pt x="24135" y="4068"/>
                </a:cubicBezTo>
                <a:cubicBezTo>
                  <a:pt x="24135" y="4033"/>
                  <a:pt x="24126" y="4020"/>
                  <a:pt x="24085" y="4018"/>
                </a:cubicBezTo>
                <a:cubicBezTo>
                  <a:pt x="24011" y="4103"/>
                  <a:pt x="23944" y="4192"/>
                  <a:pt x="23986" y="4316"/>
                </a:cubicBezTo>
                <a:cubicBezTo>
                  <a:pt x="23994" y="4339"/>
                  <a:pt x="24056" y="4338"/>
                  <a:pt x="24085" y="4341"/>
                </a:cubicBezTo>
              </a:path>
              <a:path w="3003" h="1415">
                <a:moveTo>
                  <a:pt x="21654" y="4688"/>
                </a:moveTo>
                <a:cubicBezTo>
                  <a:pt x="21640" y="4628"/>
                  <a:pt x="21616" y="4619"/>
                  <a:pt x="21555" y="4614"/>
                </a:cubicBezTo>
                <a:cubicBezTo>
                  <a:pt x="21547" y="4614"/>
                  <a:pt x="21538" y="4614"/>
                  <a:pt x="21530" y="4614"/>
                </a:cubicBezTo>
                <a:cubicBezTo>
                  <a:pt x="21544" y="4754"/>
                  <a:pt x="21607" y="4856"/>
                  <a:pt x="21654" y="4986"/>
                </a:cubicBezTo>
                <a:cubicBezTo>
                  <a:pt x="21654" y="4994"/>
                  <a:pt x="21654" y="5003"/>
                  <a:pt x="21654" y="5011"/>
                </a:cubicBezTo>
              </a:path>
              <a:path w="3003" h="1415">
                <a:moveTo>
                  <a:pt x="22870" y="4539"/>
                </a:moveTo>
                <a:cubicBezTo>
                  <a:pt x="22836" y="4511"/>
                  <a:pt x="22814" y="4498"/>
                  <a:pt x="22771" y="4490"/>
                </a:cubicBezTo>
                <a:cubicBezTo>
                  <a:pt x="22704" y="4622"/>
                  <a:pt x="22734" y="4713"/>
                  <a:pt x="22820" y="4837"/>
                </a:cubicBezTo>
                <a:cubicBezTo>
                  <a:pt x="22859" y="4876"/>
                  <a:pt x="22876" y="4877"/>
                  <a:pt x="22870" y="4911"/>
                </a:cubicBezTo>
              </a:path>
              <a:path w="3003" h="1415">
                <a:moveTo>
                  <a:pt x="21406" y="4862"/>
                </a:moveTo>
                <a:cubicBezTo>
                  <a:pt x="21481" y="4862"/>
                  <a:pt x="21555" y="4862"/>
                  <a:pt x="21630" y="48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44960" y="2035080"/>
            <a:ext cx="2071800" cy="331920"/>
          </a:xfrm>
          <a:custGeom>
            <a:avLst/>
            <a:gdLst/>
            <a:ahLst/>
            <a:rect l="l" t="t" r="r" b="b"/>
            <a:pathLst>
              <a:path w="5755" h="919">
                <a:moveTo>
                  <a:pt x="11237" y="5655"/>
                </a:moveTo>
                <a:cubicBezTo>
                  <a:pt x="11292" y="5944"/>
                  <a:pt x="11347" y="6232"/>
                  <a:pt x="11385" y="6524"/>
                </a:cubicBezTo>
                <a:cubicBezTo>
                  <a:pt x="11385" y="6566"/>
                  <a:pt x="11379" y="6557"/>
                  <a:pt x="11361" y="6474"/>
                </a:cubicBezTo>
              </a:path>
              <a:path w="5755" h="919">
                <a:moveTo>
                  <a:pt x="11485" y="5904"/>
                </a:moveTo>
                <a:cubicBezTo>
                  <a:pt x="11485" y="5912"/>
                  <a:pt x="11485" y="5920"/>
                  <a:pt x="11485" y="5928"/>
                </a:cubicBezTo>
              </a:path>
              <a:path w="5755" h="919">
                <a:moveTo>
                  <a:pt x="11485" y="5928"/>
                </a:moveTo>
                <a:lnTo>
                  <a:pt x="11485" y="5928"/>
                </a:lnTo>
              </a:path>
              <a:path w="5755" h="919">
                <a:moveTo>
                  <a:pt x="12576" y="6201"/>
                </a:moveTo>
                <a:cubicBezTo>
                  <a:pt x="12599" y="6359"/>
                  <a:pt x="12604" y="6401"/>
                  <a:pt x="12626" y="6499"/>
                </a:cubicBezTo>
              </a:path>
              <a:path w="5755" h="919">
                <a:moveTo>
                  <a:pt x="12526" y="5928"/>
                </a:moveTo>
                <a:cubicBezTo>
                  <a:pt x="12559" y="5936"/>
                  <a:pt x="12593" y="5945"/>
                  <a:pt x="12626" y="5953"/>
                </a:cubicBezTo>
              </a:path>
              <a:path w="5755" h="919">
                <a:moveTo>
                  <a:pt x="12626" y="5953"/>
                </a:moveTo>
                <a:lnTo>
                  <a:pt x="12626" y="5953"/>
                </a:lnTo>
              </a:path>
              <a:path w="5755" h="919">
                <a:moveTo>
                  <a:pt x="13519" y="6176"/>
                </a:moveTo>
                <a:cubicBezTo>
                  <a:pt x="13385" y="6084"/>
                  <a:pt x="13270" y="6063"/>
                  <a:pt x="13196" y="6251"/>
                </a:cubicBezTo>
                <a:cubicBezTo>
                  <a:pt x="13124" y="6434"/>
                  <a:pt x="13200" y="6479"/>
                  <a:pt x="13320" y="6573"/>
                </a:cubicBezTo>
                <a:cubicBezTo>
                  <a:pt x="13479" y="6478"/>
                  <a:pt x="13536" y="6415"/>
                  <a:pt x="13543" y="6251"/>
                </a:cubicBezTo>
              </a:path>
              <a:path w="5755" h="919">
                <a:moveTo>
                  <a:pt x="16520" y="5854"/>
                </a:moveTo>
                <a:cubicBezTo>
                  <a:pt x="16768" y="5831"/>
                  <a:pt x="16835" y="5826"/>
                  <a:pt x="16991" y="58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16080" y="2133720"/>
            <a:ext cx="965160" cy="312480"/>
          </a:xfrm>
          <a:custGeom>
            <a:avLst/>
            <a:gdLst/>
            <a:ahLst/>
            <a:rect l="l" t="t" r="r" b="b"/>
            <a:pathLst>
              <a:path w="2680" h="869">
                <a:moveTo>
                  <a:pt x="5904" y="6400"/>
                </a:moveTo>
                <a:cubicBezTo>
                  <a:pt x="5936" y="6531"/>
                  <a:pt x="5919" y="6635"/>
                  <a:pt x="5904" y="6772"/>
                </a:cubicBezTo>
                <a:cubicBezTo>
                  <a:pt x="5870" y="6601"/>
                  <a:pt x="5853" y="6441"/>
                  <a:pt x="5978" y="6300"/>
                </a:cubicBezTo>
                <a:cubicBezTo>
                  <a:pt x="6003" y="6284"/>
                  <a:pt x="6027" y="6267"/>
                  <a:pt x="6052" y="6251"/>
                </a:cubicBezTo>
                <a:cubicBezTo>
                  <a:pt x="6240" y="6321"/>
                  <a:pt x="6325" y="6490"/>
                  <a:pt x="6325" y="6722"/>
                </a:cubicBezTo>
                <a:cubicBezTo>
                  <a:pt x="6305" y="6763"/>
                  <a:pt x="6286" y="6779"/>
                  <a:pt x="6325" y="6772"/>
                </a:cubicBezTo>
              </a:path>
              <a:path w="2680" h="869">
                <a:moveTo>
                  <a:pt x="6375" y="6375"/>
                </a:moveTo>
                <a:cubicBezTo>
                  <a:pt x="6388" y="6530"/>
                  <a:pt x="6410" y="6659"/>
                  <a:pt x="6474" y="6796"/>
                </a:cubicBezTo>
                <a:cubicBezTo>
                  <a:pt x="6635" y="6725"/>
                  <a:pt x="6627" y="6592"/>
                  <a:pt x="6648" y="6424"/>
                </a:cubicBezTo>
                <a:cubicBezTo>
                  <a:pt x="6648" y="6432"/>
                  <a:pt x="6648" y="6441"/>
                  <a:pt x="6648" y="6449"/>
                </a:cubicBezTo>
                <a:cubicBezTo>
                  <a:pt x="6653" y="6477"/>
                  <a:pt x="6719" y="6963"/>
                  <a:pt x="6821" y="6697"/>
                </a:cubicBezTo>
                <a:cubicBezTo>
                  <a:pt x="6829" y="6639"/>
                  <a:pt x="6838" y="6582"/>
                  <a:pt x="6846" y="6524"/>
                </a:cubicBezTo>
              </a:path>
              <a:path w="2680" h="869">
                <a:moveTo>
                  <a:pt x="6821" y="6424"/>
                </a:moveTo>
                <a:cubicBezTo>
                  <a:pt x="6856" y="6528"/>
                  <a:pt x="6991" y="6821"/>
                  <a:pt x="6945" y="6722"/>
                </a:cubicBezTo>
                <a:cubicBezTo>
                  <a:pt x="6929" y="6689"/>
                  <a:pt x="6912" y="6656"/>
                  <a:pt x="6896" y="6623"/>
                </a:cubicBezTo>
                <a:cubicBezTo>
                  <a:pt x="6901" y="6521"/>
                  <a:pt x="6947" y="6215"/>
                  <a:pt x="7144" y="6400"/>
                </a:cubicBezTo>
                <a:cubicBezTo>
                  <a:pt x="7238" y="6488"/>
                  <a:pt x="7237" y="6619"/>
                  <a:pt x="7218" y="6722"/>
                </a:cubicBezTo>
                <a:cubicBezTo>
                  <a:pt x="7170" y="6592"/>
                  <a:pt x="7063" y="6399"/>
                  <a:pt x="7243" y="6400"/>
                </a:cubicBezTo>
                <a:cubicBezTo>
                  <a:pt x="7345" y="6524"/>
                  <a:pt x="7421" y="6586"/>
                  <a:pt x="7367" y="6747"/>
                </a:cubicBezTo>
              </a:path>
              <a:path w="2680" h="869">
                <a:moveTo>
                  <a:pt x="7392" y="5928"/>
                </a:moveTo>
                <a:cubicBezTo>
                  <a:pt x="7431" y="6148"/>
                  <a:pt x="7511" y="6356"/>
                  <a:pt x="7565" y="6573"/>
                </a:cubicBezTo>
                <a:cubicBezTo>
                  <a:pt x="7565" y="6581"/>
                  <a:pt x="7565" y="6590"/>
                  <a:pt x="7565" y="6598"/>
                </a:cubicBezTo>
                <a:cubicBezTo>
                  <a:pt x="7538" y="6348"/>
                  <a:pt x="7580" y="6308"/>
                  <a:pt x="7813" y="6226"/>
                </a:cubicBezTo>
                <a:cubicBezTo>
                  <a:pt x="7956" y="6439"/>
                  <a:pt x="7939" y="6555"/>
                  <a:pt x="7665" y="6648"/>
                </a:cubicBezTo>
                <a:cubicBezTo>
                  <a:pt x="7564" y="6667"/>
                  <a:pt x="7534" y="6697"/>
                  <a:pt x="7516" y="6623"/>
                </a:cubicBezTo>
              </a:path>
              <a:path w="2680" h="869">
                <a:moveTo>
                  <a:pt x="7938" y="6449"/>
                </a:moveTo>
                <a:cubicBezTo>
                  <a:pt x="7959" y="6460"/>
                  <a:pt x="8128" y="6469"/>
                  <a:pt x="8186" y="6424"/>
                </a:cubicBezTo>
                <a:cubicBezTo>
                  <a:pt x="8186" y="6396"/>
                  <a:pt x="8183" y="6386"/>
                  <a:pt x="8161" y="6375"/>
                </a:cubicBezTo>
                <a:cubicBezTo>
                  <a:pt x="7988" y="6324"/>
                  <a:pt x="7852" y="6317"/>
                  <a:pt x="7863" y="6548"/>
                </a:cubicBezTo>
                <a:cubicBezTo>
                  <a:pt x="7875" y="6802"/>
                  <a:pt x="8086" y="6719"/>
                  <a:pt x="8210" y="6598"/>
                </a:cubicBezTo>
                <a:cubicBezTo>
                  <a:pt x="8243" y="6557"/>
                  <a:pt x="8277" y="6515"/>
                  <a:pt x="8310" y="6474"/>
                </a:cubicBezTo>
                <a:cubicBezTo>
                  <a:pt x="8367" y="6434"/>
                  <a:pt x="8334" y="6503"/>
                  <a:pt x="8334" y="6573"/>
                </a:cubicBezTo>
                <a:cubicBezTo>
                  <a:pt x="8283" y="6341"/>
                  <a:pt x="8333" y="6297"/>
                  <a:pt x="8558" y="6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38360" y="2054160"/>
            <a:ext cx="1009800" cy="366840"/>
          </a:xfrm>
          <a:custGeom>
            <a:avLst/>
            <a:gdLst/>
            <a:ahLst/>
            <a:rect l="l" t="t" r="r" b="b"/>
            <a:pathLst>
              <a:path w="2804" h="1018">
                <a:moveTo>
                  <a:pt x="9550" y="6127"/>
                </a:moveTo>
                <a:cubicBezTo>
                  <a:pt x="9550" y="6269"/>
                  <a:pt x="9590" y="6405"/>
                  <a:pt x="9599" y="6548"/>
                </a:cubicBezTo>
                <a:cubicBezTo>
                  <a:pt x="9599" y="6556"/>
                  <a:pt x="9599" y="6565"/>
                  <a:pt x="9599" y="6573"/>
                </a:cubicBezTo>
                <a:cubicBezTo>
                  <a:pt x="9566" y="6457"/>
                  <a:pt x="9493" y="6274"/>
                  <a:pt x="9575" y="6152"/>
                </a:cubicBezTo>
                <a:cubicBezTo>
                  <a:pt x="9734" y="5917"/>
                  <a:pt x="9959" y="6342"/>
                  <a:pt x="9996" y="6449"/>
                </a:cubicBezTo>
                <a:cubicBezTo>
                  <a:pt x="9996" y="6474"/>
                  <a:pt x="9996" y="6499"/>
                  <a:pt x="9996" y="6524"/>
                </a:cubicBezTo>
                <a:cubicBezTo>
                  <a:pt x="9971" y="6401"/>
                  <a:pt x="9860" y="6274"/>
                  <a:pt x="9971" y="6152"/>
                </a:cubicBezTo>
                <a:cubicBezTo>
                  <a:pt x="10166" y="5938"/>
                  <a:pt x="10337" y="6396"/>
                  <a:pt x="10344" y="6524"/>
                </a:cubicBezTo>
                <a:cubicBezTo>
                  <a:pt x="10336" y="6540"/>
                  <a:pt x="10327" y="6557"/>
                  <a:pt x="10319" y="6573"/>
                </a:cubicBezTo>
              </a:path>
              <a:path w="2804" h="1018">
                <a:moveTo>
                  <a:pt x="10368" y="6176"/>
                </a:moveTo>
                <a:cubicBezTo>
                  <a:pt x="10429" y="6282"/>
                  <a:pt x="10440" y="6411"/>
                  <a:pt x="10492" y="6524"/>
                </a:cubicBezTo>
                <a:cubicBezTo>
                  <a:pt x="10639" y="6538"/>
                  <a:pt x="10735" y="6444"/>
                  <a:pt x="10740" y="6276"/>
                </a:cubicBezTo>
                <a:cubicBezTo>
                  <a:pt x="10732" y="6251"/>
                  <a:pt x="10724" y="6226"/>
                  <a:pt x="10716" y="6201"/>
                </a:cubicBezTo>
                <a:cubicBezTo>
                  <a:pt x="10728" y="6317"/>
                  <a:pt x="10741" y="6546"/>
                  <a:pt x="10889" y="6573"/>
                </a:cubicBezTo>
                <a:cubicBezTo>
                  <a:pt x="10922" y="6557"/>
                  <a:pt x="10955" y="6540"/>
                  <a:pt x="10988" y="6524"/>
                </a:cubicBezTo>
              </a:path>
              <a:path w="2804" h="1018">
                <a:moveTo>
                  <a:pt x="10840" y="5705"/>
                </a:moveTo>
                <a:cubicBezTo>
                  <a:pt x="10935" y="5933"/>
                  <a:pt x="11005" y="6198"/>
                  <a:pt x="11038" y="6449"/>
                </a:cubicBezTo>
                <a:cubicBezTo>
                  <a:pt x="11038" y="6507"/>
                  <a:pt x="11038" y="6549"/>
                  <a:pt x="11038" y="6499"/>
                </a:cubicBezTo>
              </a:path>
              <a:path w="2804" h="1018">
                <a:moveTo>
                  <a:pt x="10988" y="6201"/>
                </a:moveTo>
                <a:cubicBezTo>
                  <a:pt x="11158" y="6201"/>
                  <a:pt x="11401" y="6151"/>
                  <a:pt x="11559" y="6226"/>
                </a:cubicBezTo>
                <a:cubicBezTo>
                  <a:pt x="11670" y="6279"/>
                  <a:pt x="11708" y="6461"/>
                  <a:pt x="11683" y="6548"/>
                </a:cubicBezTo>
              </a:path>
              <a:path w="2804" h="1018">
                <a:moveTo>
                  <a:pt x="11757" y="6350"/>
                </a:moveTo>
                <a:cubicBezTo>
                  <a:pt x="11757" y="6489"/>
                  <a:pt x="11808" y="6592"/>
                  <a:pt x="11857" y="6722"/>
                </a:cubicBezTo>
                <a:cubicBezTo>
                  <a:pt x="11815" y="6556"/>
                  <a:pt x="11694" y="6325"/>
                  <a:pt x="11832" y="6152"/>
                </a:cubicBezTo>
                <a:cubicBezTo>
                  <a:pt x="11873" y="6135"/>
                  <a:pt x="11915" y="6119"/>
                  <a:pt x="11956" y="6102"/>
                </a:cubicBezTo>
                <a:cubicBezTo>
                  <a:pt x="12045" y="6186"/>
                  <a:pt x="12339" y="6541"/>
                  <a:pt x="11981" y="6548"/>
                </a:cubicBezTo>
                <a:cubicBezTo>
                  <a:pt x="11829" y="6505"/>
                  <a:pt x="11782" y="6510"/>
                  <a:pt x="11757" y="6400"/>
                </a:cubicBezTo>
              </a:path>
              <a:path w="2804" h="1018">
                <a:moveTo>
                  <a:pt x="12254" y="5755"/>
                </a:moveTo>
                <a:cubicBezTo>
                  <a:pt x="12254" y="5572"/>
                  <a:pt x="12273" y="6071"/>
                  <a:pt x="12303" y="6251"/>
                </a:cubicBezTo>
                <a:cubicBezTo>
                  <a:pt x="12340" y="6399"/>
                  <a:pt x="12357" y="6414"/>
                  <a:pt x="12353" y="64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99000" y="2035080"/>
            <a:ext cx="276120" cy="322200"/>
          </a:xfrm>
          <a:custGeom>
            <a:avLst/>
            <a:gdLst/>
            <a:ahLst/>
            <a:rect l="l" t="t" r="r" b="b"/>
            <a:pathLst>
              <a:path w="770" h="894">
                <a:moveTo>
                  <a:pt x="12874" y="6226"/>
                </a:moveTo>
                <a:cubicBezTo>
                  <a:pt x="12973" y="6236"/>
                  <a:pt x="13103" y="6289"/>
                  <a:pt x="13122" y="6176"/>
                </a:cubicBezTo>
                <a:cubicBezTo>
                  <a:pt x="12976" y="6083"/>
                  <a:pt x="12802" y="6051"/>
                  <a:pt x="12774" y="6300"/>
                </a:cubicBezTo>
                <a:cubicBezTo>
                  <a:pt x="12754" y="6481"/>
                  <a:pt x="12877" y="6501"/>
                  <a:pt x="12998" y="6548"/>
                </a:cubicBezTo>
              </a:path>
              <a:path w="770" h="894">
                <a:moveTo>
                  <a:pt x="13395" y="5655"/>
                </a:moveTo>
                <a:cubicBezTo>
                  <a:pt x="13438" y="5894"/>
                  <a:pt x="13510" y="6134"/>
                  <a:pt x="13543" y="6375"/>
                </a:cubicBezTo>
                <a:cubicBezTo>
                  <a:pt x="13543" y="6408"/>
                  <a:pt x="13543" y="6441"/>
                  <a:pt x="13543" y="6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43680" y="2000160"/>
            <a:ext cx="312480" cy="295200"/>
          </a:xfrm>
          <a:custGeom>
            <a:avLst/>
            <a:gdLst/>
            <a:ahLst/>
            <a:rect l="l" t="t" r="r" b="b"/>
            <a:pathLst>
              <a:path w="869" h="820">
                <a:moveTo>
                  <a:pt x="14536" y="5556"/>
                </a:moveTo>
                <a:cubicBezTo>
                  <a:pt x="14634" y="5656"/>
                  <a:pt x="14643" y="6038"/>
                  <a:pt x="14660" y="6201"/>
                </a:cubicBezTo>
                <a:cubicBezTo>
                  <a:pt x="14660" y="6292"/>
                  <a:pt x="14693" y="6333"/>
                  <a:pt x="14635" y="6325"/>
                </a:cubicBezTo>
              </a:path>
              <a:path w="869" h="820">
                <a:moveTo>
                  <a:pt x="14288" y="5978"/>
                </a:moveTo>
                <a:cubicBezTo>
                  <a:pt x="14487" y="5950"/>
                  <a:pt x="14684" y="5919"/>
                  <a:pt x="14883" y="5904"/>
                </a:cubicBezTo>
                <a:cubicBezTo>
                  <a:pt x="14818" y="6075"/>
                  <a:pt x="14759" y="6141"/>
                  <a:pt x="14759" y="6325"/>
                </a:cubicBezTo>
                <a:cubicBezTo>
                  <a:pt x="14878" y="6341"/>
                  <a:pt x="15334" y="6294"/>
                  <a:pt x="15131" y="6028"/>
                </a:cubicBezTo>
                <a:cubicBezTo>
                  <a:pt x="14987" y="5956"/>
                  <a:pt x="14944" y="5931"/>
                  <a:pt x="14833" y="59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26080" y="1973160"/>
            <a:ext cx="411120" cy="473040"/>
          </a:xfrm>
          <a:custGeom>
            <a:avLst/>
            <a:gdLst/>
            <a:ahLst/>
            <a:rect l="l" t="t" r="r" b="b"/>
            <a:pathLst>
              <a:path w="1142" h="1315">
                <a:moveTo>
                  <a:pt x="16098" y="6152"/>
                </a:moveTo>
                <a:cubicBezTo>
                  <a:pt x="16082" y="6055"/>
                  <a:pt x="16044" y="5910"/>
                  <a:pt x="15900" y="5978"/>
                </a:cubicBezTo>
                <a:cubicBezTo>
                  <a:pt x="15679" y="6081"/>
                  <a:pt x="15698" y="6189"/>
                  <a:pt x="15751" y="6350"/>
                </a:cubicBezTo>
                <a:cubicBezTo>
                  <a:pt x="15946" y="6301"/>
                  <a:pt x="15947" y="6294"/>
                  <a:pt x="16024" y="6102"/>
                </a:cubicBezTo>
                <a:cubicBezTo>
                  <a:pt x="16090" y="6256"/>
                  <a:pt x="16277" y="6602"/>
                  <a:pt x="16073" y="6747"/>
                </a:cubicBezTo>
                <a:cubicBezTo>
                  <a:pt x="15682" y="7026"/>
                  <a:pt x="15652" y="6631"/>
                  <a:pt x="15776" y="6400"/>
                </a:cubicBezTo>
              </a:path>
              <a:path w="1142" h="1315">
                <a:moveTo>
                  <a:pt x="16197" y="6176"/>
                </a:moveTo>
                <a:cubicBezTo>
                  <a:pt x="16286" y="6115"/>
                  <a:pt x="16406" y="6083"/>
                  <a:pt x="16421" y="5978"/>
                </a:cubicBezTo>
                <a:cubicBezTo>
                  <a:pt x="16261" y="5941"/>
                  <a:pt x="16131" y="5956"/>
                  <a:pt x="16148" y="6176"/>
                </a:cubicBezTo>
                <a:cubicBezTo>
                  <a:pt x="16183" y="6635"/>
                  <a:pt x="16631" y="6153"/>
                  <a:pt x="16718" y="6052"/>
                </a:cubicBezTo>
              </a:path>
              <a:path w="1142" h="1315">
                <a:moveTo>
                  <a:pt x="16669" y="5507"/>
                </a:moveTo>
                <a:cubicBezTo>
                  <a:pt x="16669" y="5590"/>
                  <a:pt x="16718" y="6001"/>
                  <a:pt x="16743" y="6176"/>
                </a:cubicBezTo>
                <a:cubicBezTo>
                  <a:pt x="16761" y="6267"/>
                  <a:pt x="16770" y="6274"/>
                  <a:pt x="16768" y="63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86680" y="2071800"/>
            <a:ext cx="349200" cy="169920"/>
          </a:xfrm>
          <a:custGeom>
            <a:avLst/>
            <a:gdLst/>
            <a:ahLst/>
            <a:rect l="l" t="t" r="r" b="b"/>
            <a:pathLst>
              <a:path w="969" h="472">
                <a:moveTo>
                  <a:pt x="17983" y="5854"/>
                </a:moveTo>
                <a:cubicBezTo>
                  <a:pt x="17916" y="5923"/>
                  <a:pt x="17956" y="5890"/>
                  <a:pt x="17884" y="5829"/>
                </a:cubicBezTo>
                <a:cubicBezTo>
                  <a:pt x="17679" y="5656"/>
                  <a:pt x="17407" y="5902"/>
                  <a:pt x="17462" y="6152"/>
                </a:cubicBezTo>
                <a:cubicBezTo>
                  <a:pt x="17529" y="6458"/>
                  <a:pt x="17829" y="6004"/>
                  <a:pt x="17859" y="5953"/>
                </a:cubicBezTo>
                <a:cubicBezTo>
                  <a:pt x="17859" y="5961"/>
                  <a:pt x="17859" y="5970"/>
                  <a:pt x="17859" y="5978"/>
                </a:cubicBezTo>
                <a:cubicBezTo>
                  <a:pt x="17993" y="6133"/>
                  <a:pt x="18000" y="6146"/>
                  <a:pt x="18207" y="6127"/>
                </a:cubicBezTo>
                <a:cubicBezTo>
                  <a:pt x="18281" y="6119"/>
                  <a:pt x="18356" y="6110"/>
                  <a:pt x="18430" y="61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96080" y="1874880"/>
            <a:ext cx="1312920" cy="546120"/>
          </a:xfrm>
          <a:custGeom>
            <a:avLst/>
            <a:gdLst/>
            <a:ahLst/>
            <a:rect l="l" t="t" r="r" b="b"/>
            <a:pathLst>
              <a:path w="3648" h="1514">
                <a:moveTo>
                  <a:pt x="18951" y="6028"/>
                </a:moveTo>
                <a:cubicBezTo>
                  <a:pt x="18973" y="6126"/>
                  <a:pt x="19166" y="6652"/>
                  <a:pt x="19124" y="6722"/>
                </a:cubicBezTo>
                <a:cubicBezTo>
                  <a:pt x="19108" y="6722"/>
                  <a:pt x="19091" y="6722"/>
                  <a:pt x="19075" y="6722"/>
                </a:cubicBezTo>
                <a:cubicBezTo>
                  <a:pt x="18944" y="6451"/>
                  <a:pt x="18768" y="6075"/>
                  <a:pt x="18951" y="5779"/>
                </a:cubicBezTo>
                <a:cubicBezTo>
                  <a:pt x="19162" y="5438"/>
                  <a:pt x="19364" y="6070"/>
                  <a:pt x="19372" y="6176"/>
                </a:cubicBezTo>
                <a:cubicBezTo>
                  <a:pt x="19080" y="6220"/>
                  <a:pt x="18878" y="6233"/>
                  <a:pt x="19000" y="5928"/>
                </a:cubicBezTo>
              </a:path>
              <a:path w="3648" h="1514">
                <a:moveTo>
                  <a:pt x="19546" y="5879"/>
                </a:moveTo>
                <a:cubicBezTo>
                  <a:pt x="19562" y="5985"/>
                  <a:pt x="19579" y="6076"/>
                  <a:pt x="19596" y="6176"/>
                </a:cubicBezTo>
                <a:cubicBezTo>
                  <a:pt x="19596" y="6077"/>
                  <a:pt x="19554" y="5824"/>
                  <a:pt x="19645" y="5755"/>
                </a:cubicBezTo>
                <a:cubicBezTo>
                  <a:pt x="19739" y="5683"/>
                  <a:pt x="19864" y="5706"/>
                  <a:pt x="19968" y="5680"/>
                </a:cubicBezTo>
                <a:cubicBezTo>
                  <a:pt x="19935" y="5809"/>
                  <a:pt x="19801" y="5964"/>
                  <a:pt x="19819" y="6102"/>
                </a:cubicBezTo>
                <a:cubicBezTo>
                  <a:pt x="19842" y="6278"/>
                  <a:pt x="20109" y="6123"/>
                  <a:pt x="20166" y="6102"/>
                </a:cubicBezTo>
                <a:cubicBezTo>
                  <a:pt x="20131" y="5884"/>
                  <a:pt x="20101" y="5838"/>
                  <a:pt x="19943" y="5680"/>
                </a:cubicBezTo>
              </a:path>
              <a:path w="3648" h="1514">
                <a:moveTo>
                  <a:pt x="20613" y="5879"/>
                </a:moveTo>
                <a:cubicBezTo>
                  <a:pt x="20592" y="5772"/>
                  <a:pt x="20567" y="5752"/>
                  <a:pt x="20489" y="5680"/>
                </a:cubicBezTo>
                <a:cubicBezTo>
                  <a:pt x="20235" y="5769"/>
                  <a:pt x="20210" y="5897"/>
                  <a:pt x="20241" y="6152"/>
                </a:cubicBezTo>
                <a:cubicBezTo>
                  <a:pt x="20524" y="6176"/>
                  <a:pt x="20690" y="5993"/>
                  <a:pt x="20662" y="5655"/>
                </a:cubicBezTo>
                <a:cubicBezTo>
                  <a:pt x="20637" y="5581"/>
                  <a:pt x="20613" y="5506"/>
                  <a:pt x="20588" y="5432"/>
                </a:cubicBezTo>
              </a:path>
              <a:path w="3648" h="1514">
                <a:moveTo>
                  <a:pt x="20414" y="5209"/>
                </a:moveTo>
                <a:cubicBezTo>
                  <a:pt x="20492" y="5464"/>
                  <a:pt x="20610" y="5711"/>
                  <a:pt x="20662" y="5978"/>
                </a:cubicBezTo>
                <a:cubicBezTo>
                  <a:pt x="20662" y="6036"/>
                  <a:pt x="20646" y="6060"/>
                  <a:pt x="20687" y="6052"/>
                </a:cubicBezTo>
              </a:path>
              <a:path w="3648" h="1514">
                <a:moveTo>
                  <a:pt x="20836" y="5482"/>
                </a:moveTo>
                <a:cubicBezTo>
                  <a:pt x="20836" y="5682"/>
                  <a:pt x="20793" y="5881"/>
                  <a:pt x="20836" y="6077"/>
                </a:cubicBezTo>
                <a:cubicBezTo>
                  <a:pt x="20844" y="6085"/>
                  <a:pt x="20853" y="6094"/>
                  <a:pt x="20861" y="6102"/>
                </a:cubicBezTo>
                <a:cubicBezTo>
                  <a:pt x="21008" y="6037"/>
                  <a:pt x="20973" y="5757"/>
                  <a:pt x="21134" y="5755"/>
                </a:cubicBezTo>
                <a:cubicBezTo>
                  <a:pt x="21301" y="5753"/>
                  <a:pt x="21221" y="6057"/>
                  <a:pt x="21382" y="6102"/>
                </a:cubicBezTo>
              </a:path>
              <a:path w="3648" h="1514">
                <a:moveTo>
                  <a:pt x="21654" y="5705"/>
                </a:moveTo>
                <a:cubicBezTo>
                  <a:pt x="21514" y="5590"/>
                  <a:pt x="21410" y="5740"/>
                  <a:pt x="21357" y="5879"/>
                </a:cubicBezTo>
                <a:cubicBezTo>
                  <a:pt x="21211" y="6262"/>
                  <a:pt x="21707" y="6167"/>
                  <a:pt x="21853" y="5978"/>
                </a:cubicBezTo>
                <a:cubicBezTo>
                  <a:pt x="21894" y="5887"/>
                  <a:pt x="21936" y="5796"/>
                  <a:pt x="21977" y="5705"/>
                </a:cubicBezTo>
              </a:path>
              <a:path w="3648" h="1514">
                <a:moveTo>
                  <a:pt x="21952" y="5209"/>
                </a:moveTo>
                <a:cubicBezTo>
                  <a:pt x="21984" y="5466"/>
                  <a:pt x="22041" y="5722"/>
                  <a:pt x="22076" y="5978"/>
                </a:cubicBezTo>
                <a:cubicBezTo>
                  <a:pt x="22086" y="6051"/>
                  <a:pt x="22086" y="6092"/>
                  <a:pt x="22101" y="6003"/>
                </a:cubicBezTo>
              </a:path>
              <a:path w="3648" h="1514">
                <a:moveTo>
                  <a:pt x="21754" y="5482"/>
                </a:moveTo>
                <a:cubicBezTo>
                  <a:pt x="22011" y="5504"/>
                  <a:pt x="22264" y="5507"/>
                  <a:pt x="22523" y="55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25760" y="2482920"/>
            <a:ext cx="5153040" cy="615960"/>
          </a:xfrm>
          <a:custGeom>
            <a:avLst/>
            <a:gdLst/>
            <a:ahLst/>
            <a:rect l="l" t="t" r="r" b="b"/>
            <a:pathLst>
              <a:path w="14314" h="1712">
                <a:moveTo>
                  <a:pt x="10220" y="7243"/>
                </a:moveTo>
                <a:lnTo>
                  <a:pt x="10220" y="7243"/>
                </a:lnTo>
                <a:lnTo>
                  <a:pt x="10220" y="7243"/>
                </a:lnTo>
              </a:path>
              <a:path w="14314" h="1712">
                <a:moveTo>
                  <a:pt x="10220" y="7243"/>
                </a:moveTo>
                <a:lnTo>
                  <a:pt x="10220" y="7243"/>
                </a:lnTo>
              </a:path>
              <a:path w="14314" h="1712">
                <a:moveTo>
                  <a:pt x="10889" y="7243"/>
                </a:moveTo>
                <a:lnTo>
                  <a:pt x="10889" y="7243"/>
                </a:lnTo>
                <a:lnTo>
                  <a:pt x="10889" y="7243"/>
                </a:lnTo>
              </a:path>
              <a:path w="14314" h="1712">
                <a:moveTo>
                  <a:pt x="10889" y="7243"/>
                </a:moveTo>
                <a:lnTo>
                  <a:pt x="10889" y="7243"/>
                </a:lnTo>
              </a:path>
              <a:path w="14314" h="1712">
                <a:moveTo>
                  <a:pt x="13568" y="7218"/>
                </a:moveTo>
                <a:lnTo>
                  <a:pt x="13568" y="7218"/>
                </a:lnTo>
                <a:lnTo>
                  <a:pt x="13568" y="7218"/>
                </a:lnTo>
              </a:path>
              <a:path w="14314" h="1712">
                <a:moveTo>
                  <a:pt x="13568" y="7218"/>
                </a:moveTo>
                <a:lnTo>
                  <a:pt x="13568" y="7218"/>
                </a:lnTo>
              </a:path>
              <a:path w="14314" h="1712">
                <a:moveTo>
                  <a:pt x="13667" y="7317"/>
                </a:moveTo>
                <a:cubicBezTo>
                  <a:pt x="13900" y="7349"/>
                  <a:pt x="14016" y="7367"/>
                  <a:pt x="14188" y="7218"/>
                </a:cubicBezTo>
              </a:path>
              <a:path w="14314" h="1712">
                <a:moveTo>
                  <a:pt x="18827" y="6896"/>
                </a:moveTo>
                <a:lnTo>
                  <a:pt x="18827" y="6896"/>
                </a:lnTo>
                <a:lnTo>
                  <a:pt x="18827" y="6896"/>
                </a:lnTo>
              </a:path>
              <a:path w="14314" h="1712">
                <a:moveTo>
                  <a:pt x="18827" y="6896"/>
                </a:moveTo>
                <a:lnTo>
                  <a:pt x="18827" y="6896"/>
                </a:lnTo>
              </a:path>
              <a:path w="14314" h="1712">
                <a:moveTo>
                  <a:pt x="4514" y="8607"/>
                </a:moveTo>
                <a:lnTo>
                  <a:pt x="4514" y="860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0960" y="2919240"/>
            <a:ext cx="1293840" cy="81000"/>
          </a:xfrm>
          <a:custGeom>
            <a:avLst/>
            <a:gdLst/>
            <a:ahLst/>
            <a:rect l="l" t="t" r="r" b="b"/>
            <a:pathLst>
              <a:path w="3597" h="224">
                <a:moveTo>
                  <a:pt x="4266" y="8161"/>
                </a:moveTo>
                <a:cubicBezTo>
                  <a:pt x="4281" y="8138"/>
                  <a:pt x="4305" y="8118"/>
                  <a:pt x="4291" y="8161"/>
                </a:cubicBezTo>
                <a:cubicBezTo>
                  <a:pt x="4278" y="8204"/>
                  <a:pt x="4262" y="8253"/>
                  <a:pt x="4316" y="8260"/>
                </a:cubicBezTo>
                <a:cubicBezTo>
                  <a:pt x="4397" y="8270"/>
                  <a:pt x="4386" y="8274"/>
                  <a:pt x="4465" y="8260"/>
                </a:cubicBezTo>
                <a:cubicBezTo>
                  <a:pt x="4590" y="8238"/>
                  <a:pt x="4753" y="8261"/>
                  <a:pt x="4862" y="8285"/>
                </a:cubicBezTo>
                <a:cubicBezTo>
                  <a:pt x="4926" y="8299"/>
                  <a:pt x="4920" y="8314"/>
                  <a:pt x="4961" y="8334"/>
                </a:cubicBezTo>
                <a:cubicBezTo>
                  <a:pt x="4961" y="8268"/>
                  <a:pt x="4947" y="8260"/>
                  <a:pt x="5011" y="8260"/>
                </a:cubicBezTo>
                <a:cubicBezTo>
                  <a:pt x="5073" y="8260"/>
                  <a:pt x="5106" y="8270"/>
                  <a:pt x="5135" y="8285"/>
                </a:cubicBezTo>
                <a:cubicBezTo>
                  <a:pt x="5170" y="8303"/>
                  <a:pt x="5217" y="8310"/>
                  <a:pt x="5259" y="8310"/>
                </a:cubicBezTo>
                <a:cubicBezTo>
                  <a:pt x="5363" y="8310"/>
                  <a:pt x="5489" y="8302"/>
                  <a:pt x="5556" y="8285"/>
                </a:cubicBezTo>
                <a:cubicBezTo>
                  <a:pt x="5621" y="8269"/>
                  <a:pt x="5595" y="8255"/>
                  <a:pt x="5655" y="8235"/>
                </a:cubicBezTo>
                <a:cubicBezTo>
                  <a:pt x="5663" y="8235"/>
                  <a:pt x="5672" y="8235"/>
                  <a:pt x="5680" y="8235"/>
                </a:cubicBezTo>
              </a:path>
              <a:path w="3597" h="224">
                <a:moveTo>
                  <a:pt x="2232" y="8136"/>
                </a:moveTo>
                <a:cubicBezTo>
                  <a:pt x="2337" y="8136"/>
                  <a:pt x="2429" y="8147"/>
                  <a:pt x="2530" y="8161"/>
                </a:cubicBezTo>
                <a:cubicBezTo>
                  <a:pt x="2595" y="8170"/>
                  <a:pt x="2675" y="8178"/>
                  <a:pt x="2729" y="8186"/>
                </a:cubicBezTo>
                <a:cubicBezTo>
                  <a:pt x="2985" y="8223"/>
                  <a:pt x="3301" y="8196"/>
                  <a:pt x="3547" y="8161"/>
                </a:cubicBezTo>
                <a:cubicBezTo>
                  <a:pt x="3616" y="8151"/>
                  <a:pt x="3682" y="8139"/>
                  <a:pt x="3746" y="8136"/>
                </a:cubicBezTo>
                <a:cubicBezTo>
                  <a:pt x="3821" y="8133"/>
                  <a:pt x="3901" y="8101"/>
                  <a:pt x="3969" y="8111"/>
                </a:cubicBezTo>
                <a:cubicBezTo>
                  <a:pt x="4048" y="8123"/>
                  <a:pt x="4133" y="8152"/>
                  <a:pt x="4217" y="8136"/>
                </a:cubicBezTo>
                <a:cubicBezTo>
                  <a:pt x="4242" y="8128"/>
                  <a:pt x="4266" y="8119"/>
                  <a:pt x="4291" y="8111"/>
                </a:cubicBezTo>
                <a:cubicBezTo>
                  <a:pt x="3960" y="8111"/>
                  <a:pt x="3624" y="8101"/>
                  <a:pt x="3299" y="8136"/>
                </a:cubicBezTo>
                <a:cubicBezTo>
                  <a:pt x="3188" y="8148"/>
                  <a:pt x="3086" y="8178"/>
                  <a:pt x="2977" y="8210"/>
                </a:cubicBezTo>
                <a:cubicBezTo>
                  <a:pt x="2902" y="8232"/>
                  <a:pt x="2850" y="8245"/>
                  <a:pt x="2778" y="8260"/>
                </a:cubicBezTo>
                <a:cubicBezTo>
                  <a:pt x="2681" y="8280"/>
                  <a:pt x="2574" y="8298"/>
                  <a:pt x="2480" y="8310"/>
                </a:cubicBezTo>
                <a:cubicBezTo>
                  <a:pt x="2353" y="8327"/>
                  <a:pt x="2213" y="8310"/>
                  <a:pt x="2084" y="8310"/>
                </a:cubicBezTo>
                <a:cubicBezTo>
                  <a:pt x="2160" y="8279"/>
                  <a:pt x="2236" y="8249"/>
                  <a:pt x="2332" y="8260"/>
                </a:cubicBezTo>
                <a:cubicBezTo>
                  <a:pt x="2428" y="8271"/>
                  <a:pt x="2506" y="8285"/>
                  <a:pt x="2604" y="8285"/>
                </a:cubicBezTo>
                <a:cubicBezTo>
                  <a:pt x="2656" y="8285"/>
                  <a:pt x="2674" y="8286"/>
                  <a:pt x="2704" y="83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46200" y="2463840"/>
            <a:ext cx="2822760" cy="430200"/>
          </a:xfrm>
          <a:custGeom>
            <a:avLst/>
            <a:gdLst/>
            <a:ahLst/>
            <a:rect l="l" t="t" r="r" b="b"/>
            <a:pathLst>
              <a:path w="7840" h="1192">
                <a:moveTo>
                  <a:pt x="7119" y="7665"/>
                </a:moveTo>
                <a:cubicBezTo>
                  <a:pt x="7144" y="7714"/>
                  <a:pt x="7125" y="7570"/>
                  <a:pt x="7045" y="7541"/>
                </a:cubicBezTo>
                <a:cubicBezTo>
                  <a:pt x="7012" y="7541"/>
                  <a:pt x="6978" y="7541"/>
                  <a:pt x="6945" y="7541"/>
                </a:cubicBezTo>
                <a:cubicBezTo>
                  <a:pt x="6873" y="7661"/>
                  <a:pt x="6637" y="8021"/>
                  <a:pt x="6945" y="8012"/>
                </a:cubicBezTo>
                <a:cubicBezTo>
                  <a:pt x="7116" y="8007"/>
                  <a:pt x="7105" y="7784"/>
                  <a:pt x="7069" y="7689"/>
                </a:cubicBezTo>
                <a:cubicBezTo>
                  <a:pt x="7083" y="7799"/>
                  <a:pt x="7135" y="7914"/>
                  <a:pt x="7193" y="8012"/>
                </a:cubicBezTo>
                <a:cubicBezTo>
                  <a:pt x="7223" y="8042"/>
                  <a:pt x="7234" y="8044"/>
                  <a:pt x="7243" y="7987"/>
                </a:cubicBezTo>
              </a:path>
              <a:path w="7840" h="1192">
                <a:moveTo>
                  <a:pt x="7193" y="7417"/>
                </a:moveTo>
                <a:cubicBezTo>
                  <a:pt x="7230" y="7587"/>
                  <a:pt x="7259" y="7763"/>
                  <a:pt x="7342" y="7913"/>
                </a:cubicBezTo>
                <a:cubicBezTo>
                  <a:pt x="7328" y="7799"/>
                  <a:pt x="7288" y="7622"/>
                  <a:pt x="7491" y="7689"/>
                </a:cubicBezTo>
                <a:cubicBezTo>
                  <a:pt x="7583" y="7759"/>
                  <a:pt x="7616" y="7776"/>
                  <a:pt x="7590" y="7863"/>
                </a:cubicBezTo>
                <a:cubicBezTo>
                  <a:pt x="7500" y="7981"/>
                  <a:pt x="7434" y="8050"/>
                  <a:pt x="7342" y="7913"/>
                </a:cubicBezTo>
              </a:path>
              <a:path w="7840" h="1192">
                <a:moveTo>
                  <a:pt x="7615" y="7342"/>
                </a:moveTo>
                <a:cubicBezTo>
                  <a:pt x="7655" y="7518"/>
                  <a:pt x="7690" y="7709"/>
                  <a:pt x="7739" y="7888"/>
                </a:cubicBezTo>
                <a:cubicBezTo>
                  <a:pt x="7759" y="7929"/>
                  <a:pt x="7768" y="7956"/>
                  <a:pt x="7764" y="7913"/>
                </a:cubicBezTo>
              </a:path>
              <a:path w="7840" h="1192">
                <a:moveTo>
                  <a:pt x="7913" y="7714"/>
                </a:moveTo>
                <a:cubicBezTo>
                  <a:pt x="7996" y="7706"/>
                  <a:pt x="8077" y="7689"/>
                  <a:pt x="8161" y="7689"/>
                </a:cubicBezTo>
                <a:cubicBezTo>
                  <a:pt x="8145" y="7627"/>
                  <a:pt x="8069" y="7552"/>
                  <a:pt x="8012" y="7516"/>
                </a:cubicBezTo>
                <a:cubicBezTo>
                  <a:pt x="7907" y="7449"/>
                  <a:pt x="7852" y="7792"/>
                  <a:pt x="7863" y="7838"/>
                </a:cubicBezTo>
                <a:cubicBezTo>
                  <a:pt x="7887" y="7941"/>
                  <a:pt x="8032" y="7991"/>
                  <a:pt x="8086" y="7938"/>
                </a:cubicBezTo>
                <a:cubicBezTo>
                  <a:pt x="8124" y="7900"/>
                  <a:pt x="8147" y="7882"/>
                  <a:pt x="8186" y="7863"/>
                </a:cubicBezTo>
              </a:path>
              <a:path w="7840" h="1192">
                <a:moveTo>
                  <a:pt x="8682" y="7218"/>
                </a:moveTo>
                <a:cubicBezTo>
                  <a:pt x="8750" y="7423"/>
                  <a:pt x="8813" y="7627"/>
                  <a:pt x="8855" y="7838"/>
                </a:cubicBezTo>
              </a:path>
              <a:path w="7840" h="1192">
                <a:moveTo>
                  <a:pt x="8533" y="7590"/>
                </a:moveTo>
                <a:cubicBezTo>
                  <a:pt x="8703" y="7553"/>
                  <a:pt x="8855" y="7525"/>
                  <a:pt x="9029" y="7516"/>
                </a:cubicBezTo>
                <a:cubicBezTo>
                  <a:pt x="8999" y="7592"/>
                  <a:pt x="8871" y="7787"/>
                  <a:pt x="9004" y="7838"/>
                </a:cubicBezTo>
                <a:cubicBezTo>
                  <a:pt x="9132" y="7887"/>
                  <a:pt x="9208" y="7764"/>
                  <a:pt x="9277" y="7689"/>
                </a:cubicBezTo>
                <a:cubicBezTo>
                  <a:pt x="9187" y="7550"/>
                  <a:pt x="9171" y="7541"/>
                  <a:pt x="9004" y="7541"/>
                </a:cubicBezTo>
              </a:path>
              <a:path w="7840" h="1192">
                <a:moveTo>
                  <a:pt x="9971" y="7541"/>
                </a:moveTo>
                <a:cubicBezTo>
                  <a:pt x="9996" y="7541"/>
                  <a:pt x="10059" y="7558"/>
                  <a:pt x="10046" y="7516"/>
                </a:cubicBezTo>
                <a:cubicBezTo>
                  <a:pt x="10013" y="7408"/>
                  <a:pt x="9879" y="7369"/>
                  <a:pt x="9798" y="7466"/>
                </a:cubicBezTo>
                <a:cubicBezTo>
                  <a:pt x="9731" y="7546"/>
                  <a:pt x="9614" y="7866"/>
                  <a:pt x="9847" y="7838"/>
                </a:cubicBezTo>
                <a:cubicBezTo>
                  <a:pt x="10036" y="7815"/>
                  <a:pt x="10006" y="7644"/>
                  <a:pt x="10021" y="7516"/>
                </a:cubicBezTo>
              </a:path>
              <a:path w="7840" h="1192">
                <a:moveTo>
                  <a:pt x="9872" y="7193"/>
                </a:moveTo>
                <a:cubicBezTo>
                  <a:pt x="9911" y="7350"/>
                  <a:pt x="9968" y="7510"/>
                  <a:pt x="10021" y="7665"/>
                </a:cubicBezTo>
                <a:cubicBezTo>
                  <a:pt x="10057" y="7768"/>
                  <a:pt x="10045" y="7744"/>
                  <a:pt x="10145" y="7714"/>
                </a:cubicBezTo>
              </a:path>
              <a:path w="7840" h="1192">
                <a:moveTo>
                  <a:pt x="10319" y="7417"/>
                </a:moveTo>
                <a:cubicBezTo>
                  <a:pt x="10328" y="7489"/>
                  <a:pt x="10330" y="7667"/>
                  <a:pt x="10393" y="7714"/>
                </a:cubicBezTo>
                <a:cubicBezTo>
                  <a:pt x="10393" y="7647"/>
                  <a:pt x="10386" y="7598"/>
                  <a:pt x="10368" y="7541"/>
                </a:cubicBezTo>
              </a:path>
              <a:path w="7840" h="1192">
                <a:moveTo>
                  <a:pt x="10517" y="7342"/>
                </a:moveTo>
                <a:cubicBezTo>
                  <a:pt x="10569" y="7480"/>
                  <a:pt x="10664" y="7580"/>
                  <a:pt x="10765" y="7689"/>
                </a:cubicBezTo>
                <a:cubicBezTo>
                  <a:pt x="10777" y="7585"/>
                  <a:pt x="10794" y="7458"/>
                  <a:pt x="10815" y="7367"/>
                </a:cubicBezTo>
                <a:cubicBezTo>
                  <a:pt x="10815" y="7359"/>
                  <a:pt x="10815" y="7350"/>
                  <a:pt x="10815" y="7342"/>
                </a:cubicBezTo>
              </a:path>
              <a:path w="7840" h="1192">
                <a:moveTo>
                  <a:pt x="11013" y="7367"/>
                </a:moveTo>
                <a:cubicBezTo>
                  <a:pt x="11013" y="7467"/>
                  <a:pt x="11016" y="7544"/>
                  <a:pt x="11038" y="7640"/>
                </a:cubicBezTo>
              </a:path>
              <a:path w="7840" h="1192">
                <a:moveTo>
                  <a:pt x="11485" y="7516"/>
                </a:moveTo>
                <a:cubicBezTo>
                  <a:pt x="11508" y="7492"/>
                  <a:pt x="11470" y="7438"/>
                  <a:pt x="11435" y="7392"/>
                </a:cubicBezTo>
                <a:cubicBezTo>
                  <a:pt x="11359" y="7292"/>
                  <a:pt x="11176" y="7479"/>
                  <a:pt x="11162" y="7565"/>
                </a:cubicBezTo>
                <a:cubicBezTo>
                  <a:pt x="11115" y="7858"/>
                  <a:pt x="11415" y="7680"/>
                  <a:pt x="11485" y="7615"/>
                </a:cubicBezTo>
              </a:path>
              <a:path w="7840" h="1192">
                <a:moveTo>
                  <a:pt x="11410" y="6970"/>
                </a:moveTo>
                <a:cubicBezTo>
                  <a:pt x="11441" y="7124"/>
                  <a:pt x="11482" y="7265"/>
                  <a:pt x="11534" y="7417"/>
                </a:cubicBezTo>
                <a:cubicBezTo>
                  <a:pt x="11576" y="7541"/>
                  <a:pt x="11557" y="7751"/>
                  <a:pt x="11658" y="7615"/>
                </a:cubicBezTo>
              </a:path>
              <a:path w="7840" h="1192">
                <a:moveTo>
                  <a:pt x="11757" y="7466"/>
                </a:moveTo>
                <a:cubicBezTo>
                  <a:pt x="11810" y="7455"/>
                  <a:pt x="11849" y="7441"/>
                  <a:pt x="11906" y="7441"/>
                </a:cubicBezTo>
                <a:cubicBezTo>
                  <a:pt x="11898" y="7394"/>
                  <a:pt x="11883" y="7289"/>
                  <a:pt x="11807" y="7293"/>
                </a:cubicBezTo>
                <a:cubicBezTo>
                  <a:pt x="11663" y="7301"/>
                  <a:pt x="11696" y="7493"/>
                  <a:pt x="11757" y="7565"/>
                </a:cubicBezTo>
                <a:cubicBezTo>
                  <a:pt x="11857" y="7684"/>
                  <a:pt x="11953" y="7633"/>
                  <a:pt x="12080" y="7615"/>
                </a:cubicBezTo>
              </a:path>
              <a:path w="7840" h="1192">
                <a:moveTo>
                  <a:pt x="12725" y="6846"/>
                </a:moveTo>
                <a:cubicBezTo>
                  <a:pt x="12609" y="7108"/>
                  <a:pt x="12447" y="7365"/>
                  <a:pt x="12601" y="7640"/>
                </a:cubicBezTo>
                <a:cubicBezTo>
                  <a:pt x="12656" y="7738"/>
                  <a:pt x="12663" y="7735"/>
                  <a:pt x="12725" y="7714"/>
                </a:cubicBezTo>
              </a:path>
              <a:path w="7840" h="1192">
                <a:moveTo>
                  <a:pt x="12824" y="7293"/>
                </a:moveTo>
                <a:cubicBezTo>
                  <a:pt x="12813" y="7380"/>
                  <a:pt x="12732" y="7609"/>
                  <a:pt x="12849" y="7665"/>
                </a:cubicBezTo>
                <a:cubicBezTo>
                  <a:pt x="12960" y="7718"/>
                  <a:pt x="13045" y="7446"/>
                  <a:pt x="13072" y="7392"/>
                </a:cubicBezTo>
                <a:cubicBezTo>
                  <a:pt x="13072" y="7384"/>
                  <a:pt x="13072" y="7375"/>
                  <a:pt x="13072" y="7367"/>
                </a:cubicBezTo>
                <a:cubicBezTo>
                  <a:pt x="13085" y="7508"/>
                  <a:pt x="13126" y="7690"/>
                  <a:pt x="13320" y="7590"/>
                </a:cubicBezTo>
                <a:cubicBezTo>
                  <a:pt x="13443" y="7526"/>
                  <a:pt x="13376" y="7300"/>
                  <a:pt x="13246" y="7293"/>
                </a:cubicBezTo>
                <a:cubicBezTo>
                  <a:pt x="13229" y="7301"/>
                  <a:pt x="13213" y="7309"/>
                  <a:pt x="13196" y="7317"/>
                </a:cubicBezTo>
              </a:path>
              <a:path w="7840" h="1192">
                <a:moveTo>
                  <a:pt x="13643" y="7367"/>
                </a:moveTo>
                <a:cubicBezTo>
                  <a:pt x="13657" y="7483"/>
                  <a:pt x="13657" y="7549"/>
                  <a:pt x="13643" y="7665"/>
                </a:cubicBezTo>
              </a:path>
              <a:path w="7840" h="1192">
                <a:moveTo>
                  <a:pt x="13841" y="6970"/>
                </a:moveTo>
                <a:cubicBezTo>
                  <a:pt x="13934" y="7166"/>
                  <a:pt x="14001" y="7350"/>
                  <a:pt x="14039" y="7565"/>
                </a:cubicBezTo>
                <a:cubicBezTo>
                  <a:pt x="14039" y="7590"/>
                  <a:pt x="14039" y="7598"/>
                  <a:pt x="14039" y="7565"/>
                </a:cubicBezTo>
              </a:path>
              <a:path w="7840" h="1192">
                <a:moveTo>
                  <a:pt x="14139" y="7020"/>
                </a:moveTo>
                <a:cubicBezTo>
                  <a:pt x="14208" y="7178"/>
                  <a:pt x="14282" y="7325"/>
                  <a:pt x="14337" y="7491"/>
                </a:cubicBezTo>
                <a:cubicBezTo>
                  <a:pt x="14326" y="7391"/>
                  <a:pt x="14250" y="7178"/>
                  <a:pt x="14436" y="7193"/>
                </a:cubicBezTo>
                <a:cubicBezTo>
                  <a:pt x="14651" y="7210"/>
                  <a:pt x="14642" y="7390"/>
                  <a:pt x="14610" y="7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73800" y="2286000"/>
            <a:ext cx="2063520" cy="428760"/>
          </a:xfrm>
          <a:custGeom>
            <a:avLst/>
            <a:gdLst/>
            <a:ahLst/>
            <a:rect l="l" t="t" r="r" b="b"/>
            <a:pathLst>
              <a:path w="5731" h="1192">
                <a:moveTo>
                  <a:pt x="15205" y="7243"/>
                </a:moveTo>
                <a:cubicBezTo>
                  <a:pt x="15238" y="7334"/>
                  <a:pt x="15272" y="7425"/>
                  <a:pt x="15304" y="7516"/>
                </a:cubicBezTo>
                <a:cubicBezTo>
                  <a:pt x="15289" y="7393"/>
                  <a:pt x="15246" y="7244"/>
                  <a:pt x="15354" y="7144"/>
                </a:cubicBezTo>
                <a:cubicBezTo>
                  <a:pt x="15529" y="6981"/>
                  <a:pt x="15671" y="7285"/>
                  <a:pt x="15701" y="7417"/>
                </a:cubicBezTo>
                <a:cubicBezTo>
                  <a:pt x="15701" y="7450"/>
                  <a:pt x="15701" y="7483"/>
                  <a:pt x="15701" y="7516"/>
                </a:cubicBezTo>
              </a:path>
              <a:path w="5731" h="1192">
                <a:moveTo>
                  <a:pt x="15949" y="7169"/>
                </a:moveTo>
                <a:cubicBezTo>
                  <a:pt x="15839" y="7266"/>
                  <a:pt x="15846" y="7300"/>
                  <a:pt x="15825" y="7441"/>
                </a:cubicBezTo>
                <a:cubicBezTo>
                  <a:pt x="15956" y="7546"/>
                  <a:pt x="16222" y="7609"/>
                  <a:pt x="16247" y="7317"/>
                </a:cubicBezTo>
                <a:cubicBezTo>
                  <a:pt x="16263" y="7129"/>
                  <a:pt x="16054" y="7174"/>
                  <a:pt x="15949" y="7169"/>
                </a:cubicBezTo>
              </a:path>
              <a:path w="5731" h="1192">
                <a:moveTo>
                  <a:pt x="16694" y="7119"/>
                </a:moveTo>
                <a:cubicBezTo>
                  <a:pt x="16748" y="7219"/>
                  <a:pt x="16796" y="7314"/>
                  <a:pt x="16842" y="7417"/>
                </a:cubicBezTo>
                <a:cubicBezTo>
                  <a:pt x="16842" y="7483"/>
                  <a:pt x="16790" y="7206"/>
                  <a:pt x="16793" y="7169"/>
                </a:cubicBezTo>
                <a:cubicBezTo>
                  <a:pt x="16806" y="7015"/>
                  <a:pt x="16998" y="7035"/>
                  <a:pt x="17090" y="7069"/>
                </a:cubicBezTo>
              </a:path>
              <a:path w="5731" h="1192">
                <a:moveTo>
                  <a:pt x="17190" y="7193"/>
                </a:moveTo>
                <a:cubicBezTo>
                  <a:pt x="17245" y="7193"/>
                  <a:pt x="17371" y="7219"/>
                  <a:pt x="17388" y="7169"/>
                </a:cubicBezTo>
                <a:cubicBezTo>
                  <a:pt x="17374" y="7072"/>
                  <a:pt x="17266" y="7050"/>
                  <a:pt x="17190" y="7144"/>
                </a:cubicBezTo>
                <a:cubicBezTo>
                  <a:pt x="17141" y="7265"/>
                  <a:pt x="17125" y="7303"/>
                  <a:pt x="17140" y="7392"/>
                </a:cubicBezTo>
                <a:cubicBezTo>
                  <a:pt x="17319" y="7451"/>
                  <a:pt x="17322" y="7419"/>
                  <a:pt x="17487" y="7317"/>
                </a:cubicBezTo>
              </a:path>
              <a:path w="5731" h="1192">
                <a:moveTo>
                  <a:pt x="17462" y="7119"/>
                </a:moveTo>
                <a:cubicBezTo>
                  <a:pt x="17464" y="7150"/>
                  <a:pt x="17508" y="7391"/>
                  <a:pt x="17487" y="7342"/>
                </a:cubicBezTo>
                <a:cubicBezTo>
                  <a:pt x="17479" y="7326"/>
                  <a:pt x="17470" y="7309"/>
                  <a:pt x="17462" y="7293"/>
                </a:cubicBezTo>
                <a:cubicBezTo>
                  <a:pt x="17443" y="7147"/>
                  <a:pt x="17478" y="7007"/>
                  <a:pt x="17686" y="7119"/>
                </a:cubicBezTo>
                <a:cubicBezTo>
                  <a:pt x="17755" y="7156"/>
                  <a:pt x="17823" y="7347"/>
                  <a:pt x="17810" y="7317"/>
                </a:cubicBezTo>
                <a:cubicBezTo>
                  <a:pt x="17802" y="7301"/>
                  <a:pt x="17793" y="7284"/>
                  <a:pt x="17785" y="7268"/>
                </a:cubicBezTo>
                <a:cubicBezTo>
                  <a:pt x="17810" y="7110"/>
                  <a:pt x="17809" y="7099"/>
                  <a:pt x="17934" y="6995"/>
                </a:cubicBezTo>
                <a:cubicBezTo>
                  <a:pt x="18094" y="7102"/>
                  <a:pt x="18100" y="7200"/>
                  <a:pt x="18107" y="7392"/>
                </a:cubicBezTo>
                <a:cubicBezTo>
                  <a:pt x="18107" y="7400"/>
                  <a:pt x="18107" y="7409"/>
                  <a:pt x="18107" y="7417"/>
                </a:cubicBezTo>
              </a:path>
              <a:path w="5731" h="1192">
                <a:moveTo>
                  <a:pt x="18628" y="7218"/>
                </a:moveTo>
                <a:cubicBezTo>
                  <a:pt x="18587" y="7117"/>
                  <a:pt x="18544" y="7006"/>
                  <a:pt x="18405" y="7045"/>
                </a:cubicBezTo>
                <a:cubicBezTo>
                  <a:pt x="18208" y="7100"/>
                  <a:pt x="18216" y="7322"/>
                  <a:pt x="18405" y="7367"/>
                </a:cubicBezTo>
                <a:cubicBezTo>
                  <a:pt x="18540" y="7399"/>
                  <a:pt x="18566" y="7284"/>
                  <a:pt x="18628" y="7193"/>
                </a:cubicBezTo>
                <a:cubicBezTo>
                  <a:pt x="18578" y="7074"/>
                  <a:pt x="18546" y="7146"/>
                  <a:pt x="18604" y="7218"/>
                </a:cubicBezTo>
                <a:cubicBezTo>
                  <a:pt x="18705" y="7342"/>
                  <a:pt x="18757" y="7307"/>
                  <a:pt x="18876" y="7268"/>
                </a:cubicBezTo>
              </a:path>
              <a:path w="5731" h="1192">
                <a:moveTo>
                  <a:pt x="18876" y="7020"/>
                </a:moveTo>
                <a:cubicBezTo>
                  <a:pt x="18876" y="7125"/>
                  <a:pt x="18849" y="7246"/>
                  <a:pt x="18901" y="7342"/>
                </a:cubicBezTo>
                <a:cubicBezTo>
                  <a:pt x="18955" y="7342"/>
                  <a:pt x="18976" y="7316"/>
                  <a:pt x="18976" y="7243"/>
                </a:cubicBezTo>
              </a:path>
              <a:path w="5731" h="1192">
                <a:moveTo>
                  <a:pt x="19174" y="7144"/>
                </a:moveTo>
                <a:cubicBezTo>
                  <a:pt x="19192" y="7194"/>
                  <a:pt x="19214" y="7243"/>
                  <a:pt x="19224" y="7293"/>
                </a:cubicBezTo>
                <a:cubicBezTo>
                  <a:pt x="19224" y="7234"/>
                  <a:pt x="19188" y="7029"/>
                  <a:pt x="19248" y="6995"/>
                </a:cubicBezTo>
                <a:cubicBezTo>
                  <a:pt x="19416" y="6900"/>
                  <a:pt x="19461" y="7075"/>
                  <a:pt x="19472" y="7193"/>
                </a:cubicBezTo>
                <a:cubicBezTo>
                  <a:pt x="19472" y="7255"/>
                  <a:pt x="19481" y="7270"/>
                  <a:pt x="19447" y="7293"/>
                </a:cubicBezTo>
              </a:path>
              <a:path w="5731" h="1192">
                <a:moveTo>
                  <a:pt x="19869" y="7045"/>
                </a:moveTo>
                <a:cubicBezTo>
                  <a:pt x="19858" y="6945"/>
                  <a:pt x="19796" y="6844"/>
                  <a:pt x="19670" y="6871"/>
                </a:cubicBezTo>
                <a:cubicBezTo>
                  <a:pt x="19501" y="6908"/>
                  <a:pt x="19506" y="7098"/>
                  <a:pt x="19521" y="7218"/>
                </a:cubicBezTo>
                <a:cubicBezTo>
                  <a:pt x="19745" y="7271"/>
                  <a:pt x="19703" y="7236"/>
                  <a:pt x="19869" y="7045"/>
                </a:cubicBezTo>
              </a:path>
              <a:path w="5731" h="1192">
                <a:moveTo>
                  <a:pt x="19695" y="6548"/>
                </a:moveTo>
                <a:cubicBezTo>
                  <a:pt x="19695" y="6719"/>
                  <a:pt x="19714" y="6882"/>
                  <a:pt x="19769" y="7045"/>
                </a:cubicBezTo>
                <a:cubicBezTo>
                  <a:pt x="19806" y="7118"/>
                  <a:pt x="19823" y="7123"/>
                  <a:pt x="19819" y="7169"/>
                </a:cubicBezTo>
              </a:path>
              <a:path w="5731" h="1192">
                <a:moveTo>
                  <a:pt x="20042" y="6945"/>
                </a:moveTo>
                <a:cubicBezTo>
                  <a:pt x="20101" y="6928"/>
                  <a:pt x="20156" y="6908"/>
                  <a:pt x="20216" y="6896"/>
                </a:cubicBezTo>
                <a:cubicBezTo>
                  <a:pt x="20084" y="6843"/>
                  <a:pt x="19969" y="6822"/>
                  <a:pt x="19918" y="6995"/>
                </a:cubicBezTo>
                <a:cubicBezTo>
                  <a:pt x="19918" y="7095"/>
                  <a:pt x="19918" y="7129"/>
                  <a:pt x="19943" y="7193"/>
                </a:cubicBezTo>
                <a:cubicBezTo>
                  <a:pt x="20124" y="7216"/>
                  <a:pt x="20118" y="7195"/>
                  <a:pt x="20290" y="7094"/>
                </a:cubicBezTo>
              </a:path>
              <a:path w="5731" h="1192">
                <a:moveTo>
                  <a:pt x="20340" y="6970"/>
                </a:moveTo>
                <a:cubicBezTo>
                  <a:pt x="20330" y="6995"/>
                  <a:pt x="20315" y="7125"/>
                  <a:pt x="20315" y="7069"/>
                </a:cubicBezTo>
                <a:cubicBezTo>
                  <a:pt x="20315" y="6949"/>
                  <a:pt x="20352" y="6825"/>
                  <a:pt x="20489" y="6796"/>
                </a:cubicBezTo>
                <a:cubicBezTo>
                  <a:pt x="20514" y="6796"/>
                  <a:pt x="20538" y="6796"/>
                  <a:pt x="20563" y="6796"/>
                </a:cubicBezTo>
              </a:path>
              <a:path w="5731" h="1192">
                <a:moveTo>
                  <a:pt x="20613" y="6350"/>
                </a:moveTo>
                <a:cubicBezTo>
                  <a:pt x="20741" y="6427"/>
                  <a:pt x="20869" y="6698"/>
                  <a:pt x="20910" y="6846"/>
                </a:cubicBezTo>
                <a:cubicBezTo>
                  <a:pt x="20937" y="6945"/>
                  <a:pt x="20958" y="7278"/>
                  <a:pt x="20811" y="7317"/>
                </a:cubicBezTo>
                <a:cubicBezTo>
                  <a:pt x="20795" y="7317"/>
                  <a:pt x="20778" y="7317"/>
                  <a:pt x="20762" y="7317"/>
                </a:cubicBezTo>
              </a:path>
              <a:path w="5731" h="1192">
                <a:moveTo>
                  <a:pt x="19968" y="7045"/>
                </a:moveTo>
                <a:cubicBezTo>
                  <a:pt x="19968" y="7012"/>
                  <a:pt x="20033" y="7003"/>
                  <a:pt x="20067" y="69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68800" y="2803680"/>
            <a:ext cx="3581280" cy="403200"/>
          </a:xfrm>
          <a:custGeom>
            <a:avLst/>
            <a:gdLst/>
            <a:ahLst/>
            <a:rect l="l" t="t" r="r" b="b"/>
            <a:pathLst>
              <a:path w="9947" h="1117">
                <a:moveTo>
                  <a:pt x="9079" y="8434"/>
                </a:moveTo>
                <a:cubicBezTo>
                  <a:pt x="9131" y="8596"/>
                  <a:pt x="9182" y="8739"/>
                  <a:pt x="9203" y="8905"/>
                </a:cubicBezTo>
              </a:path>
              <a:path w="9947" h="1117">
                <a:moveTo>
                  <a:pt x="12973" y="8558"/>
                </a:moveTo>
                <a:cubicBezTo>
                  <a:pt x="12891" y="8476"/>
                  <a:pt x="12717" y="8501"/>
                  <a:pt x="12626" y="8607"/>
                </a:cubicBezTo>
                <a:cubicBezTo>
                  <a:pt x="12405" y="8864"/>
                  <a:pt x="12812" y="8779"/>
                  <a:pt x="12898" y="8731"/>
                </a:cubicBezTo>
              </a:path>
              <a:path w="9947" h="1117">
                <a:moveTo>
                  <a:pt x="13643" y="8210"/>
                </a:moveTo>
                <a:cubicBezTo>
                  <a:pt x="13643" y="8202"/>
                  <a:pt x="13643" y="8194"/>
                  <a:pt x="13643" y="8186"/>
                </a:cubicBezTo>
              </a:path>
              <a:path w="9947" h="1117">
                <a:moveTo>
                  <a:pt x="13643" y="8186"/>
                </a:moveTo>
                <a:lnTo>
                  <a:pt x="13643" y="8186"/>
                </a:lnTo>
              </a:path>
              <a:path w="9947" h="1117">
                <a:moveTo>
                  <a:pt x="14461" y="8210"/>
                </a:moveTo>
                <a:lnTo>
                  <a:pt x="14461" y="8210"/>
                </a:lnTo>
                <a:lnTo>
                  <a:pt x="14461" y="8210"/>
                </a:lnTo>
              </a:path>
              <a:path w="9947" h="1117">
                <a:moveTo>
                  <a:pt x="14461" y="8210"/>
                </a:moveTo>
                <a:lnTo>
                  <a:pt x="14461" y="8210"/>
                </a:lnTo>
              </a:path>
              <a:path w="9947" h="1117">
                <a:moveTo>
                  <a:pt x="18802" y="7789"/>
                </a:moveTo>
                <a:cubicBezTo>
                  <a:pt x="18876" y="7980"/>
                  <a:pt x="18951" y="8169"/>
                  <a:pt x="19025" y="83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1880" y="3152880"/>
            <a:ext cx="1019160" cy="214200"/>
          </a:xfrm>
          <a:custGeom>
            <a:avLst/>
            <a:gdLst/>
            <a:ahLst/>
            <a:rect l="l" t="t" r="r" b="b"/>
            <a:pathLst>
              <a:path w="2829" h="596">
                <a:moveTo>
                  <a:pt x="5705" y="9004"/>
                </a:moveTo>
                <a:cubicBezTo>
                  <a:pt x="5705" y="8914"/>
                  <a:pt x="5544" y="8882"/>
                  <a:pt x="5432" y="8954"/>
                </a:cubicBezTo>
                <a:cubicBezTo>
                  <a:pt x="5292" y="9044"/>
                  <a:pt x="5190" y="9332"/>
                  <a:pt x="5432" y="9351"/>
                </a:cubicBezTo>
                <a:cubicBezTo>
                  <a:pt x="5622" y="9366"/>
                  <a:pt x="5606" y="9211"/>
                  <a:pt x="5606" y="9079"/>
                </a:cubicBezTo>
                <a:cubicBezTo>
                  <a:pt x="5643" y="9151"/>
                  <a:pt x="5731" y="9336"/>
                  <a:pt x="5804" y="9227"/>
                </a:cubicBezTo>
                <a:cubicBezTo>
                  <a:pt x="5821" y="9194"/>
                  <a:pt x="5837" y="9161"/>
                  <a:pt x="5854" y="9128"/>
                </a:cubicBezTo>
              </a:path>
              <a:path w="2829" h="596">
                <a:moveTo>
                  <a:pt x="5854" y="9054"/>
                </a:moveTo>
                <a:cubicBezTo>
                  <a:pt x="5855" y="9061"/>
                  <a:pt x="5904" y="9351"/>
                  <a:pt x="5904" y="9277"/>
                </a:cubicBezTo>
                <a:cubicBezTo>
                  <a:pt x="5877" y="9182"/>
                  <a:pt x="5862" y="9121"/>
                  <a:pt x="5879" y="9029"/>
                </a:cubicBezTo>
                <a:cubicBezTo>
                  <a:pt x="6027" y="8973"/>
                  <a:pt x="6104" y="9013"/>
                  <a:pt x="6176" y="9153"/>
                </a:cubicBezTo>
                <a:cubicBezTo>
                  <a:pt x="6198" y="9218"/>
                  <a:pt x="6206" y="9233"/>
                  <a:pt x="6201" y="9277"/>
                </a:cubicBezTo>
              </a:path>
              <a:path w="2829" h="596">
                <a:moveTo>
                  <a:pt x="6474" y="9004"/>
                </a:moveTo>
                <a:cubicBezTo>
                  <a:pt x="6408" y="9011"/>
                  <a:pt x="6361" y="9027"/>
                  <a:pt x="6300" y="9054"/>
                </a:cubicBezTo>
                <a:cubicBezTo>
                  <a:pt x="6418" y="9054"/>
                  <a:pt x="6552" y="9080"/>
                  <a:pt x="6648" y="9153"/>
                </a:cubicBezTo>
                <a:cubicBezTo>
                  <a:pt x="6656" y="9170"/>
                  <a:pt x="6664" y="9186"/>
                  <a:pt x="6672" y="9203"/>
                </a:cubicBezTo>
                <a:cubicBezTo>
                  <a:pt x="6555" y="9300"/>
                  <a:pt x="6468" y="9346"/>
                  <a:pt x="6350" y="9227"/>
                </a:cubicBezTo>
              </a:path>
              <a:path w="2829" h="596">
                <a:moveTo>
                  <a:pt x="6796" y="8905"/>
                </a:moveTo>
                <a:cubicBezTo>
                  <a:pt x="6823" y="8971"/>
                  <a:pt x="6854" y="9170"/>
                  <a:pt x="6970" y="9128"/>
                </a:cubicBezTo>
                <a:cubicBezTo>
                  <a:pt x="7050" y="9099"/>
                  <a:pt x="7038" y="8995"/>
                  <a:pt x="7045" y="8930"/>
                </a:cubicBezTo>
                <a:cubicBezTo>
                  <a:pt x="6999" y="9005"/>
                  <a:pt x="7023" y="9206"/>
                  <a:pt x="7193" y="9153"/>
                </a:cubicBezTo>
                <a:cubicBezTo>
                  <a:pt x="7412" y="9085"/>
                  <a:pt x="7293" y="8900"/>
                  <a:pt x="7144" y="8855"/>
                </a:cubicBezTo>
                <a:cubicBezTo>
                  <a:pt x="7119" y="8855"/>
                  <a:pt x="7094" y="8855"/>
                  <a:pt x="7069" y="8855"/>
                </a:cubicBezTo>
              </a:path>
              <a:path w="2829" h="596">
                <a:moveTo>
                  <a:pt x="7392" y="8905"/>
                </a:moveTo>
                <a:cubicBezTo>
                  <a:pt x="7454" y="8932"/>
                  <a:pt x="7517" y="8930"/>
                  <a:pt x="7590" y="8930"/>
                </a:cubicBezTo>
                <a:cubicBezTo>
                  <a:pt x="7574" y="8851"/>
                  <a:pt x="7501" y="8787"/>
                  <a:pt x="7417" y="8855"/>
                </a:cubicBezTo>
                <a:cubicBezTo>
                  <a:pt x="7301" y="8949"/>
                  <a:pt x="7260" y="9218"/>
                  <a:pt x="7491" y="9178"/>
                </a:cubicBezTo>
                <a:cubicBezTo>
                  <a:pt x="7717" y="9138"/>
                  <a:pt x="7719" y="8999"/>
                  <a:pt x="7838" y="8880"/>
                </a:cubicBezTo>
                <a:cubicBezTo>
                  <a:pt x="7838" y="8930"/>
                  <a:pt x="7838" y="8963"/>
                  <a:pt x="7838" y="9004"/>
                </a:cubicBezTo>
                <a:cubicBezTo>
                  <a:pt x="7906" y="9186"/>
                  <a:pt x="7807" y="8921"/>
                  <a:pt x="7863" y="8855"/>
                </a:cubicBezTo>
                <a:cubicBezTo>
                  <a:pt x="7907" y="8803"/>
                  <a:pt x="8047" y="8778"/>
                  <a:pt x="8111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87800" y="2928960"/>
            <a:ext cx="2411280" cy="339840"/>
          </a:xfrm>
          <a:custGeom>
            <a:avLst/>
            <a:gdLst/>
            <a:ahLst/>
            <a:rect l="l" t="t" r="r" b="b"/>
            <a:pathLst>
              <a:path w="6699" h="944">
                <a:moveTo>
                  <a:pt x="8855" y="8607"/>
                </a:moveTo>
                <a:cubicBezTo>
                  <a:pt x="9024" y="8596"/>
                  <a:pt x="9317" y="8484"/>
                  <a:pt x="9475" y="8533"/>
                </a:cubicBezTo>
                <a:cubicBezTo>
                  <a:pt x="9499" y="8540"/>
                  <a:pt x="9453" y="8844"/>
                  <a:pt x="9451" y="8880"/>
                </a:cubicBezTo>
                <a:cubicBezTo>
                  <a:pt x="9558" y="8896"/>
                  <a:pt x="9842" y="8861"/>
                  <a:pt x="9723" y="8657"/>
                </a:cubicBezTo>
                <a:cubicBezTo>
                  <a:pt x="9667" y="8562"/>
                  <a:pt x="9522" y="8612"/>
                  <a:pt x="9451" y="8632"/>
                </a:cubicBezTo>
              </a:path>
              <a:path w="6699" h="944">
                <a:moveTo>
                  <a:pt x="10790" y="8731"/>
                </a:moveTo>
                <a:cubicBezTo>
                  <a:pt x="10731" y="8649"/>
                  <a:pt x="10658" y="8611"/>
                  <a:pt x="10567" y="8558"/>
                </a:cubicBezTo>
                <a:cubicBezTo>
                  <a:pt x="10474" y="8638"/>
                  <a:pt x="10227" y="8985"/>
                  <a:pt x="10567" y="8930"/>
                </a:cubicBezTo>
                <a:cubicBezTo>
                  <a:pt x="10701" y="8908"/>
                  <a:pt x="10715" y="8809"/>
                  <a:pt x="10740" y="8706"/>
                </a:cubicBezTo>
                <a:cubicBezTo>
                  <a:pt x="10740" y="8781"/>
                  <a:pt x="10770" y="8812"/>
                  <a:pt x="10864" y="8806"/>
                </a:cubicBezTo>
                <a:cubicBezTo>
                  <a:pt x="10933" y="8802"/>
                  <a:pt x="11030" y="8884"/>
                  <a:pt x="10988" y="8830"/>
                </a:cubicBezTo>
                <a:cubicBezTo>
                  <a:pt x="10988" y="8822"/>
                  <a:pt x="10988" y="8814"/>
                  <a:pt x="10988" y="8806"/>
                </a:cubicBezTo>
                <a:cubicBezTo>
                  <a:pt x="10939" y="8664"/>
                  <a:pt x="10930" y="8645"/>
                  <a:pt x="10988" y="8508"/>
                </a:cubicBezTo>
                <a:cubicBezTo>
                  <a:pt x="11214" y="8521"/>
                  <a:pt x="11295" y="8537"/>
                  <a:pt x="11385" y="8756"/>
                </a:cubicBezTo>
                <a:cubicBezTo>
                  <a:pt x="11385" y="8764"/>
                  <a:pt x="11385" y="8773"/>
                  <a:pt x="11385" y="8781"/>
                </a:cubicBezTo>
              </a:path>
              <a:path w="6699" h="944">
                <a:moveTo>
                  <a:pt x="12427" y="8682"/>
                </a:moveTo>
                <a:cubicBezTo>
                  <a:pt x="12392" y="8556"/>
                  <a:pt x="12324" y="8444"/>
                  <a:pt x="12179" y="8558"/>
                </a:cubicBezTo>
                <a:cubicBezTo>
                  <a:pt x="12069" y="8689"/>
                  <a:pt x="12032" y="8717"/>
                  <a:pt x="12030" y="8830"/>
                </a:cubicBezTo>
                <a:cubicBezTo>
                  <a:pt x="12262" y="8864"/>
                  <a:pt x="12296" y="8837"/>
                  <a:pt x="12378" y="8607"/>
                </a:cubicBezTo>
                <a:cubicBezTo>
                  <a:pt x="12399" y="8715"/>
                  <a:pt x="12485" y="8800"/>
                  <a:pt x="12601" y="8806"/>
                </a:cubicBezTo>
                <a:cubicBezTo>
                  <a:pt x="12642" y="8798"/>
                  <a:pt x="12684" y="8789"/>
                  <a:pt x="12725" y="8781"/>
                </a:cubicBezTo>
              </a:path>
              <a:path w="6699" h="944">
                <a:moveTo>
                  <a:pt x="12824" y="8186"/>
                </a:moveTo>
                <a:cubicBezTo>
                  <a:pt x="12862" y="8289"/>
                  <a:pt x="12917" y="8676"/>
                  <a:pt x="12998" y="8731"/>
                </a:cubicBezTo>
                <a:cubicBezTo>
                  <a:pt x="13014" y="8731"/>
                  <a:pt x="13031" y="8731"/>
                  <a:pt x="13047" y="8731"/>
                </a:cubicBezTo>
              </a:path>
              <a:path w="6699" h="944">
                <a:moveTo>
                  <a:pt x="13419" y="8632"/>
                </a:moveTo>
                <a:cubicBezTo>
                  <a:pt x="13419" y="8514"/>
                  <a:pt x="13400" y="8488"/>
                  <a:pt x="13320" y="8409"/>
                </a:cubicBezTo>
                <a:cubicBezTo>
                  <a:pt x="13127" y="8457"/>
                  <a:pt x="13059" y="8537"/>
                  <a:pt x="13047" y="8731"/>
                </a:cubicBezTo>
                <a:cubicBezTo>
                  <a:pt x="13268" y="8776"/>
                  <a:pt x="13286" y="8742"/>
                  <a:pt x="13469" y="8607"/>
                </a:cubicBezTo>
              </a:path>
              <a:path w="6699" h="944">
                <a:moveTo>
                  <a:pt x="13345" y="8186"/>
                </a:moveTo>
                <a:cubicBezTo>
                  <a:pt x="13410" y="8331"/>
                  <a:pt x="13431" y="8480"/>
                  <a:pt x="13469" y="8632"/>
                </a:cubicBezTo>
                <a:cubicBezTo>
                  <a:pt x="13488" y="8689"/>
                  <a:pt x="13479" y="8714"/>
                  <a:pt x="13519" y="8706"/>
                </a:cubicBezTo>
              </a:path>
              <a:path w="6699" h="944">
                <a:moveTo>
                  <a:pt x="13717" y="8558"/>
                </a:moveTo>
                <a:cubicBezTo>
                  <a:pt x="13729" y="8615"/>
                  <a:pt x="13742" y="8740"/>
                  <a:pt x="13742" y="8682"/>
                </a:cubicBezTo>
              </a:path>
              <a:path w="6699" h="944">
                <a:moveTo>
                  <a:pt x="13915" y="8136"/>
                </a:moveTo>
                <a:cubicBezTo>
                  <a:pt x="14003" y="8158"/>
                  <a:pt x="14017" y="8358"/>
                  <a:pt x="14015" y="8434"/>
                </a:cubicBezTo>
                <a:cubicBezTo>
                  <a:pt x="13993" y="8541"/>
                  <a:pt x="13985" y="8565"/>
                  <a:pt x="13990" y="8632"/>
                </a:cubicBezTo>
                <a:cubicBezTo>
                  <a:pt x="14148" y="8632"/>
                  <a:pt x="14185" y="8618"/>
                  <a:pt x="14263" y="8483"/>
                </a:cubicBezTo>
              </a:path>
              <a:path w="6699" h="944">
                <a:moveTo>
                  <a:pt x="13866" y="8359"/>
                </a:moveTo>
                <a:cubicBezTo>
                  <a:pt x="14007" y="8359"/>
                  <a:pt x="14264" y="8312"/>
                  <a:pt x="14387" y="8409"/>
                </a:cubicBezTo>
                <a:cubicBezTo>
                  <a:pt x="14438" y="8450"/>
                  <a:pt x="14451" y="8524"/>
                  <a:pt x="14461" y="8582"/>
                </a:cubicBezTo>
              </a:path>
              <a:path w="6699" h="944">
                <a:moveTo>
                  <a:pt x="14883" y="8434"/>
                </a:moveTo>
                <a:cubicBezTo>
                  <a:pt x="14723" y="8407"/>
                  <a:pt x="14703" y="8460"/>
                  <a:pt x="14635" y="8607"/>
                </a:cubicBezTo>
                <a:cubicBezTo>
                  <a:pt x="14754" y="8649"/>
                  <a:pt x="15026" y="8712"/>
                  <a:pt x="15032" y="8483"/>
                </a:cubicBezTo>
                <a:cubicBezTo>
                  <a:pt x="15035" y="8358"/>
                  <a:pt x="14826" y="8359"/>
                  <a:pt x="14932" y="8359"/>
                </a:cubicBezTo>
              </a:path>
              <a:path w="6699" h="944">
                <a:moveTo>
                  <a:pt x="15230" y="8582"/>
                </a:moveTo>
                <a:cubicBezTo>
                  <a:pt x="15128" y="8532"/>
                  <a:pt x="15206" y="8415"/>
                  <a:pt x="15280" y="8359"/>
                </a:cubicBezTo>
                <a:cubicBezTo>
                  <a:pt x="15488" y="8200"/>
                  <a:pt x="15569" y="8468"/>
                  <a:pt x="15553" y="8632"/>
                </a:cubicBezTo>
                <a:cubicBezTo>
                  <a:pt x="15545" y="8649"/>
                  <a:pt x="15536" y="8665"/>
                  <a:pt x="15528" y="8682"/>
                </a:cubicBezTo>
              </a:path>
              <a:path w="6699" h="944">
                <a:moveTo>
                  <a:pt x="12278" y="9004"/>
                </a:moveTo>
                <a:cubicBezTo>
                  <a:pt x="12278" y="9029"/>
                  <a:pt x="12278" y="9037"/>
                  <a:pt x="12254" y="9029"/>
                </a:cubicBezTo>
                <a:cubicBezTo>
                  <a:pt x="12690" y="9029"/>
                  <a:pt x="13139" y="9006"/>
                  <a:pt x="13568" y="9054"/>
                </a:cubicBezTo>
                <a:cubicBezTo>
                  <a:pt x="13706" y="9069"/>
                  <a:pt x="13852" y="9076"/>
                  <a:pt x="13990" y="9079"/>
                </a:cubicBezTo>
                <a:cubicBezTo>
                  <a:pt x="14232" y="9084"/>
                  <a:pt x="14470" y="9074"/>
                  <a:pt x="14709" y="9054"/>
                </a:cubicBezTo>
                <a:cubicBezTo>
                  <a:pt x="14872" y="9040"/>
                  <a:pt x="15041" y="9054"/>
                  <a:pt x="15205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3120" y="2840040"/>
            <a:ext cx="1241280" cy="419040"/>
          </a:xfrm>
          <a:custGeom>
            <a:avLst/>
            <a:gdLst/>
            <a:ahLst/>
            <a:rect l="l" t="t" r="r" b="b"/>
            <a:pathLst>
              <a:path w="3449" h="1167">
                <a:moveTo>
                  <a:pt x="17115" y="8582"/>
                </a:moveTo>
                <a:cubicBezTo>
                  <a:pt x="17115" y="8737"/>
                  <a:pt x="17142" y="8877"/>
                  <a:pt x="17165" y="9029"/>
                </a:cubicBezTo>
                <a:cubicBezTo>
                  <a:pt x="17165" y="9037"/>
                  <a:pt x="17165" y="9046"/>
                  <a:pt x="17165" y="9054"/>
                </a:cubicBezTo>
                <a:cubicBezTo>
                  <a:pt x="17077" y="8878"/>
                  <a:pt x="17041" y="8604"/>
                  <a:pt x="17115" y="8409"/>
                </a:cubicBezTo>
                <a:cubicBezTo>
                  <a:pt x="17148" y="8368"/>
                  <a:pt x="17181" y="8326"/>
                  <a:pt x="17214" y="8285"/>
                </a:cubicBezTo>
                <a:cubicBezTo>
                  <a:pt x="17323" y="8334"/>
                  <a:pt x="17640" y="8513"/>
                  <a:pt x="17388" y="8632"/>
                </a:cubicBezTo>
                <a:cubicBezTo>
                  <a:pt x="17234" y="8705"/>
                  <a:pt x="17185" y="8612"/>
                  <a:pt x="17115" y="8508"/>
                </a:cubicBezTo>
              </a:path>
              <a:path w="3449" h="1167">
                <a:moveTo>
                  <a:pt x="17611" y="8458"/>
                </a:moveTo>
                <a:cubicBezTo>
                  <a:pt x="17727" y="8612"/>
                  <a:pt x="17615" y="8407"/>
                  <a:pt x="17711" y="8310"/>
                </a:cubicBezTo>
                <a:cubicBezTo>
                  <a:pt x="17797" y="8223"/>
                  <a:pt x="17923" y="8217"/>
                  <a:pt x="18033" y="8186"/>
                </a:cubicBezTo>
                <a:cubicBezTo>
                  <a:pt x="18044" y="8297"/>
                  <a:pt x="17976" y="8408"/>
                  <a:pt x="17959" y="8533"/>
                </a:cubicBezTo>
                <a:cubicBezTo>
                  <a:pt x="18058" y="8527"/>
                  <a:pt x="18397" y="8533"/>
                  <a:pt x="18306" y="8334"/>
                </a:cubicBezTo>
                <a:cubicBezTo>
                  <a:pt x="18239" y="8188"/>
                  <a:pt x="18116" y="8237"/>
                  <a:pt x="18132" y="8136"/>
                </a:cubicBezTo>
              </a:path>
              <a:path w="3449" h="1167">
                <a:moveTo>
                  <a:pt x="18306" y="7938"/>
                </a:moveTo>
                <a:cubicBezTo>
                  <a:pt x="18365" y="8111"/>
                  <a:pt x="18412" y="8253"/>
                  <a:pt x="18430" y="8434"/>
                </a:cubicBezTo>
                <a:cubicBezTo>
                  <a:pt x="18444" y="8372"/>
                  <a:pt x="18508" y="8041"/>
                  <a:pt x="18653" y="8111"/>
                </a:cubicBezTo>
                <a:cubicBezTo>
                  <a:pt x="18831" y="8197"/>
                  <a:pt x="18768" y="8582"/>
                  <a:pt x="18554" y="8533"/>
                </a:cubicBezTo>
                <a:cubicBezTo>
                  <a:pt x="18513" y="8500"/>
                  <a:pt x="18471" y="8467"/>
                  <a:pt x="18430" y="8434"/>
                </a:cubicBezTo>
              </a:path>
              <a:path w="3449" h="1167">
                <a:moveTo>
                  <a:pt x="19248" y="8186"/>
                </a:moveTo>
                <a:cubicBezTo>
                  <a:pt x="19305" y="8170"/>
                  <a:pt x="19366" y="8147"/>
                  <a:pt x="19422" y="8136"/>
                </a:cubicBezTo>
                <a:cubicBezTo>
                  <a:pt x="19385" y="8054"/>
                  <a:pt x="19370" y="7906"/>
                  <a:pt x="19248" y="8037"/>
                </a:cubicBezTo>
                <a:cubicBezTo>
                  <a:pt x="19093" y="8204"/>
                  <a:pt x="19129" y="8400"/>
                  <a:pt x="19372" y="8409"/>
                </a:cubicBezTo>
                <a:cubicBezTo>
                  <a:pt x="19508" y="8386"/>
                  <a:pt x="19546" y="8384"/>
                  <a:pt x="19621" y="8334"/>
                </a:cubicBezTo>
              </a:path>
              <a:path w="3449" h="1167">
                <a:moveTo>
                  <a:pt x="19695" y="8062"/>
                </a:moveTo>
                <a:cubicBezTo>
                  <a:pt x="19695" y="8176"/>
                  <a:pt x="19699" y="8278"/>
                  <a:pt x="19670" y="8384"/>
                </a:cubicBezTo>
                <a:cubicBezTo>
                  <a:pt x="19682" y="8256"/>
                  <a:pt x="19695" y="8088"/>
                  <a:pt x="19819" y="8012"/>
                </a:cubicBezTo>
                <a:cubicBezTo>
                  <a:pt x="19993" y="7905"/>
                  <a:pt x="20057" y="8174"/>
                  <a:pt x="20092" y="8285"/>
                </a:cubicBezTo>
                <a:cubicBezTo>
                  <a:pt x="20092" y="8332"/>
                  <a:pt x="20124" y="8070"/>
                  <a:pt x="20141" y="8037"/>
                </a:cubicBezTo>
                <a:cubicBezTo>
                  <a:pt x="20208" y="7902"/>
                  <a:pt x="20387" y="7810"/>
                  <a:pt x="20489" y="7962"/>
                </a:cubicBezTo>
                <a:cubicBezTo>
                  <a:pt x="20575" y="8089"/>
                  <a:pt x="20557" y="8261"/>
                  <a:pt x="20489" y="83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00760" y="3081240"/>
            <a:ext cx="2401920" cy="606600"/>
          </a:xfrm>
          <a:custGeom>
            <a:avLst/>
            <a:gdLst/>
            <a:ahLst/>
            <a:rect l="l" t="t" r="r" b="b"/>
            <a:pathLst>
              <a:path w="6673" h="1687">
                <a:moveTo>
                  <a:pt x="13891" y="10244"/>
                </a:moveTo>
                <a:lnTo>
                  <a:pt x="13891" y="10244"/>
                </a:lnTo>
              </a:path>
              <a:path w="6673" h="1687">
                <a:moveTo>
                  <a:pt x="17760" y="9624"/>
                </a:moveTo>
                <a:cubicBezTo>
                  <a:pt x="17640" y="9564"/>
                  <a:pt x="17422" y="9481"/>
                  <a:pt x="17388" y="9699"/>
                </a:cubicBezTo>
                <a:cubicBezTo>
                  <a:pt x="17337" y="10029"/>
                  <a:pt x="17669" y="9793"/>
                  <a:pt x="17735" y="9723"/>
                </a:cubicBezTo>
              </a:path>
              <a:path w="6673" h="1687">
                <a:moveTo>
                  <a:pt x="17512" y="9252"/>
                </a:moveTo>
                <a:cubicBezTo>
                  <a:pt x="17589" y="9475"/>
                  <a:pt x="17631" y="9654"/>
                  <a:pt x="17810" y="9798"/>
                </a:cubicBezTo>
              </a:path>
              <a:path w="6673" h="1687">
                <a:moveTo>
                  <a:pt x="18306" y="9525"/>
                </a:moveTo>
                <a:cubicBezTo>
                  <a:pt x="18443" y="9492"/>
                  <a:pt x="18564" y="9464"/>
                  <a:pt x="18703" y="9451"/>
                </a:cubicBezTo>
              </a:path>
              <a:path w="6673" h="1687">
                <a:moveTo>
                  <a:pt x="19968" y="9327"/>
                </a:moveTo>
                <a:cubicBezTo>
                  <a:pt x="20125" y="9304"/>
                  <a:pt x="20167" y="9299"/>
                  <a:pt x="20265" y="9277"/>
                </a:cubicBezTo>
              </a:path>
              <a:path w="6673" h="1687">
                <a:moveTo>
                  <a:pt x="18058" y="9227"/>
                </a:moveTo>
                <a:lnTo>
                  <a:pt x="18058" y="9227"/>
                </a:lnTo>
              </a:path>
              <a:path w="6673" h="1687">
                <a:moveTo>
                  <a:pt x="20117" y="8558"/>
                </a:moveTo>
                <a:cubicBezTo>
                  <a:pt x="20392" y="8911"/>
                  <a:pt x="20579" y="9278"/>
                  <a:pt x="20563" y="9748"/>
                </a:cubicBezTo>
                <a:cubicBezTo>
                  <a:pt x="20523" y="9886"/>
                  <a:pt x="20533" y="9918"/>
                  <a:pt x="20464" y="9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27160" y="3429000"/>
            <a:ext cx="2089080" cy="500040"/>
          </a:xfrm>
          <a:custGeom>
            <a:avLst/>
            <a:gdLst/>
            <a:ahLst/>
            <a:rect l="l" t="t" r="r" b="b"/>
            <a:pathLst>
              <a:path w="5805" h="1390">
                <a:moveTo>
                  <a:pt x="5755" y="10096"/>
                </a:moveTo>
                <a:cubicBezTo>
                  <a:pt x="5703" y="10059"/>
                  <a:pt x="5653" y="10013"/>
                  <a:pt x="5631" y="9947"/>
                </a:cubicBezTo>
                <a:cubicBezTo>
                  <a:pt x="5631" y="9922"/>
                  <a:pt x="5631" y="9914"/>
                  <a:pt x="5631" y="9947"/>
                </a:cubicBezTo>
                <a:cubicBezTo>
                  <a:pt x="5675" y="10143"/>
                  <a:pt x="5736" y="10344"/>
                  <a:pt x="5755" y="10542"/>
                </a:cubicBezTo>
                <a:cubicBezTo>
                  <a:pt x="5755" y="10567"/>
                  <a:pt x="5755" y="10575"/>
                  <a:pt x="5755" y="10542"/>
                </a:cubicBezTo>
                <a:cubicBezTo>
                  <a:pt x="5747" y="10391"/>
                  <a:pt x="5687" y="10249"/>
                  <a:pt x="5829" y="10145"/>
                </a:cubicBezTo>
                <a:cubicBezTo>
                  <a:pt x="6018" y="10006"/>
                  <a:pt x="6156" y="10170"/>
                  <a:pt x="6226" y="10344"/>
                </a:cubicBezTo>
                <a:cubicBezTo>
                  <a:pt x="6248" y="10398"/>
                  <a:pt x="6251" y="10526"/>
                  <a:pt x="6251" y="10468"/>
                </a:cubicBezTo>
              </a:path>
              <a:path w="5805" h="1390">
                <a:moveTo>
                  <a:pt x="6672" y="10244"/>
                </a:moveTo>
                <a:cubicBezTo>
                  <a:pt x="6656" y="10165"/>
                  <a:pt x="6540" y="10067"/>
                  <a:pt x="6449" y="10096"/>
                </a:cubicBezTo>
                <a:cubicBezTo>
                  <a:pt x="6318" y="10138"/>
                  <a:pt x="6318" y="10374"/>
                  <a:pt x="6300" y="10468"/>
                </a:cubicBezTo>
                <a:cubicBezTo>
                  <a:pt x="6502" y="10562"/>
                  <a:pt x="6619" y="10510"/>
                  <a:pt x="6598" y="10244"/>
                </a:cubicBezTo>
                <a:cubicBezTo>
                  <a:pt x="6590" y="10236"/>
                  <a:pt x="6581" y="10228"/>
                  <a:pt x="6573" y="10220"/>
                </a:cubicBezTo>
                <a:cubicBezTo>
                  <a:pt x="6584" y="10289"/>
                  <a:pt x="6624" y="10494"/>
                  <a:pt x="6747" y="10468"/>
                </a:cubicBezTo>
                <a:cubicBezTo>
                  <a:pt x="6772" y="10451"/>
                  <a:pt x="6796" y="10435"/>
                  <a:pt x="6821" y="10418"/>
                </a:cubicBezTo>
              </a:path>
              <a:path w="5805" h="1390">
                <a:moveTo>
                  <a:pt x="6970" y="10071"/>
                </a:moveTo>
                <a:cubicBezTo>
                  <a:pt x="6899" y="10123"/>
                  <a:pt x="6866" y="10147"/>
                  <a:pt x="6821" y="10220"/>
                </a:cubicBezTo>
                <a:cubicBezTo>
                  <a:pt x="6980" y="10234"/>
                  <a:pt x="7060" y="10260"/>
                  <a:pt x="7169" y="10368"/>
                </a:cubicBezTo>
                <a:cubicBezTo>
                  <a:pt x="7038" y="10464"/>
                  <a:pt x="6949" y="10504"/>
                  <a:pt x="6821" y="10418"/>
                </a:cubicBezTo>
              </a:path>
              <a:path w="5805" h="1390">
                <a:moveTo>
                  <a:pt x="7789" y="10220"/>
                </a:moveTo>
                <a:cubicBezTo>
                  <a:pt x="7848" y="10180"/>
                  <a:pt x="7890" y="10170"/>
                  <a:pt x="7962" y="10170"/>
                </a:cubicBezTo>
                <a:cubicBezTo>
                  <a:pt x="7970" y="10170"/>
                  <a:pt x="7979" y="10170"/>
                  <a:pt x="7987" y="10170"/>
                </a:cubicBezTo>
                <a:cubicBezTo>
                  <a:pt x="7941" y="10079"/>
                  <a:pt x="7889" y="9949"/>
                  <a:pt x="7764" y="10021"/>
                </a:cubicBezTo>
                <a:cubicBezTo>
                  <a:pt x="7628" y="10099"/>
                  <a:pt x="7634" y="10299"/>
                  <a:pt x="7764" y="10368"/>
                </a:cubicBezTo>
                <a:cubicBezTo>
                  <a:pt x="7916" y="10449"/>
                  <a:pt x="8121" y="10326"/>
                  <a:pt x="8235" y="10244"/>
                </a:cubicBezTo>
              </a:path>
              <a:path w="5805" h="1390">
                <a:moveTo>
                  <a:pt x="8111" y="10021"/>
                </a:moveTo>
                <a:cubicBezTo>
                  <a:pt x="8230" y="10140"/>
                  <a:pt x="8342" y="10228"/>
                  <a:pt x="8483" y="10319"/>
                </a:cubicBezTo>
              </a:path>
              <a:path w="5805" h="1390">
                <a:moveTo>
                  <a:pt x="8384" y="9897"/>
                </a:moveTo>
                <a:cubicBezTo>
                  <a:pt x="8344" y="10045"/>
                  <a:pt x="8329" y="10200"/>
                  <a:pt x="8285" y="10344"/>
                </a:cubicBezTo>
              </a:path>
              <a:path w="5805" h="1390">
                <a:moveTo>
                  <a:pt x="8756" y="10120"/>
                </a:moveTo>
                <a:cubicBezTo>
                  <a:pt x="8769" y="10046"/>
                  <a:pt x="8677" y="9919"/>
                  <a:pt x="8558" y="9971"/>
                </a:cubicBezTo>
                <a:cubicBezTo>
                  <a:pt x="8396" y="10041"/>
                  <a:pt x="8482" y="10209"/>
                  <a:pt x="8508" y="10319"/>
                </a:cubicBezTo>
                <a:cubicBezTo>
                  <a:pt x="8673" y="10344"/>
                  <a:pt x="8644" y="10315"/>
                  <a:pt x="8706" y="10145"/>
                </a:cubicBezTo>
                <a:cubicBezTo>
                  <a:pt x="8698" y="10120"/>
                  <a:pt x="8690" y="10096"/>
                  <a:pt x="8682" y="10071"/>
                </a:cubicBezTo>
                <a:cubicBezTo>
                  <a:pt x="8742" y="10176"/>
                  <a:pt x="8803" y="10244"/>
                  <a:pt x="8905" y="10244"/>
                </a:cubicBezTo>
              </a:path>
              <a:path w="5805" h="1390">
                <a:moveTo>
                  <a:pt x="9029" y="10046"/>
                </a:moveTo>
                <a:cubicBezTo>
                  <a:pt x="9002" y="9992"/>
                  <a:pt x="8990" y="9972"/>
                  <a:pt x="8954" y="9947"/>
                </a:cubicBezTo>
                <a:cubicBezTo>
                  <a:pt x="8858" y="10008"/>
                  <a:pt x="8715" y="10222"/>
                  <a:pt x="8905" y="10319"/>
                </a:cubicBezTo>
                <a:cubicBezTo>
                  <a:pt x="9064" y="10319"/>
                  <a:pt x="9122" y="10313"/>
                  <a:pt x="9203" y="10220"/>
                </a:cubicBezTo>
              </a:path>
              <a:path w="5805" h="1390">
                <a:moveTo>
                  <a:pt x="9178" y="9624"/>
                </a:moveTo>
                <a:cubicBezTo>
                  <a:pt x="9267" y="9823"/>
                  <a:pt x="9357" y="10014"/>
                  <a:pt x="9426" y="10220"/>
                </a:cubicBezTo>
              </a:path>
              <a:path w="5805" h="1390">
                <a:moveTo>
                  <a:pt x="9128" y="10021"/>
                </a:moveTo>
                <a:cubicBezTo>
                  <a:pt x="9238" y="10007"/>
                  <a:pt x="9348" y="9999"/>
                  <a:pt x="9451" y="9971"/>
                </a:cubicBezTo>
              </a:path>
              <a:path w="5805" h="1390">
                <a:moveTo>
                  <a:pt x="9500" y="9575"/>
                </a:moveTo>
                <a:cubicBezTo>
                  <a:pt x="9519" y="9758"/>
                  <a:pt x="9552" y="9982"/>
                  <a:pt x="9649" y="10145"/>
                </a:cubicBezTo>
                <a:cubicBezTo>
                  <a:pt x="9702" y="10145"/>
                  <a:pt x="9736" y="10132"/>
                  <a:pt x="9773" y="10096"/>
                </a:cubicBezTo>
              </a:path>
              <a:path w="5805" h="1390">
                <a:moveTo>
                  <a:pt x="9798" y="9847"/>
                </a:moveTo>
                <a:cubicBezTo>
                  <a:pt x="9807" y="9992"/>
                  <a:pt x="9815" y="10031"/>
                  <a:pt x="9897" y="10145"/>
                </a:cubicBezTo>
                <a:cubicBezTo>
                  <a:pt x="10073" y="10112"/>
                  <a:pt x="10140" y="10062"/>
                  <a:pt x="10170" y="9872"/>
                </a:cubicBezTo>
                <a:cubicBezTo>
                  <a:pt x="10175" y="9838"/>
                  <a:pt x="10153" y="9863"/>
                  <a:pt x="10170" y="9922"/>
                </a:cubicBezTo>
                <a:cubicBezTo>
                  <a:pt x="10242" y="10105"/>
                  <a:pt x="10416" y="10368"/>
                  <a:pt x="10145" y="10468"/>
                </a:cubicBezTo>
                <a:cubicBezTo>
                  <a:pt x="9974" y="10492"/>
                  <a:pt x="9919" y="10501"/>
                  <a:pt x="9823" y="10418"/>
                </a:cubicBezTo>
              </a:path>
              <a:path w="5805" h="1390">
                <a:moveTo>
                  <a:pt x="7888" y="10914"/>
                </a:moveTo>
                <a:cubicBezTo>
                  <a:pt x="8257" y="10747"/>
                  <a:pt x="8640" y="10653"/>
                  <a:pt x="9029" y="10542"/>
                </a:cubicBezTo>
                <a:cubicBezTo>
                  <a:pt x="9337" y="10454"/>
                  <a:pt x="9645" y="10328"/>
                  <a:pt x="9971" y="10344"/>
                </a:cubicBezTo>
                <a:cubicBezTo>
                  <a:pt x="9971" y="10352"/>
                  <a:pt x="9971" y="10360"/>
                  <a:pt x="9971" y="10368"/>
                </a:cubicBezTo>
              </a:path>
              <a:path w="5805" h="1390">
                <a:moveTo>
                  <a:pt x="10765" y="9624"/>
                </a:moveTo>
                <a:cubicBezTo>
                  <a:pt x="10935" y="9563"/>
                  <a:pt x="11057" y="9538"/>
                  <a:pt x="11237" y="9525"/>
                </a:cubicBezTo>
                <a:cubicBezTo>
                  <a:pt x="11298" y="9818"/>
                  <a:pt x="11153" y="9862"/>
                  <a:pt x="10964" y="10071"/>
                </a:cubicBezTo>
                <a:cubicBezTo>
                  <a:pt x="10956" y="10087"/>
                  <a:pt x="10947" y="10104"/>
                  <a:pt x="10939" y="10120"/>
                </a:cubicBezTo>
                <a:cubicBezTo>
                  <a:pt x="11091" y="10101"/>
                  <a:pt x="11285" y="10012"/>
                  <a:pt x="11435" y="10021"/>
                </a:cubicBezTo>
                <a:cubicBezTo>
                  <a:pt x="11435" y="10029"/>
                  <a:pt x="11435" y="10038"/>
                  <a:pt x="11435" y="100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9080" y="3330720"/>
            <a:ext cx="1812960" cy="357120"/>
          </a:xfrm>
          <a:custGeom>
            <a:avLst/>
            <a:gdLst/>
            <a:ahLst/>
            <a:rect l="l" t="t" r="r" b="b"/>
            <a:pathLst>
              <a:path w="5036" h="993">
                <a:moveTo>
                  <a:pt x="12700" y="9327"/>
                </a:moveTo>
                <a:cubicBezTo>
                  <a:pt x="12552" y="9302"/>
                  <a:pt x="12424" y="9389"/>
                  <a:pt x="12427" y="9575"/>
                </a:cubicBezTo>
                <a:cubicBezTo>
                  <a:pt x="12431" y="9769"/>
                  <a:pt x="12649" y="9913"/>
                  <a:pt x="12650" y="10096"/>
                </a:cubicBezTo>
                <a:cubicBezTo>
                  <a:pt x="12642" y="10104"/>
                  <a:pt x="12634" y="10112"/>
                  <a:pt x="12626" y="10120"/>
                </a:cubicBezTo>
              </a:path>
              <a:path w="5036" h="993">
                <a:moveTo>
                  <a:pt x="12303" y="9847"/>
                </a:moveTo>
                <a:cubicBezTo>
                  <a:pt x="12503" y="9826"/>
                  <a:pt x="12700" y="9827"/>
                  <a:pt x="12898" y="9798"/>
                </a:cubicBezTo>
              </a:path>
              <a:path w="5036" h="993">
                <a:moveTo>
                  <a:pt x="12998" y="9748"/>
                </a:moveTo>
                <a:cubicBezTo>
                  <a:pt x="12862" y="9731"/>
                  <a:pt x="12680" y="9842"/>
                  <a:pt x="12675" y="10021"/>
                </a:cubicBezTo>
                <a:cubicBezTo>
                  <a:pt x="12692" y="10046"/>
                  <a:pt x="12708" y="10071"/>
                  <a:pt x="12725" y="10096"/>
                </a:cubicBezTo>
                <a:cubicBezTo>
                  <a:pt x="12886" y="10042"/>
                  <a:pt x="12999" y="10021"/>
                  <a:pt x="12948" y="9823"/>
                </a:cubicBezTo>
                <a:cubicBezTo>
                  <a:pt x="13016" y="10002"/>
                  <a:pt x="13053" y="10007"/>
                  <a:pt x="13221" y="9996"/>
                </a:cubicBezTo>
              </a:path>
              <a:path w="5036" h="993">
                <a:moveTo>
                  <a:pt x="13395" y="9723"/>
                </a:moveTo>
                <a:cubicBezTo>
                  <a:pt x="13454" y="9723"/>
                  <a:pt x="13323" y="9679"/>
                  <a:pt x="13295" y="9674"/>
                </a:cubicBezTo>
                <a:cubicBezTo>
                  <a:pt x="13247" y="9756"/>
                  <a:pt x="13087" y="10083"/>
                  <a:pt x="13345" y="10046"/>
                </a:cubicBezTo>
                <a:cubicBezTo>
                  <a:pt x="13403" y="10021"/>
                  <a:pt x="13461" y="9996"/>
                  <a:pt x="13519" y="9971"/>
                </a:cubicBezTo>
              </a:path>
              <a:path w="5036" h="993">
                <a:moveTo>
                  <a:pt x="13568" y="9327"/>
                </a:moveTo>
                <a:cubicBezTo>
                  <a:pt x="13632" y="9554"/>
                  <a:pt x="13669" y="9790"/>
                  <a:pt x="13791" y="9996"/>
                </a:cubicBezTo>
                <a:cubicBezTo>
                  <a:pt x="13808" y="10013"/>
                  <a:pt x="13824" y="10029"/>
                  <a:pt x="13841" y="10046"/>
                </a:cubicBezTo>
              </a:path>
              <a:path w="5036" h="993">
                <a:moveTo>
                  <a:pt x="13370" y="9723"/>
                </a:moveTo>
                <a:cubicBezTo>
                  <a:pt x="13578" y="9694"/>
                  <a:pt x="13779" y="9674"/>
                  <a:pt x="13990" y="9674"/>
                </a:cubicBezTo>
                <a:cubicBezTo>
                  <a:pt x="13964" y="9779"/>
                  <a:pt x="13816" y="9872"/>
                  <a:pt x="13791" y="9971"/>
                </a:cubicBezTo>
                <a:cubicBezTo>
                  <a:pt x="13799" y="10004"/>
                  <a:pt x="13808" y="10038"/>
                  <a:pt x="13816" y="10071"/>
                </a:cubicBezTo>
                <a:cubicBezTo>
                  <a:pt x="14032" y="10088"/>
                  <a:pt x="14066" y="10090"/>
                  <a:pt x="14238" y="9971"/>
                </a:cubicBezTo>
                <a:cubicBezTo>
                  <a:pt x="14184" y="9767"/>
                  <a:pt x="14119" y="9709"/>
                  <a:pt x="13891" y="9723"/>
                </a:cubicBezTo>
              </a:path>
              <a:path w="5036" h="993">
                <a:moveTo>
                  <a:pt x="14362" y="9947"/>
                </a:moveTo>
                <a:cubicBezTo>
                  <a:pt x="14381" y="10004"/>
                  <a:pt x="14390" y="10011"/>
                  <a:pt x="14387" y="10046"/>
                </a:cubicBezTo>
                <a:cubicBezTo>
                  <a:pt x="14351" y="9938"/>
                  <a:pt x="14272" y="9721"/>
                  <a:pt x="14387" y="9624"/>
                </a:cubicBezTo>
                <a:cubicBezTo>
                  <a:pt x="14420" y="9616"/>
                  <a:pt x="14453" y="9607"/>
                  <a:pt x="14486" y="9599"/>
                </a:cubicBezTo>
              </a:path>
              <a:path w="5036" h="993">
                <a:moveTo>
                  <a:pt x="14883" y="9525"/>
                </a:moveTo>
                <a:cubicBezTo>
                  <a:pt x="14798" y="9580"/>
                  <a:pt x="14723" y="9627"/>
                  <a:pt x="14660" y="9699"/>
                </a:cubicBezTo>
                <a:cubicBezTo>
                  <a:pt x="14787" y="9717"/>
                  <a:pt x="14942" y="9745"/>
                  <a:pt x="15032" y="9847"/>
                </a:cubicBezTo>
                <a:cubicBezTo>
                  <a:pt x="15248" y="10093"/>
                  <a:pt x="14599" y="9927"/>
                  <a:pt x="14585" y="9922"/>
                </a:cubicBezTo>
              </a:path>
              <a:path w="5036" h="993">
                <a:moveTo>
                  <a:pt x="15701" y="9252"/>
                </a:moveTo>
                <a:cubicBezTo>
                  <a:pt x="15573" y="9558"/>
                  <a:pt x="15353" y="9907"/>
                  <a:pt x="15677" y="10170"/>
                </a:cubicBezTo>
                <a:cubicBezTo>
                  <a:pt x="15736" y="10218"/>
                  <a:pt x="15814" y="10242"/>
                  <a:pt x="15825" y="10220"/>
                </a:cubicBezTo>
              </a:path>
              <a:path w="5036" h="993">
                <a:moveTo>
                  <a:pt x="15999" y="9302"/>
                </a:moveTo>
                <a:cubicBezTo>
                  <a:pt x="15922" y="9429"/>
                  <a:pt x="15984" y="9682"/>
                  <a:pt x="16024" y="9847"/>
                </a:cubicBezTo>
                <a:cubicBezTo>
                  <a:pt x="16034" y="9889"/>
                  <a:pt x="16049" y="9965"/>
                  <a:pt x="16049" y="9922"/>
                </a:cubicBezTo>
              </a:path>
              <a:path w="5036" h="993">
                <a:moveTo>
                  <a:pt x="16917" y="9649"/>
                </a:moveTo>
                <a:cubicBezTo>
                  <a:pt x="16780" y="9512"/>
                  <a:pt x="16720" y="9532"/>
                  <a:pt x="16619" y="9723"/>
                </a:cubicBezTo>
                <a:cubicBezTo>
                  <a:pt x="16577" y="9851"/>
                  <a:pt x="16548" y="9882"/>
                  <a:pt x="16619" y="9947"/>
                </a:cubicBezTo>
                <a:cubicBezTo>
                  <a:pt x="16748" y="9887"/>
                  <a:pt x="16760" y="9889"/>
                  <a:pt x="16793" y="9748"/>
                </a:cubicBezTo>
                <a:cubicBezTo>
                  <a:pt x="16812" y="9824"/>
                  <a:pt x="16869" y="9819"/>
                  <a:pt x="16942" y="9823"/>
                </a:cubicBezTo>
                <a:cubicBezTo>
                  <a:pt x="16997" y="9826"/>
                  <a:pt x="17121" y="9899"/>
                  <a:pt x="17066" y="9897"/>
                </a:cubicBezTo>
                <a:cubicBezTo>
                  <a:pt x="17058" y="9889"/>
                  <a:pt x="17049" y="9880"/>
                  <a:pt x="17041" y="9872"/>
                </a:cubicBezTo>
                <a:cubicBezTo>
                  <a:pt x="17015" y="9820"/>
                  <a:pt x="16951" y="9673"/>
                  <a:pt x="17041" y="9624"/>
                </a:cubicBezTo>
                <a:cubicBezTo>
                  <a:pt x="17206" y="9534"/>
                  <a:pt x="17299" y="9748"/>
                  <a:pt x="17338" y="9872"/>
                </a:cubicBezTo>
                <a:cubicBezTo>
                  <a:pt x="17338" y="9880"/>
                  <a:pt x="17338" y="9889"/>
                  <a:pt x="17338" y="98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9800" y="3205080"/>
            <a:ext cx="652320" cy="349200"/>
          </a:xfrm>
          <a:custGeom>
            <a:avLst/>
            <a:gdLst/>
            <a:ahLst/>
            <a:rect l="l" t="t" r="r" b="b"/>
            <a:pathLst>
              <a:path w="1812" h="968">
                <a:moveTo>
                  <a:pt x="18306" y="9550"/>
                </a:moveTo>
                <a:cubicBezTo>
                  <a:pt x="18306" y="9639"/>
                  <a:pt x="18264" y="9854"/>
                  <a:pt x="18405" y="9872"/>
                </a:cubicBezTo>
                <a:cubicBezTo>
                  <a:pt x="18541" y="9890"/>
                  <a:pt x="18676" y="9619"/>
                  <a:pt x="18728" y="9550"/>
                </a:cubicBezTo>
              </a:path>
              <a:path w="1812" h="968">
                <a:moveTo>
                  <a:pt x="18529" y="9227"/>
                </a:moveTo>
                <a:cubicBezTo>
                  <a:pt x="18529" y="9404"/>
                  <a:pt x="18582" y="9578"/>
                  <a:pt x="18628" y="9748"/>
                </a:cubicBezTo>
                <a:cubicBezTo>
                  <a:pt x="18658" y="9860"/>
                  <a:pt x="18654" y="9842"/>
                  <a:pt x="18752" y="9823"/>
                </a:cubicBezTo>
              </a:path>
              <a:path w="1812" h="968">
                <a:moveTo>
                  <a:pt x="19000" y="9376"/>
                </a:moveTo>
                <a:cubicBezTo>
                  <a:pt x="18915" y="9386"/>
                  <a:pt x="18893" y="9399"/>
                  <a:pt x="18827" y="9451"/>
                </a:cubicBezTo>
                <a:cubicBezTo>
                  <a:pt x="18888" y="9511"/>
                  <a:pt x="19056" y="9511"/>
                  <a:pt x="19124" y="9599"/>
                </a:cubicBezTo>
                <a:cubicBezTo>
                  <a:pt x="19209" y="9709"/>
                  <a:pt x="18963" y="9718"/>
                  <a:pt x="18926" y="9723"/>
                </a:cubicBezTo>
                <a:cubicBezTo>
                  <a:pt x="18934" y="9698"/>
                  <a:pt x="18943" y="9674"/>
                  <a:pt x="18951" y="9649"/>
                </a:cubicBezTo>
              </a:path>
              <a:path w="1812" h="968">
                <a:moveTo>
                  <a:pt x="19248" y="9500"/>
                </a:moveTo>
                <a:cubicBezTo>
                  <a:pt x="19299" y="9471"/>
                  <a:pt x="19372" y="9435"/>
                  <a:pt x="19397" y="9401"/>
                </a:cubicBezTo>
                <a:cubicBezTo>
                  <a:pt x="19355" y="9315"/>
                  <a:pt x="19251" y="9337"/>
                  <a:pt x="19199" y="9426"/>
                </a:cubicBezTo>
                <a:cubicBezTo>
                  <a:pt x="19072" y="9642"/>
                  <a:pt x="19348" y="9674"/>
                  <a:pt x="19472" y="9674"/>
                </a:cubicBezTo>
              </a:path>
              <a:path w="1812" h="968">
                <a:moveTo>
                  <a:pt x="19472" y="9103"/>
                </a:moveTo>
                <a:cubicBezTo>
                  <a:pt x="19543" y="9298"/>
                  <a:pt x="19606" y="9509"/>
                  <a:pt x="19695" y="9699"/>
                </a:cubicBezTo>
                <a:cubicBezTo>
                  <a:pt x="19703" y="9707"/>
                  <a:pt x="19712" y="9715"/>
                  <a:pt x="19720" y="9723"/>
                </a:cubicBezTo>
              </a:path>
              <a:path w="1812" h="968">
                <a:moveTo>
                  <a:pt x="20067" y="8905"/>
                </a:moveTo>
                <a:cubicBezTo>
                  <a:pt x="19885" y="8922"/>
                  <a:pt x="19895" y="9056"/>
                  <a:pt x="19943" y="9227"/>
                </a:cubicBezTo>
                <a:cubicBezTo>
                  <a:pt x="19980" y="9359"/>
                  <a:pt x="20063" y="9475"/>
                  <a:pt x="20117" y="95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5040" y="4000680"/>
            <a:ext cx="527040" cy="277560"/>
          </a:xfrm>
          <a:custGeom>
            <a:avLst/>
            <a:gdLst/>
            <a:ahLst/>
            <a:rect l="l" t="t" r="r" b="b"/>
            <a:pathLst>
              <a:path w="1464" h="770">
                <a:moveTo>
                  <a:pt x="7516" y="11137"/>
                </a:moveTo>
                <a:cubicBezTo>
                  <a:pt x="7516" y="10992"/>
                  <a:pt x="7580" y="11368"/>
                  <a:pt x="7615" y="11509"/>
                </a:cubicBezTo>
                <a:cubicBezTo>
                  <a:pt x="7646" y="11634"/>
                  <a:pt x="7692" y="11758"/>
                  <a:pt x="7714" y="11881"/>
                </a:cubicBezTo>
                <a:cubicBezTo>
                  <a:pt x="7659" y="11811"/>
                  <a:pt x="7598" y="11680"/>
                  <a:pt x="7615" y="11584"/>
                </a:cubicBezTo>
                <a:cubicBezTo>
                  <a:pt x="7661" y="11469"/>
                  <a:pt x="7671" y="11434"/>
                  <a:pt x="7739" y="11385"/>
                </a:cubicBezTo>
                <a:cubicBezTo>
                  <a:pt x="7920" y="11460"/>
                  <a:pt x="8041" y="11560"/>
                  <a:pt x="8111" y="11757"/>
                </a:cubicBezTo>
                <a:cubicBezTo>
                  <a:pt x="8111" y="11774"/>
                  <a:pt x="8111" y="11790"/>
                  <a:pt x="8111" y="11807"/>
                </a:cubicBezTo>
              </a:path>
              <a:path w="1464" h="770">
                <a:moveTo>
                  <a:pt x="8533" y="11609"/>
                </a:moveTo>
                <a:cubicBezTo>
                  <a:pt x="8461" y="11465"/>
                  <a:pt x="8432" y="11419"/>
                  <a:pt x="8285" y="11361"/>
                </a:cubicBezTo>
                <a:cubicBezTo>
                  <a:pt x="8182" y="11455"/>
                  <a:pt x="7976" y="11683"/>
                  <a:pt x="8136" y="11832"/>
                </a:cubicBezTo>
                <a:cubicBezTo>
                  <a:pt x="8288" y="11973"/>
                  <a:pt x="8497" y="11727"/>
                  <a:pt x="8483" y="11584"/>
                </a:cubicBezTo>
                <a:cubicBezTo>
                  <a:pt x="8475" y="11576"/>
                  <a:pt x="8466" y="11567"/>
                  <a:pt x="8458" y="11559"/>
                </a:cubicBezTo>
                <a:cubicBezTo>
                  <a:pt x="8480" y="11626"/>
                  <a:pt x="8576" y="11800"/>
                  <a:pt x="8682" y="11757"/>
                </a:cubicBezTo>
                <a:cubicBezTo>
                  <a:pt x="8715" y="11724"/>
                  <a:pt x="8748" y="11691"/>
                  <a:pt x="8781" y="11658"/>
                </a:cubicBezTo>
              </a:path>
              <a:path w="1464" h="770">
                <a:moveTo>
                  <a:pt x="8830" y="11311"/>
                </a:moveTo>
                <a:cubicBezTo>
                  <a:pt x="8767" y="11367"/>
                  <a:pt x="8677" y="11406"/>
                  <a:pt x="8657" y="11485"/>
                </a:cubicBezTo>
                <a:cubicBezTo>
                  <a:pt x="8718" y="11493"/>
                  <a:pt x="9139" y="11504"/>
                  <a:pt x="8954" y="11683"/>
                </a:cubicBezTo>
                <a:cubicBezTo>
                  <a:pt x="8840" y="11729"/>
                  <a:pt x="8809" y="11743"/>
                  <a:pt x="8731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46640" y="3902040"/>
            <a:ext cx="607680" cy="304920"/>
          </a:xfrm>
          <a:custGeom>
            <a:avLst/>
            <a:gdLst/>
            <a:ahLst/>
            <a:rect l="l" t="t" r="r" b="b"/>
            <a:pathLst>
              <a:path w="1687" h="844">
                <a:moveTo>
                  <a:pt x="9575" y="10914"/>
                </a:moveTo>
                <a:cubicBezTo>
                  <a:pt x="9684" y="10892"/>
                  <a:pt x="9777" y="10791"/>
                  <a:pt x="9897" y="10864"/>
                </a:cubicBezTo>
                <a:cubicBezTo>
                  <a:pt x="10087" y="10979"/>
                  <a:pt x="9871" y="11155"/>
                  <a:pt x="9773" y="11212"/>
                </a:cubicBezTo>
                <a:cubicBezTo>
                  <a:pt x="9773" y="11195"/>
                  <a:pt x="9773" y="11179"/>
                  <a:pt x="9773" y="11162"/>
                </a:cubicBezTo>
                <a:cubicBezTo>
                  <a:pt x="9925" y="11117"/>
                  <a:pt x="10290" y="11110"/>
                  <a:pt x="10170" y="11410"/>
                </a:cubicBezTo>
                <a:cubicBezTo>
                  <a:pt x="10088" y="11616"/>
                  <a:pt x="9822" y="11607"/>
                  <a:pt x="9699" y="11509"/>
                </a:cubicBezTo>
              </a:path>
              <a:path w="1687" h="844">
                <a:moveTo>
                  <a:pt x="10790" y="11112"/>
                </a:moveTo>
                <a:cubicBezTo>
                  <a:pt x="10620" y="11140"/>
                  <a:pt x="10591" y="11304"/>
                  <a:pt x="10567" y="11460"/>
                </a:cubicBezTo>
                <a:cubicBezTo>
                  <a:pt x="10567" y="11601"/>
                  <a:pt x="10560" y="11645"/>
                  <a:pt x="10666" y="11683"/>
                </a:cubicBezTo>
                <a:cubicBezTo>
                  <a:pt x="10901" y="11555"/>
                  <a:pt x="11051" y="11360"/>
                  <a:pt x="10740" y="11162"/>
                </a:cubicBezTo>
                <a:cubicBezTo>
                  <a:pt x="10714" y="11145"/>
                  <a:pt x="10452" y="11137"/>
                  <a:pt x="10641" y="11137"/>
                </a:cubicBezTo>
              </a:path>
              <a:path w="1687" h="844">
                <a:moveTo>
                  <a:pt x="11112" y="11485"/>
                </a:moveTo>
                <a:cubicBezTo>
                  <a:pt x="11129" y="11510"/>
                  <a:pt x="11145" y="11534"/>
                  <a:pt x="11162" y="11559"/>
                </a:cubicBezTo>
                <a:cubicBezTo>
                  <a:pt x="11085" y="11418"/>
                  <a:pt x="10996" y="11291"/>
                  <a:pt x="11112" y="11137"/>
                </a:cubicBezTo>
                <a:cubicBezTo>
                  <a:pt x="11184" y="11090"/>
                  <a:pt x="11205" y="11075"/>
                  <a:pt x="11261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86160" y="4010040"/>
            <a:ext cx="731880" cy="187200"/>
          </a:xfrm>
          <a:custGeom>
            <a:avLst/>
            <a:gdLst/>
            <a:ahLst/>
            <a:rect l="l" t="t" r="r" b="b"/>
            <a:pathLst>
              <a:path w="2035" h="522">
                <a:moveTo>
                  <a:pt x="11906" y="11237"/>
                </a:moveTo>
                <a:cubicBezTo>
                  <a:pt x="11962" y="11373"/>
                  <a:pt x="12037" y="11514"/>
                  <a:pt x="12055" y="11658"/>
                </a:cubicBezTo>
                <a:cubicBezTo>
                  <a:pt x="12031" y="11564"/>
                  <a:pt x="11922" y="11178"/>
                  <a:pt x="12129" y="11162"/>
                </a:cubicBezTo>
                <a:cubicBezTo>
                  <a:pt x="12298" y="11149"/>
                  <a:pt x="12431" y="11477"/>
                  <a:pt x="12502" y="11584"/>
                </a:cubicBezTo>
                <a:cubicBezTo>
                  <a:pt x="12444" y="11469"/>
                  <a:pt x="12379" y="11280"/>
                  <a:pt x="12477" y="11162"/>
                </a:cubicBezTo>
                <a:cubicBezTo>
                  <a:pt x="12616" y="10994"/>
                  <a:pt x="12825" y="11491"/>
                  <a:pt x="12849" y="11559"/>
                </a:cubicBezTo>
                <a:cubicBezTo>
                  <a:pt x="12857" y="11592"/>
                  <a:pt x="12866" y="11625"/>
                  <a:pt x="12874" y="11658"/>
                </a:cubicBezTo>
              </a:path>
              <a:path w="2035" h="522">
                <a:moveTo>
                  <a:pt x="13072" y="11137"/>
                </a:moveTo>
                <a:cubicBezTo>
                  <a:pt x="12954" y="11342"/>
                  <a:pt x="12905" y="11450"/>
                  <a:pt x="12998" y="11658"/>
                </a:cubicBezTo>
                <a:cubicBezTo>
                  <a:pt x="13175" y="11570"/>
                  <a:pt x="13394" y="11457"/>
                  <a:pt x="13196" y="11237"/>
                </a:cubicBezTo>
                <a:cubicBezTo>
                  <a:pt x="13106" y="11192"/>
                  <a:pt x="13084" y="11178"/>
                  <a:pt x="13022" y="11162"/>
                </a:cubicBezTo>
              </a:path>
              <a:path w="2035" h="522">
                <a:moveTo>
                  <a:pt x="13320" y="11361"/>
                </a:moveTo>
                <a:cubicBezTo>
                  <a:pt x="13378" y="11476"/>
                  <a:pt x="13387" y="11492"/>
                  <a:pt x="13419" y="11559"/>
                </a:cubicBezTo>
                <a:cubicBezTo>
                  <a:pt x="13389" y="11434"/>
                  <a:pt x="13343" y="11353"/>
                  <a:pt x="13370" y="11212"/>
                </a:cubicBezTo>
                <a:cubicBezTo>
                  <a:pt x="13390" y="11106"/>
                  <a:pt x="13475" y="11152"/>
                  <a:pt x="13543" y="11162"/>
                </a:cubicBezTo>
              </a:path>
              <a:path w="2035" h="522">
                <a:moveTo>
                  <a:pt x="13593" y="11286"/>
                </a:moveTo>
                <a:cubicBezTo>
                  <a:pt x="13685" y="11321"/>
                  <a:pt x="13745" y="11295"/>
                  <a:pt x="13841" y="11286"/>
                </a:cubicBezTo>
                <a:cubicBezTo>
                  <a:pt x="13849" y="11286"/>
                  <a:pt x="13858" y="11286"/>
                  <a:pt x="13866" y="11286"/>
                </a:cubicBezTo>
                <a:cubicBezTo>
                  <a:pt x="13845" y="11182"/>
                  <a:pt x="13757" y="11111"/>
                  <a:pt x="13643" y="11137"/>
                </a:cubicBezTo>
                <a:cubicBezTo>
                  <a:pt x="13457" y="11179"/>
                  <a:pt x="13537" y="11519"/>
                  <a:pt x="13667" y="11584"/>
                </a:cubicBezTo>
                <a:cubicBezTo>
                  <a:pt x="13814" y="11584"/>
                  <a:pt x="13874" y="11569"/>
                  <a:pt x="13940" y="114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0880" y="3840120"/>
            <a:ext cx="1063440" cy="339840"/>
          </a:xfrm>
          <a:custGeom>
            <a:avLst/>
            <a:gdLst/>
            <a:ahLst/>
            <a:rect l="l" t="t" r="r" b="b"/>
            <a:pathLst>
              <a:path w="2953" h="944">
                <a:moveTo>
                  <a:pt x="15180" y="10864"/>
                </a:moveTo>
                <a:cubicBezTo>
                  <a:pt x="15180" y="10744"/>
                  <a:pt x="15101" y="10694"/>
                  <a:pt x="14982" y="10666"/>
                </a:cubicBezTo>
                <a:cubicBezTo>
                  <a:pt x="14645" y="10586"/>
                  <a:pt x="14901" y="11152"/>
                  <a:pt x="14932" y="11237"/>
                </a:cubicBezTo>
                <a:cubicBezTo>
                  <a:pt x="14981" y="11371"/>
                  <a:pt x="15191" y="11564"/>
                  <a:pt x="15056" y="11609"/>
                </a:cubicBezTo>
              </a:path>
              <a:path w="2953" h="944">
                <a:moveTo>
                  <a:pt x="14858" y="11261"/>
                </a:moveTo>
                <a:cubicBezTo>
                  <a:pt x="15066" y="11240"/>
                  <a:pt x="15269" y="11212"/>
                  <a:pt x="15478" y="11212"/>
                </a:cubicBezTo>
              </a:path>
              <a:path w="2953" h="944">
                <a:moveTo>
                  <a:pt x="15553" y="11137"/>
                </a:moveTo>
                <a:cubicBezTo>
                  <a:pt x="15417" y="11069"/>
                  <a:pt x="15374" y="11295"/>
                  <a:pt x="15329" y="11410"/>
                </a:cubicBezTo>
                <a:cubicBezTo>
                  <a:pt x="15530" y="11539"/>
                  <a:pt x="15601" y="11472"/>
                  <a:pt x="15652" y="11237"/>
                </a:cubicBezTo>
                <a:cubicBezTo>
                  <a:pt x="15652" y="11220"/>
                  <a:pt x="15652" y="11204"/>
                  <a:pt x="15652" y="11187"/>
                </a:cubicBezTo>
                <a:cubicBezTo>
                  <a:pt x="15696" y="11344"/>
                  <a:pt x="15735" y="11373"/>
                  <a:pt x="15875" y="11410"/>
                </a:cubicBezTo>
              </a:path>
              <a:path w="2953" h="944">
                <a:moveTo>
                  <a:pt x="16098" y="11063"/>
                </a:moveTo>
                <a:cubicBezTo>
                  <a:pt x="16065" y="11030"/>
                  <a:pt x="16048" y="11013"/>
                  <a:pt x="16024" y="10988"/>
                </a:cubicBezTo>
                <a:cubicBezTo>
                  <a:pt x="15857" y="11044"/>
                  <a:pt x="15768" y="11244"/>
                  <a:pt x="15925" y="11410"/>
                </a:cubicBezTo>
                <a:cubicBezTo>
                  <a:pt x="16076" y="11471"/>
                  <a:pt x="16144" y="11475"/>
                  <a:pt x="16247" y="11361"/>
                </a:cubicBezTo>
              </a:path>
              <a:path w="2953" h="944">
                <a:moveTo>
                  <a:pt x="16197" y="10740"/>
                </a:moveTo>
                <a:cubicBezTo>
                  <a:pt x="16280" y="10938"/>
                  <a:pt x="16366" y="11136"/>
                  <a:pt x="16446" y="11336"/>
                </a:cubicBezTo>
                <a:cubicBezTo>
                  <a:pt x="16454" y="11361"/>
                  <a:pt x="16462" y="11385"/>
                  <a:pt x="16470" y="11410"/>
                </a:cubicBezTo>
              </a:path>
              <a:path w="2953" h="944">
                <a:moveTo>
                  <a:pt x="16024" y="11063"/>
                </a:moveTo>
                <a:cubicBezTo>
                  <a:pt x="16222" y="11044"/>
                  <a:pt x="16421" y="11025"/>
                  <a:pt x="16619" y="11013"/>
                </a:cubicBezTo>
                <a:cubicBezTo>
                  <a:pt x="16627" y="11013"/>
                  <a:pt x="16636" y="11013"/>
                  <a:pt x="16644" y="11013"/>
                </a:cubicBezTo>
                <a:cubicBezTo>
                  <a:pt x="16616" y="11124"/>
                  <a:pt x="16482" y="11276"/>
                  <a:pt x="16545" y="11410"/>
                </a:cubicBezTo>
                <a:cubicBezTo>
                  <a:pt x="16578" y="11427"/>
                  <a:pt x="16611" y="11443"/>
                  <a:pt x="16644" y="11460"/>
                </a:cubicBezTo>
                <a:cubicBezTo>
                  <a:pt x="16805" y="11401"/>
                  <a:pt x="17040" y="11237"/>
                  <a:pt x="16818" y="11038"/>
                </a:cubicBezTo>
                <a:cubicBezTo>
                  <a:pt x="16713" y="10944"/>
                  <a:pt x="16599" y="11000"/>
                  <a:pt x="16495" y="11038"/>
                </a:cubicBezTo>
              </a:path>
              <a:path w="2953" h="944">
                <a:moveTo>
                  <a:pt x="16917" y="11063"/>
                </a:moveTo>
                <a:cubicBezTo>
                  <a:pt x="16947" y="11129"/>
                  <a:pt x="17038" y="11364"/>
                  <a:pt x="17066" y="11336"/>
                </a:cubicBezTo>
                <a:cubicBezTo>
                  <a:pt x="17007" y="11218"/>
                  <a:pt x="16934" y="11082"/>
                  <a:pt x="17041" y="10964"/>
                </a:cubicBezTo>
                <a:cubicBezTo>
                  <a:pt x="17119" y="10912"/>
                  <a:pt x="17147" y="10894"/>
                  <a:pt x="17214" y="10889"/>
                </a:cubicBezTo>
              </a:path>
              <a:path w="2953" h="944">
                <a:moveTo>
                  <a:pt x="17438" y="10840"/>
                </a:moveTo>
                <a:cubicBezTo>
                  <a:pt x="17363" y="10914"/>
                  <a:pt x="17338" y="10938"/>
                  <a:pt x="17289" y="10988"/>
                </a:cubicBezTo>
                <a:cubicBezTo>
                  <a:pt x="17437" y="10988"/>
                  <a:pt x="17594" y="10978"/>
                  <a:pt x="17711" y="11088"/>
                </a:cubicBezTo>
                <a:cubicBezTo>
                  <a:pt x="17902" y="11268"/>
                  <a:pt x="17573" y="11344"/>
                  <a:pt x="17462" y="11336"/>
                </a:cubicBezTo>
                <a:cubicBezTo>
                  <a:pt x="17429" y="11328"/>
                  <a:pt x="17396" y="11319"/>
                  <a:pt x="17363" y="113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1960" y="4303800"/>
            <a:ext cx="6251760" cy="384120"/>
          </a:xfrm>
          <a:custGeom>
            <a:avLst/>
            <a:gdLst/>
            <a:ahLst/>
            <a:rect l="l" t="t" r="r" b="b"/>
            <a:pathLst>
              <a:path w="17364" h="1067">
                <a:moveTo>
                  <a:pt x="9327" y="12626"/>
                </a:moveTo>
                <a:cubicBezTo>
                  <a:pt x="9349" y="12761"/>
                  <a:pt x="9351" y="12799"/>
                  <a:pt x="9401" y="12874"/>
                </a:cubicBezTo>
              </a:path>
              <a:path w="17364" h="1067">
                <a:moveTo>
                  <a:pt x="9227" y="12452"/>
                </a:moveTo>
                <a:lnTo>
                  <a:pt x="9227" y="12452"/>
                </a:lnTo>
                <a:lnTo>
                  <a:pt x="9227" y="12452"/>
                </a:lnTo>
              </a:path>
              <a:path w="17364" h="1067">
                <a:moveTo>
                  <a:pt x="9227" y="12452"/>
                </a:moveTo>
                <a:lnTo>
                  <a:pt x="9227" y="12452"/>
                </a:lnTo>
              </a:path>
              <a:path w="17364" h="1067">
                <a:moveTo>
                  <a:pt x="9426" y="12650"/>
                </a:moveTo>
                <a:cubicBezTo>
                  <a:pt x="9589" y="12671"/>
                  <a:pt x="9723" y="12699"/>
                  <a:pt x="9872" y="12626"/>
                </a:cubicBezTo>
              </a:path>
              <a:path w="17364" h="1067">
                <a:moveTo>
                  <a:pt x="12551" y="12452"/>
                </a:moveTo>
                <a:cubicBezTo>
                  <a:pt x="12597" y="12566"/>
                  <a:pt x="12611" y="12597"/>
                  <a:pt x="12626" y="12675"/>
                </a:cubicBezTo>
              </a:path>
              <a:path w="17364" h="1067">
                <a:moveTo>
                  <a:pt x="12526" y="12229"/>
                </a:moveTo>
                <a:cubicBezTo>
                  <a:pt x="12526" y="12237"/>
                  <a:pt x="12526" y="12246"/>
                  <a:pt x="12526" y="12254"/>
                </a:cubicBezTo>
              </a:path>
              <a:path w="17364" h="1067">
                <a:moveTo>
                  <a:pt x="12526" y="12254"/>
                </a:moveTo>
                <a:lnTo>
                  <a:pt x="12526" y="12254"/>
                </a:lnTo>
              </a:path>
              <a:path w="17364" h="1067">
                <a:moveTo>
                  <a:pt x="18852" y="12229"/>
                </a:moveTo>
                <a:cubicBezTo>
                  <a:pt x="18882" y="12311"/>
                  <a:pt x="18863" y="12367"/>
                  <a:pt x="18926" y="12427"/>
                </a:cubicBezTo>
              </a:path>
              <a:path w="17364" h="1067">
                <a:moveTo>
                  <a:pt x="18802" y="11956"/>
                </a:moveTo>
                <a:lnTo>
                  <a:pt x="18802" y="11956"/>
                </a:lnTo>
                <a:lnTo>
                  <a:pt x="18802" y="11956"/>
                </a:lnTo>
              </a:path>
              <a:path w="17364" h="1067">
                <a:moveTo>
                  <a:pt x="18802" y="11956"/>
                </a:moveTo>
                <a:lnTo>
                  <a:pt x="18802" y="11956"/>
                </a:lnTo>
              </a:path>
              <a:path w="17364" h="1067">
                <a:moveTo>
                  <a:pt x="1563" y="13022"/>
                </a:moveTo>
                <a:cubicBezTo>
                  <a:pt x="1644" y="13015"/>
                  <a:pt x="1717" y="12990"/>
                  <a:pt x="1786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6040" y="4545000"/>
            <a:ext cx="590760" cy="214200"/>
          </a:xfrm>
          <a:custGeom>
            <a:avLst/>
            <a:gdLst/>
            <a:ahLst/>
            <a:rect l="l" t="t" r="r" b="b"/>
            <a:pathLst>
              <a:path w="1638" h="596">
                <a:moveTo>
                  <a:pt x="2456" y="12650"/>
                </a:moveTo>
                <a:cubicBezTo>
                  <a:pt x="2446" y="12621"/>
                  <a:pt x="2372" y="12604"/>
                  <a:pt x="2332" y="12626"/>
                </a:cubicBezTo>
                <a:cubicBezTo>
                  <a:pt x="2222" y="12686"/>
                  <a:pt x="2132" y="12877"/>
                  <a:pt x="2158" y="12998"/>
                </a:cubicBezTo>
                <a:cubicBezTo>
                  <a:pt x="2193" y="13160"/>
                  <a:pt x="2368" y="13182"/>
                  <a:pt x="2505" y="13171"/>
                </a:cubicBezTo>
                <a:cubicBezTo>
                  <a:pt x="2616" y="13162"/>
                  <a:pt x="2798" y="13118"/>
                  <a:pt x="2853" y="12998"/>
                </a:cubicBezTo>
                <a:cubicBezTo>
                  <a:pt x="2903" y="12890"/>
                  <a:pt x="2867" y="12838"/>
                  <a:pt x="2778" y="12774"/>
                </a:cubicBezTo>
                <a:cubicBezTo>
                  <a:pt x="2734" y="12742"/>
                  <a:pt x="2656" y="12713"/>
                  <a:pt x="2604" y="12700"/>
                </a:cubicBezTo>
                <a:cubicBezTo>
                  <a:pt x="2552" y="12687"/>
                  <a:pt x="2512" y="12675"/>
                  <a:pt x="2456" y="12675"/>
                </a:cubicBezTo>
                <a:cubicBezTo>
                  <a:pt x="2431" y="12675"/>
                  <a:pt x="2423" y="12675"/>
                  <a:pt x="2406" y="12675"/>
                </a:cubicBezTo>
              </a:path>
              <a:path w="1638" h="596">
                <a:moveTo>
                  <a:pt x="1538" y="12725"/>
                </a:moveTo>
                <a:cubicBezTo>
                  <a:pt x="1573" y="12874"/>
                  <a:pt x="1627" y="13018"/>
                  <a:pt x="1637" y="13171"/>
                </a:cubicBezTo>
                <a:cubicBezTo>
                  <a:pt x="1637" y="13179"/>
                  <a:pt x="1637" y="13188"/>
                  <a:pt x="1637" y="13196"/>
                </a:cubicBezTo>
              </a:path>
              <a:path w="1638" h="596">
                <a:moveTo>
                  <a:pt x="1265" y="13072"/>
                </a:moveTo>
                <a:cubicBezTo>
                  <a:pt x="1398" y="13050"/>
                  <a:pt x="1528" y="12998"/>
                  <a:pt x="1662" y="12973"/>
                </a:cubicBezTo>
                <a:cubicBezTo>
                  <a:pt x="1670" y="12973"/>
                  <a:pt x="1679" y="12973"/>
                  <a:pt x="1687" y="12973"/>
                </a:cubicBezTo>
              </a:path>
              <a:path w="1638" h="596">
                <a:moveTo>
                  <a:pt x="1662" y="12725"/>
                </a:moveTo>
                <a:cubicBezTo>
                  <a:pt x="1639" y="12840"/>
                  <a:pt x="1597" y="12957"/>
                  <a:pt x="1563" y="13072"/>
                </a:cubicBezTo>
                <a:cubicBezTo>
                  <a:pt x="1544" y="13136"/>
                  <a:pt x="1526" y="13169"/>
                  <a:pt x="1513" y="13221"/>
                </a:cubicBezTo>
              </a:path>
              <a:path w="1638" h="596">
                <a:moveTo>
                  <a:pt x="1240" y="12998"/>
                </a:moveTo>
                <a:cubicBezTo>
                  <a:pt x="1370" y="12976"/>
                  <a:pt x="1578" y="12971"/>
                  <a:pt x="1712" y="13022"/>
                </a:cubicBezTo>
                <a:cubicBezTo>
                  <a:pt x="1748" y="13036"/>
                  <a:pt x="1804" y="13073"/>
                  <a:pt x="1836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14280" y="4527720"/>
            <a:ext cx="500400" cy="231480"/>
          </a:xfrm>
          <a:custGeom>
            <a:avLst/>
            <a:gdLst/>
            <a:ahLst/>
            <a:rect l="l" t="t" r="r" b="b"/>
            <a:pathLst>
              <a:path w="1390" h="646">
                <a:moveTo>
                  <a:pt x="3646" y="12898"/>
                </a:moveTo>
                <a:cubicBezTo>
                  <a:pt x="3625" y="12846"/>
                  <a:pt x="3551" y="12757"/>
                  <a:pt x="3473" y="12799"/>
                </a:cubicBezTo>
                <a:cubicBezTo>
                  <a:pt x="3354" y="12863"/>
                  <a:pt x="3307" y="13151"/>
                  <a:pt x="3448" y="13221"/>
                </a:cubicBezTo>
                <a:cubicBezTo>
                  <a:pt x="3622" y="13308"/>
                  <a:pt x="3718" y="13045"/>
                  <a:pt x="3696" y="12923"/>
                </a:cubicBezTo>
                <a:cubicBezTo>
                  <a:pt x="3688" y="12923"/>
                  <a:pt x="3679" y="12923"/>
                  <a:pt x="3671" y="12923"/>
                </a:cubicBezTo>
                <a:cubicBezTo>
                  <a:pt x="3719" y="13019"/>
                  <a:pt x="3805" y="13081"/>
                  <a:pt x="3919" y="13022"/>
                </a:cubicBezTo>
                <a:cubicBezTo>
                  <a:pt x="3997" y="12982"/>
                  <a:pt x="3952" y="12894"/>
                  <a:pt x="3969" y="12923"/>
                </a:cubicBezTo>
                <a:cubicBezTo>
                  <a:pt x="4012" y="12988"/>
                  <a:pt x="4023" y="13003"/>
                  <a:pt x="4043" y="13047"/>
                </a:cubicBezTo>
                <a:cubicBezTo>
                  <a:pt x="3996" y="12936"/>
                  <a:pt x="3918" y="12925"/>
                  <a:pt x="3994" y="12849"/>
                </a:cubicBezTo>
                <a:cubicBezTo>
                  <a:pt x="4172" y="12809"/>
                  <a:pt x="4322" y="12823"/>
                  <a:pt x="4366" y="13047"/>
                </a:cubicBezTo>
                <a:cubicBezTo>
                  <a:pt x="4366" y="13121"/>
                  <a:pt x="4391" y="13154"/>
                  <a:pt x="4341" y="13146"/>
                </a:cubicBezTo>
              </a:path>
              <a:path w="1390" h="646">
                <a:moveTo>
                  <a:pt x="4688" y="12973"/>
                </a:moveTo>
                <a:cubicBezTo>
                  <a:pt x="4707" y="12889"/>
                  <a:pt x="4700" y="12805"/>
                  <a:pt x="4589" y="12774"/>
                </a:cubicBezTo>
                <a:cubicBezTo>
                  <a:pt x="4401" y="12721"/>
                  <a:pt x="4388" y="13039"/>
                  <a:pt x="4366" y="13146"/>
                </a:cubicBezTo>
                <a:cubicBezTo>
                  <a:pt x="4590" y="13243"/>
                  <a:pt x="4634" y="13180"/>
                  <a:pt x="4713" y="12973"/>
                </a:cubicBezTo>
              </a:path>
              <a:path w="1390" h="646">
                <a:moveTo>
                  <a:pt x="4514" y="12576"/>
                </a:moveTo>
                <a:cubicBezTo>
                  <a:pt x="4559" y="12733"/>
                  <a:pt x="4670" y="12871"/>
                  <a:pt x="4738" y="13022"/>
                </a:cubicBezTo>
                <a:cubicBezTo>
                  <a:pt x="4746" y="13047"/>
                  <a:pt x="4754" y="13072"/>
                  <a:pt x="4762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84240" y="4527720"/>
            <a:ext cx="71640" cy="223560"/>
          </a:xfrm>
          <a:custGeom>
            <a:avLst/>
            <a:gdLst/>
            <a:ahLst/>
            <a:rect l="l" t="t" r="r" b="b"/>
            <a:pathLst>
              <a:path w="199" h="621">
                <a:moveTo>
                  <a:pt x="5234" y="12576"/>
                </a:moveTo>
                <a:cubicBezTo>
                  <a:pt x="5266" y="12702"/>
                  <a:pt x="5342" y="12865"/>
                  <a:pt x="5383" y="12998"/>
                </a:cubicBezTo>
                <a:cubicBezTo>
                  <a:pt x="5421" y="13112"/>
                  <a:pt x="5437" y="13127"/>
                  <a:pt x="5432" y="131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03640" y="4545000"/>
            <a:ext cx="509400" cy="179280"/>
          </a:xfrm>
          <a:custGeom>
            <a:avLst/>
            <a:gdLst/>
            <a:ahLst/>
            <a:rect l="l" t="t" r="r" b="b"/>
            <a:pathLst>
              <a:path w="1414" h="497">
                <a:moveTo>
                  <a:pt x="6747" y="12824"/>
                </a:moveTo>
                <a:cubicBezTo>
                  <a:pt x="6719" y="12777"/>
                  <a:pt x="6605" y="12661"/>
                  <a:pt x="6524" y="12700"/>
                </a:cubicBezTo>
                <a:cubicBezTo>
                  <a:pt x="6351" y="12782"/>
                  <a:pt x="6359" y="13042"/>
                  <a:pt x="6524" y="13122"/>
                </a:cubicBezTo>
                <a:cubicBezTo>
                  <a:pt x="6710" y="13212"/>
                  <a:pt x="6771" y="12942"/>
                  <a:pt x="6722" y="12824"/>
                </a:cubicBezTo>
                <a:cubicBezTo>
                  <a:pt x="6714" y="12824"/>
                  <a:pt x="6705" y="12824"/>
                  <a:pt x="6697" y="12824"/>
                </a:cubicBezTo>
                <a:cubicBezTo>
                  <a:pt x="6730" y="12878"/>
                  <a:pt x="6879" y="13032"/>
                  <a:pt x="6970" y="12973"/>
                </a:cubicBezTo>
                <a:cubicBezTo>
                  <a:pt x="6987" y="12940"/>
                  <a:pt x="7003" y="12907"/>
                  <a:pt x="7020" y="12874"/>
                </a:cubicBezTo>
              </a:path>
              <a:path w="1414" h="497">
                <a:moveTo>
                  <a:pt x="7020" y="12849"/>
                </a:moveTo>
                <a:cubicBezTo>
                  <a:pt x="7036" y="12874"/>
                  <a:pt x="7053" y="12898"/>
                  <a:pt x="7069" y="12923"/>
                </a:cubicBezTo>
                <a:cubicBezTo>
                  <a:pt x="7004" y="12782"/>
                  <a:pt x="6986" y="12670"/>
                  <a:pt x="7169" y="12626"/>
                </a:cubicBezTo>
                <a:cubicBezTo>
                  <a:pt x="7252" y="12626"/>
                  <a:pt x="7286" y="12628"/>
                  <a:pt x="7342" y="12650"/>
                </a:cubicBezTo>
              </a:path>
              <a:path w="1414" h="497">
                <a:moveTo>
                  <a:pt x="7466" y="12725"/>
                </a:moveTo>
                <a:cubicBezTo>
                  <a:pt x="7541" y="12733"/>
                  <a:pt x="7613" y="12744"/>
                  <a:pt x="7689" y="12750"/>
                </a:cubicBezTo>
                <a:cubicBezTo>
                  <a:pt x="7689" y="12675"/>
                  <a:pt x="7669" y="12633"/>
                  <a:pt x="7590" y="12626"/>
                </a:cubicBezTo>
                <a:cubicBezTo>
                  <a:pt x="7439" y="12612"/>
                  <a:pt x="7222" y="12759"/>
                  <a:pt x="7392" y="12923"/>
                </a:cubicBezTo>
                <a:cubicBezTo>
                  <a:pt x="7533" y="13060"/>
                  <a:pt x="7694" y="12913"/>
                  <a:pt x="7813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00240" y="4402080"/>
            <a:ext cx="938520" cy="258840"/>
          </a:xfrm>
          <a:custGeom>
            <a:avLst/>
            <a:gdLst/>
            <a:ahLst/>
            <a:rect l="l" t="t" r="r" b="b"/>
            <a:pathLst>
              <a:path w="2606" h="720">
                <a:moveTo>
                  <a:pt x="8334" y="12551"/>
                </a:moveTo>
                <a:cubicBezTo>
                  <a:pt x="8351" y="12659"/>
                  <a:pt x="8381" y="12766"/>
                  <a:pt x="8409" y="12874"/>
                </a:cubicBezTo>
                <a:cubicBezTo>
                  <a:pt x="8409" y="12953"/>
                  <a:pt x="8339" y="12779"/>
                  <a:pt x="8334" y="12700"/>
                </a:cubicBezTo>
                <a:cubicBezTo>
                  <a:pt x="8320" y="12463"/>
                  <a:pt x="8602" y="12501"/>
                  <a:pt x="8706" y="12626"/>
                </a:cubicBezTo>
                <a:cubicBezTo>
                  <a:pt x="8752" y="12680"/>
                  <a:pt x="8850" y="12878"/>
                  <a:pt x="8781" y="12923"/>
                </a:cubicBezTo>
              </a:path>
              <a:path w="2606" h="720">
                <a:moveTo>
                  <a:pt x="8880" y="12725"/>
                </a:moveTo>
                <a:cubicBezTo>
                  <a:pt x="8972" y="12699"/>
                  <a:pt x="9057" y="12675"/>
                  <a:pt x="9153" y="12675"/>
                </a:cubicBezTo>
                <a:cubicBezTo>
                  <a:pt x="9073" y="12595"/>
                  <a:pt x="8939" y="12502"/>
                  <a:pt x="8830" y="12626"/>
                </a:cubicBezTo>
                <a:cubicBezTo>
                  <a:pt x="8682" y="12794"/>
                  <a:pt x="8881" y="12973"/>
                  <a:pt x="9054" y="12948"/>
                </a:cubicBezTo>
                <a:cubicBezTo>
                  <a:pt x="9203" y="12898"/>
                  <a:pt x="9253" y="12881"/>
                  <a:pt x="9302" y="12774"/>
                </a:cubicBezTo>
              </a:path>
              <a:path w="2606" h="720">
                <a:moveTo>
                  <a:pt x="9599" y="12229"/>
                </a:moveTo>
                <a:cubicBezTo>
                  <a:pt x="9560" y="12242"/>
                  <a:pt x="9600" y="12360"/>
                  <a:pt x="9624" y="12452"/>
                </a:cubicBezTo>
                <a:cubicBezTo>
                  <a:pt x="9632" y="12482"/>
                  <a:pt x="9757" y="12856"/>
                  <a:pt x="9723" y="12874"/>
                </a:cubicBezTo>
                <a:cubicBezTo>
                  <a:pt x="9715" y="12866"/>
                  <a:pt x="9707" y="12857"/>
                  <a:pt x="9699" y="12849"/>
                </a:cubicBezTo>
              </a:path>
              <a:path w="2606" h="720">
                <a:moveTo>
                  <a:pt x="9773" y="12328"/>
                </a:moveTo>
                <a:cubicBezTo>
                  <a:pt x="9842" y="12478"/>
                  <a:pt x="9889" y="12640"/>
                  <a:pt x="9971" y="12774"/>
                </a:cubicBezTo>
                <a:cubicBezTo>
                  <a:pt x="9921" y="12654"/>
                  <a:pt x="9951" y="12588"/>
                  <a:pt x="10096" y="12601"/>
                </a:cubicBezTo>
                <a:cubicBezTo>
                  <a:pt x="10268" y="12616"/>
                  <a:pt x="10281" y="12758"/>
                  <a:pt x="10294" y="12898"/>
                </a:cubicBezTo>
              </a:path>
              <a:path w="2606" h="720">
                <a:moveTo>
                  <a:pt x="10393" y="12700"/>
                </a:moveTo>
                <a:cubicBezTo>
                  <a:pt x="10433" y="12696"/>
                  <a:pt x="10592" y="12700"/>
                  <a:pt x="10616" y="12675"/>
                </a:cubicBezTo>
                <a:cubicBezTo>
                  <a:pt x="10616" y="12667"/>
                  <a:pt x="10616" y="12658"/>
                  <a:pt x="10616" y="12650"/>
                </a:cubicBezTo>
                <a:cubicBezTo>
                  <a:pt x="10600" y="12536"/>
                  <a:pt x="10497" y="12535"/>
                  <a:pt x="10393" y="12576"/>
                </a:cubicBezTo>
                <a:cubicBezTo>
                  <a:pt x="10249" y="12632"/>
                  <a:pt x="10269" y="12858"/>
                  <a:pt x="10418" y="12898"/>
                </a:cubicBezTo>
                <a:cubicBezTo>
                  <a:pt x="10565" y="12898"/>
                  <a:pt x="10614" y="12899"/>
                  <a:pt x="10691" y="12824"/>
                </a:cubicBezTo>
              </a:path>
              <a:path w="2606" h="720">
                <a:moveTo>
                  <a:pt x="10765" y="12700"/>
                </a:moveTo>
                <a:cubicBezTo>
                  <a:pt x="10779" y="12749"/>
                  <a:pt x="10790" y="12850"/>
                  <a:pt x="10790" y="12799"/>
                </a:cubicBezTo>
                <a:cubicBezTo>
                  <a:pt x="10747" y="12684"/>
                  <a:pt x="10745" y="12573"/>
                  <a:pt x="10864" y="12502"/>
                </a:cubicBezTo>
                <a:cubicBezTo>
                  <a:pt x="10889" y="12494"/>
                  <a:pt x="10914" y="12485"/>
                  <a:pt x="10939" y="12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70240" y="4446720"/>
            <a:ext cx="777960" cy="312480"/>
          </a:xfrm>
          <a:custGeom>
            <a:avLst/>
            <a:gdLst/>
            <a:ahLst/>
            <a:rect l="l" t="t" r="r" b="b"/>
            <a:pathLst>
              <a:path w="2159" h="869">
                <a:moveTo>
                  <a:pt x="11633" y="12601"/>
                </a:moveTo>
                <a:cubicBezTo>
                  <a:pt x="11675" y="12790"/>
                  <a:pt x="11733" y="12975"/>
                  <a:pt x="11757" y="13171"/>
                </a:cubicBezTo>
                <a:cubicBezTo>
                  <a:pt x="11757" y="13188"/>
                  <a:pt x="11757" y="13204"/>
                  <a:pt x="11757" y="13221"/>
                </a:cubicBezTo>
                <a:cubicBezTo>
                  <a:pt x="11629" y="13091"/>
                  <a:pt x="11577" y="12818"/>
                  <a:pt x="11609" y="12626"/>
                </a:cubicBezTo>
                <a:cubicBezTo>
                  <a:pt x="11677" y="12489"/>
                  <a:pt x="11689" y="12442"/>
                  <a:pt x="11807" y="12452"/>
                </a:cubicBezTo>
                <a:cubicBezTo>
                  <a:pt x="11927" y="12618"/>
                  <a:pt x="12014" y="12809"/>
                  <a:pt x="11708" y="12824"/>
                </a:cubicBezTo>
                <a:cubicBezTo>
                  <a:pt x="11624" y="12803"/>
                  <a:pt x="11598" y="12808"/>
                  <a:pt x="11584" y="12750"/>
                </a:cubicBezTo>
              </a:path>
              <a:path w="2159" h="869">
                <a:moveTo>
                  <a:pt x="12030" y="12526"/>
                </a:moveTo>
                <a:cubicBezTo>
                  <a:pt x="12090" y="12624"/>
                  <a:pt x="12102" y="12639"/>
                  <a:pt x="12129" y="12700"/>
                </a:cubicBezTo>
                <a:cubicBezTo>
                  <a:pt x="12113" y="12601"/>
                  <a:pt x="12079" y="12500"/>
                  <a:pt x="12179" y="12427"/>
                </a:cubicBezTo>
                <a:cubicBezTo>
                  <a:pt x="12248" y="12377"/>
                  <a:pt x="12350" y="12421"/>
                  <a:pt x="12427" y="12427"/>
                </a:cubicBezTo>
              </a:path>
              <a:path w="2159" h="869">
                <a:moveTo>
                  <a:pt x="12750" y="12477"/>
                </a:moveTo>
                <a:cubicBezTo>
                  <a:pt x="12775" y="12579"/>
                  <a:pt x="12784" y="12615"/>
                  <a:pt x="12824" y="12675"/>
                </a:cubicBezTo>
                <a:cubicBezTo>
                  <a:pt x="12807" y="12571"/>
                  <a:pt x="12766" y="12508"/>
                  <a:pt x="12799" y="12402"/>
                </a:cubicBezTo>
                <a:cubicBezTo>
                  <a:pt x="12862" y="12198"/>
                  <a:pt x="13029" y="12564"/>
                  <a:pt x="13047" y="12601"/>
                </a:cubicBezTo>
                <a:cubicBezTo>
                  <a:pt x="13067" y="12641"/>
                  <a:pt x="13076" y="12667"/>
                  <a:pt x="13072" y="12626"/>
                </a:cubicBezTo>
                <a:cubicBezTo>
                  <a:pt x="12972" y="12526"/>
                  <a:pt x="13040" y="12442"/>
                  <a:pt x="13122" y="12353"/>
                </a:cubicBezTo>
                <a:cubicBezTo>
                  <a:pt x="13239" y="12443"/>
                  <a:pt x="13314" y="12547"/>
                  <a:pt x="13345" y="12700"/>
                </a:cubicBezTo>
              </a:path>
              <a:path w="2159" h="869">
                <a:moveTo>
                  <a:pt x="13444" y="12526"/>
                </a:moveTo>
                <a:cubicBezTo>
                  <a:pt x="13502" y="12526"/>
                  <a:pt x="13560" y="12526"/>
                  <a:pt x="13618" y="12526"/>
                </a:cubicBezTo>
                <a:cubicBezTo>
                  <a:pt x="13606" y="12466"/>
                  <a:pt x="13551" y="12367"/>
                  <a:pt x="13469" y="12402"/>
                </a:cubicBezTo>
                <a:cubicBezTo>
                  <a:pt x="13352" y="12451"/>
                  <a:pt x="13367" y="12741"/>
                  <a:pt x="13494" y="12774"/>
                </a:cubicBezTo>
                <a:cubicBezTo>
                  <a:pt x="13629" y="12748"/>
                  <a:pt x="13679" y="12733"/>
                  <a:pt x="13742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32240" y="4438800"/>
            <a:ext cx="393840" cy="160200"/>
          </a:xfrm>
          <a:custGeom>
            <a:avLst/>
            <a:gdLst/>
            <a:ahLst/>
            <a:rect l="l" t="t" r="r" b="b"/>
            <a:pathLst>
              <a:path w="1092" h="447">
                <a:moveTo>
                  <a:pt x="14536" y="12328"/>
                </a:moveTo>
                <a:cubicBezTo>
                  <a:pt x="14549" y="12477"/>
                  <a:pt x="14577" y="12624"/>
                  <a:pt x="14585" y="12774"/>
                </a:cubicBezTo>
                <a:cubicBezTo>
                  <a:pt x="14567" y="12722"/>
                  <a:pt x="14538" y="12613"/>
                  <a:pt x="14560" y="12526"/>
                </a:cubicBezTo>
                <a:cubicBezTo>
                  <a:pt x="14577" y="12493"/>
                  <a:pt x="14593" y="12460"/>
                  <a:pt x="14610" y="12427"/>
                </a:cubicBezTo>
                <a:cubicBezTo>
                  <a:pt x="14808" y="12415"/>
                  <a:pt x="14899" y="12457"/>
                  <a:pt x="14932" y="12675"/>
                </a:cubicBezTo>
                <a:cubicBezTo>
                  <a:pt x="14932" y="12708"/>
                  <a:pt x="14932" y="12741"/>
                  <a:pt x="14932" y="12774"/>
                </a:cubicBezTo>
              </a:path>
              <a:path w="1092" h="447">
                <a:moveTo>
                  <a:pt x="15230" y="12427"/>
                </a:moveTo>
                <a:cubicBezTo>
                  <a:pt x="15107" y="12510"/>
                  <a:pt x="15100" y="12553"/>
                  <a:pt x="15056" y="12700"/>
                </a:cubicBezTo>
                <a:cubicBezTo>
                  <a:pt x="15147" y="12739"/>
                  <a:pt x="15409" y="12793"/>
                  <a:pt x="15354" y="12576"/>
                </a:cubicBezTo>
                <a:cubicBezTo>
                  <a:pt x="15325" y="12463"/>
                  <a:pt x="15245" y="12465"/>
                  <a:pt x="15156" y="12452"/>
                </a:cubicBezTo>
              </a:path>
              <a:path w="1092" h="447">
                <a:moveTo>
                  <a:pt x="15478" y="12675"/>
                </a:moveTo>
                <a:cubicBezTo>
                  <a:pt x="15478" y="12692"/>
                  <a:pt x="15478" y="12708"/>
                  <a:pt x="15478" y="12725"/>
                </a:cubicBezTo>
                <a:cubicBezTo>
                  <a:pt x="15478" y="12573"/>
                  <a:pt x="15502" y="12508"/>
                  <a:pt x="15602" y="12402"/>
                </a:cubicBezTo>
                <a:cubicBezTo>
                  <a:pt x="15610" y="12394"/>
                  <a:pt x="15619" y="12386"/>
                  <a:pt x="15627" y="123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4295880"/>
            <a:ext cx="1293840" cy="357120"/>
          </a:xfrm>
          <a:custGeom>
            <a:avLst/>
            <a:gdLst/>
            <a:ahLst/>
            <a:rect l="l" t="t" r="r" b="b"/>
            <a:pathLst>
              <a:path w="3597" h="993">
                <a:moveTo>
                  <a:pt x="16421" y="12402"/>
                </a:moveTo>
                <a:cubicBezTo>
                  <a:pt x="16429" y="12435"/>
                  <a:pt x="16438" y="12469"/>
                  <a:pt x="16446" y="12502"/>
                </a:cubicBezTo>
                <a:cubicBezTo>
                  <a:pt x="16469" y="12494"/>
                  <a:pt x="16475" y="12435"/>
                  <a:pt x="16446" y="12378"/>
                </a:cubicBezTo>
                <a:cubicBezTo>
                  <a:pt x="16400" y="12285"/>
                  <a:pt x="16299" y="12748"/>
                  <a:pt x="16297" y="12774"/>
                </a:cubicBezTo>
                <a:cubicBezTo>
                  <a:pt x="16458" y="12801"/>
                  <a:pt x="16519" y="12805"/>
                  <a:pt x="16619" y="12725"/>
                </a:cubicBezTo>
              </a:path>
              <a:path w="3597" h="993">
                <a:moveTo>
                  <a:pt x="16842" y="12378"/>
                </a:moveTo>
                <a:cubicBezTo>
                  <a:pt x="16730" y="12531"/>
                  <a:pt x="16662" y="12629"/>
                  <a:pt x="16768" y="12774"/>
                </a:cubicBezTo>
                <a:cubicBezTo>
                  <a:pt x="16889" y="12721"/>
                  <a:pt x="17113" y="12599"/>
                  <a:pt x="16917" y="12452"/>
                </a:cubicBezTo>
                <a:cubicBezTo>
                  <a:pt x="16833" y="12431"/>
                  <a:pt x="16814" y="12429"/>
                  <a:pt x="16768" y="12402"/>
                </a:cubicBezTo>
              </a:path>
              <a:path w="3597" h="993">
                <a:moveTo>
                  <a:pt x="17115" y="12650"/>
                </a:moveTo>
                <a:cubicBezTo>
                  <a:pt x="17115" y="12725"/>
                  <a:pt x="17075" y="12600"/>
                  <a:pt x="17090" y="12526"/>
                </a:cubicBezTo>
                <a:cubicBezTo>
                  <a:pt x="17145" y="12245"/>
                  <a:pt x="17312" y="12470"/>
                  <a:pt x="17388" y="12576"/>
                </a:cubicBezTo>
                <a:cubicBezTo>
                  <a:pt x="17388" y="12593"/>
                  <a:pt x="17388" y="12609"/>
                  <a:pt x="17388" y="12626"/>
                </a:cubicBezTo>
                <a:cubicBezTo>
                  <a:pt x="17333" y="12479"/>
                  <a:pt x="17379" y="12427"/>
                  <a:pt x="17487" y="12328"/>
                </a:cubicBezTo>
                <a:cubicBezTo>
                  <a:pt x="17581" y="12483"/>
                  <a:pt x="17611" y="12568"/>
                  <a:pt x="17611" y="12750"/>
                </a:cubicBezTo>
                <a:cubicBezTo>
                  <a:pt x="17611" y="12733"/>
                  <a:pt x="17611" y="12717"/>
                  <a:pt x="17611" y="12700"/>
                </a:cubicBezTo>
              </a:path>
              <a:path w="3597" h="993">
                <a:moveTo>
                  <a:pt x="17835" y="12452"/>
                </a:moveTo>
                <a:cubicBezTo>
                  <a:pt x="17867" y="12614"/>
                  <a:pt x="17897" y="12758"/>
                  <a:pt x="17909" y="12923"/>
                </a:cubicBezTo>
                <a:cubicBezTo>
                  <a:pt x="17830" y="12731"/>
                  <a:pt x="17769" y="12489"/>
                  <a:pt x="17959" y="12328"/>
                </a:cubicBezTo>
                <a:cubicBezTo>
                  <a:pt x="17992" y="12320"/>
                  <a:pt x="18025" y="12311"/>
                  <a:pt x="18058" y="12303"/>
                </a:cubicBezTo>
                <a:cubicBezTo>
                  <a:pt x="18092" y="12450"/>
                  <a:pt x="18072" y="12671"/>
                  <a:pt x="17835" y="12626"/>
                </a:cubicBezTo>
                <a:cubicBezTo>
                  <a:pt x="17745" y="12566"/>
                  <a:pt x="17729" y="12534"/>
                  <a:pt x="17835" y="12452"/>
                </a:cubicBezTo>
              </a:path>
              <a:path w="3597" h="993">
                <a:moveTo>
                  <a:pt x="18331" y="12179"/>
                </a:moveTo>
                <a:cubicBezTo>
                  <a:pt x="18208" y="12335"/>
                  <a:pt x="18104" y="12389"/>
                  <a:pt x="18182" y="12576"/>
                </a:cubicBezTo>
                <a:cubicBezTo>
                  <a:pt x="18353" y="12559"/>
                  <a:pt x="18606" y="12501"/>
                  <a:pt x="18405" y="12278"/>
                </a:cubicBezTo>
                <a:cubicBezTo>
                  <a:pt x="18324" y="12238"/>
                  <a:pt x="18311" y="12222"/>
                  <a:pt x="18256" y="12229"/>
                </a:cubicBezTo>
              </a:path>
              <a:path w="3597" h="993">
                <a:moveTo>
                  <a:pt x="18703" y="12154"/>
                </a:moveTo>
                <a:cubicBezTo>
                  <a:pt x="18608" y="12178"/>
                  <a:pt x="18578" y="12184"/>
                  <a:pt x="18529" y="12229"/>
                </a:cubicBezTo>
                <a:cubicBezTo>
                  <a:pt x="18586" y="12267"/>
                  <a:pt x="18894" y="12348"/>
                  <a:pt x="18802" y="12477"/>
                </a:cubicBezTo>
                <a:cubicBezTo>
                  <a:pt x="18682" y="12645"/>
                  <a:pt x="18561" y="12494"/>
                  <a:pt x="18479" y="12427"/>
                </a:cubicBezTo>
              </a:path>
              <a:path w="3597" h="993">
                <a:moveTo>
                  <a:pt x="19124" y="11931"/>
                </a:moveTo>
                <a:cubicBezTo>
                  <a:pt x="19198" y="12023"/>
                  <a:pt x="19165" y="12196"/>
                  <a:pt x="19199" y="12328"/>
                </a:cubicBezTo>
                <a:cubicBezTo>
                  <a:pt x="19229" y="12443"/>
                  <a:pt x="19333" y="12413"/>
                  <a:pt x="19397" y="12378"/>
                </a:cubicBezTo>
              </a:path>
              <a:path w="3597" h="993">
                <a:moveTo>
                  <a:pt x="18976" y="12204"/>
                </a:moveTo>
                <a:cubicBezTo>
                  <a:pt x="19121" y="12204"/>
                  <a:pt x="19254" y="12196"/>
                  <a:pt x="19397" y="12179"/>
                </a:cubicBezTo>
              </a:path>
              <a:path w="3597" h="993">
                <a:moveTo>
                  <a:pt x="19472" y="12179"/>
                </a:moveTo>
                <a:cubicBezTo>
                  <a:pt x="19586" y="12170"/>
                  <a:pt x="19692" y="12176"/>
                  <a:pt x="19720" y="12055"/>
                </a:cubicBezTo>
                <a:cubicBezTo>
                  <a:pt x="19720" y="12047"/>
                  <a:pt x="19720" y="12038"/>
                  <a:pt x="19720" y="12030"/>
                </a:cubicBezTo>
                <a:cubicBezTo>
                  <a:pt x="19615" y="11995"/>
                  <a:pt x="19505" y="12096"/>
                  <a:pt x="19521" y="12229"/>
                </a:cubicBezTo>
                <a:cubicBezTo>
                  <a:pt x="19540" y="12387"/>
                  <a:pt x="19803" y="12323"/>
                  <a:pt x="19893" y="12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bjective:  Students will be able to use divisibility rules to quickly identify the factors of a given numbe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sibility rules provide you with many ways to know the factors of numbers just by looking at them.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 number is divisible by 2 if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 number is divisible by 5 if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 number is divisible by 10 if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1800" y="2732040"/>
            <a:ext cx="133200" cy="216000"/>
          </a:xfrm>
          <a:custGeom>
            <a:avLst/>
            <a:gdLst/>
            <a:ahLst/>
            <a:rect l="l" t="t" r="r" b="b"/>
            <a:pathLst>
              <a:path w="373" h="597">
                <a:moveTo>
                  <a:pt x="15503" y="7615"/>
                </a:moveTo>
                <a:lnTo>
                  <a:pt x="15503" y="7615"/>
                </a:lnTo>
              </a:path>
              <a:path w="373" h="597">
                <a:moveTo>
                  <a:pt x="15776" y="7590"/>
                </a:moveTo>
                <a:cubicBezTo>
                  <a:pt x="15809" y="7780"/>
                  <a:pt x="15842" y="7971"/>
                  <a:pt x="15875" y="8161"/>
                </a:cubicBezTo>
                <a:cubicBezTo>
                  <a:pt x="15875" y="8169"/>
                  <a:pt x="15875" y="8178"/>
                  <a:pt x="15875" y="81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89720" y="2732040"/>
            <a:ext cx="733320" cy="216000"/>
          </a:xfrm>
          <a:custGeom>
            <a:avLst/>
            <a:gdLst/>
            <a:ahLst/>
            <a:rect l="l" t="t" r="r" b="b"/>
            <a:pathLst>
              <a:path w="2035" h="597">
                <a:moveTo>
                  <a:pt x="15528" y="7962"/>
                </a:moveTo>
                <a:cubicBezTo>
                  <a:pt x="15528" y="7894"/>
                  <a:pt x="15551" y="8043"/>
                  <a:pt x="15553" y="8111"/>
                </a:cubicBezTo>
                <a:cubicBezTo>
                  <a:pt x="15553" y="8169"/>
                  <a:pt x="15536" y="8194"/>
                  <a:pt x="15577" y="8186"/>
                </a:cubicBezTo>
              </a:path>
              <a:path w="2035" h="597">
                <a:moveTo>
                  <a:pt x="15652" y="7987"/>
                </a:moveTo>
                <a:cubicBezTo>
                  <a:pt x="15797" y="7958"/>
                  <a:pt x="15926" y="7938"/>
                  <a:pt x="16073" y="7938"/>
                </a:cubicBezTo>
              </a:path>
              <a:path w="2035" h="597">
                <a:moveTo>
                  <a:pt x="16371" y="7590"/>
                </a:moveTo>
                <a:cubicBezTo>
                  <a:pt x="16411" y="7781"/>
                  <a:pt x="16458" y="7967"/>
                  <a:pt x="16470" y="8161"/>
                </a:cubicBezTo>
                <a:cubicBezTo>
                  <a:pt x="16446" y="8019"/>
                  <a:pt x="16449" y="7972"/>
                  <a:pt x="16495" y="7838"/>
                </a:cubicBezTo>
                <a:cubicBezTo>
                  <a:pt x="16686" y="7826"/>
                  <a:pt x="16757" y="7881"/>
                  <a:pt x="16793" y="8086"/>
                </a:cubicBezTo>
                <a:cubicBezTo>
                  <a:pt x="16793" y="8148"/>
                  <a:pt x="16802" y="8163"/>
                  <a:pt x="16768" y="8186"/>
                </a:cubicBezTo>
              </a:path>
              <a:path w="2035" h="597">
                <a:moveTo>
                  <a:pt x="17041" y="7863"/>
                </a:moveTo>
                <a:cubicBezTo>
                  <a:pt x="16956" y="7820"/>
                  <a:pt x="16793" y="7951"/>
                  <a:pt x="16793" y="8086"/>
                </a:cubicBezTo>
                <a:cubicBezTo>
                  <a:pt x="16793" y="8260"/>
                  <a:pt x="17034" y="8133"/>
                  <a:pt x="17041" y="8012"/>
                </a:cubicBezTo>
                <a:cubicBezTo>
                  <a:pt x="17033" y="8004"/>
                  <a:pt x="17024" y="7995"/>
                  <a:pt x="17016" y="7987"/>
                </a:cubicBezTo>
                <a:cubicBezTo>
                  <a:pt x="17120" y="8050"/>
                  <a:pt x="17122" y="8092"/>
                  <a:pt x="17264" y="8111"/>
                </a:cubicBezTo>
              </a:path>
              <a:path w="2035" h="597">
                <a:moveTo>
                  <a:pt x="17363" y="7813"/>
                </a:moveTo>
                <a:cubicBezTo>
                  <a:pt x="17283" y="7914"/>
                  <a:pt x="17300" y="7918"/>
                  <a:pt x="17438" y="7987"/>
                </a:cubicBezTo>
                <a:cubicBezTo>
                  <a:pt x="17479" y="8004"/>
                  <a:pt x="17521" y="8020"/>
                  <a:pt x="17562" y="8037"/>
                </a:cubicBezTo>
                <a:cubicBezTo>
                  <a:pt x="17562" y="8181"/>
                  <a:pt x="17383" y="8150"/>
                  <a:pt x="17289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89800" y="2840040"/>
            <a:ext cx="304560" cy="125280"/>
          </a:xfrm>
          <a:custGeom>
            <a:avLst/>
            <a:gdLst/>
            <a:ahLst/>
            <a:rect l="l" t="t" r="r" b="b"/>
            <a:pathLst>
              <a:path w="844" h="348">
                <a:moveTo>
                  <a:pt x="18579" y="7987"/>
                </a:moveTo>
                <a:cubicBezTo>
                  <a:pt x="18450" y="7902"/>
                  <a:pt x="18296" y="7974"/>
                  <a:pt x="18306" y="8161"/>
                </a:cubicBezTo>
                <a:cubicBezTo>
                  <a:pt x="18322" y="8186"/>
                  <a:pt x="18339" y="8210"/>
                  <a:pt x="18355" y="8235"/>
                </a:cubicBezTo>
                <a:cubicBezTo>
                  <a:pt x="18506" y="8176"/>
                  <a:pt x="18517" y="8196"/>
                  <a:pt x="18554" y="8037"/>
                </a:cubicBezTo>
                <a:cubicBezTo>
                  <a:pt x="18566" y="8084"/>
                  <a:pt x="18643" y="8196"/>
                  <a:pt x="18703" y="8186"/>
                </a:cubicBezTo>
                <a:cubicBezTo>
                  <a:pt x="18777" y="8136"/>
                  <a:pt x="18802" y="8119"/>
                  <a:pt x="18827" y="8062"/>
                </a:cubicBezTo>
                <a:cubicBezTo>
                  <a:pt x="18827" y="8222"/>
                  <a:pt x="18797" y="8009"/>
                  <a:pt x="18852" y="7938"/>
                </a:cubicBezTo>
                <a:cubicBezTo>
                  <a:pt x="19004" y="7739"/>
                  <a:pt x="19145" y="7995"/>
                  <a:pt x="19149" y="8136"/>
                </a:cubicBezTo>
                <a:cubicBezTo>
                  <a:pt x="19141" y="8161"/>
                  <a:pt x="19132" y="8185"/>
                  <a:pt x="19124" y="82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16840" y="2813040"/>
            <a:ext cx="563400" cy="135000"/>
          </a:xfrm>
          <a:custGeom>
            <a:avLst/>
            <a:gdLst/>
            <a:ahLst/>
            <a:rect l="l" t="t" r="r" b="b"/>
            <a:pathLst>
              <a:path w="1564" h="374">
                <a:moveTo>
                  <a:pt x="19769" y="8012"/>
                </a:moveTo>
                <a:cubicBezTo>
                  <a:pt x="19877" y="7993"/>
                  <a:pt x="19984" y="7972"/>
                  <a:pt x="20092" y="7962"/>
                </a:cubicBezTo>
                <a:cubicBezTo>
                  <a:pt x="19990" y="7928"/>
                  <a:pt x="19901" y="7779"/>
                  <a:pt x="19819" y="7938"/>
                </a:cubicBezTo>
                <a:cubicBezTo>
                  <a:pt x="19680" y="8207"/>
                  <a:pt x="19976" y="8167"/>
                  <a:pt x="20117" y="8136"/>
                </a:cubicBezTo>
              </a:path>
              <a:path w="1564" h="374">
                <a:moveTo>
                  <a:pt x="20241" y="7913"/>
                </a:moveTo>
                <a:cubicBezTo>
                  <a:pt x="20270" y="7988"/>
                  <a:pt x="20322" y="8066"/>
                  <a:pt x="20340" y="8136"/>
                </a:cubicBezTo>
                <a:cubicBezTo>
                  <a:pt x="20369" y="8071"/>
                  <a:pt x="20396" y="7906"/>
                  <a:pt x="20439" y="7863"/>
                </a:cubicBezTo>
                <a:cubicBezTo>
                  <a:pt x="20447" y="7863"/>
                  <a:pt x="20456" y="7863"/>
                  <a:pt x="20464" y="7863"/>
                </a:cubicBezTo>
              </a:path>
              <a:path w="1564" h="374">
                <a:moveTo>
                  <a:pt x="20662" y="7987"/>
                </a:moveTo>
                <a:cubicBezTo>
                  <a:pt x="20737" y="7938"/>
                  <a:pt x="20762" y="7922"/>
                  <a:pt x="20786" y="7863"/>
                </a:cubicBezTo>
                <a:cubicBezTo>
                  <a:pt x="20740" y="7879"/>
                  <a:pt x="20525" y="8045"/>
                  <a:pt x="20662" y="8111"/>
                </a:cubicBezTo>
                <a:cubicBezTo>
                  <a:pt x="20809" y="8182"/>
                  <a:pt x="20972" y="7891"/>
                  <a:pt x="20985" y="7987"/>
                </a:cubicBezTo>
                <a:cubicBezTo>
                  <a:pt x="20985" y="8061"/>
                  <a:pt x="20985" y="8070"/>
                  <a:pt x="20985" y="8111"/>
                </a:cubicBezTo>
                <a:cubicBezTo>
                  <a:pt x="21007" y="7981"/>
                  <a:pt x="21050" y="7904"/>
                  <a:pt x="21134" y="7813"/>
                </a:cubicBezTo>
                <a:cubicBezTo>
                  <a:pt x="21268" y="7918"/>
                  <a:pt x="21436" y="8037"/>
                  <a:pt x="21258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73240" y="3054240"/>
            <a:ext cx="4313520" cy="312840"/>
          </a:xfrm>
          <a:custGeom>
            <a:avLst/>
            <a:gdLst/>
            <a:ahLst/>
            <a:rect l="l" t="t" r="r" b="b"/>
            <a:pathLst>
              <a:path w="11982" h="869">
                <a:moveTo>
                  <a:pt x="8260" y="8632"/>
                </a:moveTo>
                <a:cubicBezTo>
                  <a:pt x="8343" y="8640"/>
                  <a:pt x="8425" y="8649"/>
                  <a:pt x="8508" y="8657"/>
                </a:cubicBezTo>
              </a:path>
              <a:path w="11982" h="869">
                <a:moveTo>
                  <a:pt x="9699" y="8483"/>
                </a:moveTo>
                <a:cubicBezTo>
                  <a:pt x="9756" y="8666"/>
                  <a:pt x="9807" y="8842"/>
                  <a:pt x="9847" y="9029"/>
                </a:cubicBezTo>
              </a:path>
              <a:path w="11982" h="869">
                <a:moveTo>
                  <a:pt x="16073" y="8483"/>
                </a:moveTo>
                <a:cubicBezTo>
                  <a:pt x="15961" y="8752"/>
                  <a:pt x="15859" y="9027"/>
                  <a:pt x="16173" y="9227"/>
                </a:cubicBezTo>
                <a:cubicBezTo>
                  <a:pt x="16281" y="9249"/>
                  <a:pt x="16307" y="9262"/>
                  <a:pt x="16371" y="9227"/>
                </a:cubicBezTo>
              </a:path>
              <a:path w="11982" h="869">
                <a:moveTo>
                  <a:pt x="18008" y="8657"/>
                </a:moveTo>
                <a:cubicBezTo>
                  <a:pt x="17984" y="8762"/>
                  <a:pt x="17938" y="8881"/>
                  <a:pt x="18083" y="8905"/>
                </a:cubicBezTo>
                <a:cubicBezTo>
                  <a:pt x="18197" y="8905"/>
                  <a:pt x="18243" y="8897"/>
                  <a:pt x="18306" y="8830"/>
                </a:cubicBezTo>
              </a:path>
              <a:path w="11982" h="869">
                <a:moveTo>
                  <a:pt x="18455" y="9103"/>
                </a:moveTo>
                <a:cubicBezTo>
                  <a:pt x="18450" y="9179"/>
                  <a:pt x="18442" y="9230"/>
                  <a:pt x="18430" y="9302"/>
                </a:cubicBezTo>
              </a:path>
              <a:path w="11982" h="869">
                <a:moveTo>
                  <a:pt x="18430" y="9302"/>
                </a:moveTo>
                <a:lnTo>
                  <a:pt x="18430" y="9302"/>
                </a:lnTo>
              </a:path>
              <a:path w="11982" h="869">
                <a:moveTo>
                  <a:pt x="19199" y="9178"/>
                </a:moveTo>
                <a:cubicBezTo>
                  <a:pt x="19199" y="9270"/>
                  <a:pt x="19201" y="9296"/>
                  <a:pt x="19174" y="9351"/>
                </a:cubicBezTo>
              </a:path>
              <a:path w="11982" h="869">
                <a:moveTo>
                  <a:pt x="19943" y="8508"/>
                </a:moveTo>
                <a:cubicBezTo>
                  <a:pt x="20124" y="8721"/>
                  <a:pt x="20323" y="8906"/>
                  <a:pt x="20191" y="9203"/>
                </a:cubicBezTo>
                <a:cubicBezTo>
                  <a:pt x="20115" y="9305"/>
                  <a:pt x="20087" y="9339"/>
                  <a:pt x="19993" y="9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87680" y="3081240"/>
            <a:ext cx="992160" cy="214560"/>
          </a:xfrm>
          <a:custGeom>
            <a:avLst/>
            <a:gdLst/>
            <a:ahLst/>
            <a:rect l="l" t="t" r="r" b="b"/>
            <a:pathLst>
              <a:path w="2754" h="596">
                <a:moveTo>
                  <a:pt x="4688" y="8781"/>
                </a:moveTo>
                <a:cubicBezTo>
                  <a:pt x="4709" y="8905"/>
                  <a:pt x="4744" y="9034"/>
                  <a:pt x="4787" y="9153"/>
                </a:cubicBezTo>
                <a:cubicBezTo>
                  <a:pt x="4764" y="9040"/>
                  <a:pt x="4712" y="8930"/>
                  <a:pt x="4738" y="8806"/>
                </a:cubicBezTo>
                <a:cubicBezTo>
                  <a:pt x="4784" y="8713"/>
                  <a:pt x="4794" y="8683"/>
                  <a:pt x="4862" y="8657"/>
                </a:cubicBezTo>
                <a:cubicBezTo>
                  <a:pt x="5043" y="8748"/>
                  <a:pt x="5090" y="8847"/>
                  <a:pt x="5135" y="9054"/>
                </a:cubicBezTo>
                <a:cubicBezTo>
                  <a:pt x="5135" y="9079"/>
                  <a:pt x="5135" y="9087"/>
                  <a:pt x="5135" y="9054"/>
                </a:cubicBezTo>
              </a:path>
              <a:path w="2754" h="596">
                <a:moveTo>
                  <a:pt x="5110" y="8706"/>
                </a:moveTo>
                <a:cubicBezTo>
                  <a:pt x="5140" y="8827"/>
                  <a:pt x="5187" y="8967"/>
                  <a:pt x="5283" y="9054"/>
                </a:cubicBezTo>
                <a:cubicBezTo>
                  <a:pt x="5300" y="9062"/>
                  <a:pt x="5316" y="9071"/>
                  <a:pt x="5333" y="9079"/>
                </a:cubicBezTo>
                <a:cubicBezTo>
                  <a:pt x="5439" y="8943"/>
                  <a:pt x="5442" y="8906"/>
                  <a:pt x="5457" y="8731"/>
                </a:cubicBezTo>
                <a:cubicBezTo>
                  <a:pt x="5429" y="8566"/>
                  <a:pt x="5524" y="8889"/>
                  <a:pt x="5531" y="8905"/>
                </a:cubicBezTo>
                <a:cubicBezTo>
                  <a:pt x="5598" y="9059"/>
                  <a:pt x="5558" y="9053"/>
                  <a:pt x="5680" y="8979"/>
                </a:cubicBezTo>
              </a:path>
              <a:path w="2754" h="596">
                <a:moveTo>
                  <a:pt x="5705" y="8781"/>
                </a:moveTo>
                <a:cubicBezTo>
                  <a:pt x="5711" y="8904"/>
                  <a:pt x="5723" y="9008"/>
                  <a:pt x="5755" y="9128"/>
                </a:cubicBezTo>
                <a:cubicBezTo>
                  <a:pt x="5747" y="9094"/>
                  <a:pt x="5629" y="8798"/>
                  <a:pt x="5730" y="8781"/>
                </a:cubicBezTo>
                <a:cubicBezTo>
                  <a:pt x="5890" y="8753"/>
                  <a:pt x="5975" y="8966"/>
                  <a:pt x="6003" y="9079"/>
                </a:cubicBezTo>
                <a:cubicBezTo>
                  <a:pt x="5984" y="8925"/>
                  <a:pt x="5972" y="8846"/>
                  <a:pt x="6028" y="8706"/>
                </a:cubicBezTo>
                <a:cubicBezTo>
                  <a:pt x="6208" y="8808"/>
                  <a:pt x="6235" y="8897"/>
                  <a:pt x="6276" y="9103"/>
                </a:cubicBezTo>
                <a:cubicBezTo>
                  <a:pt x="6276" y="9095"/>
                  <a:pt x="6276" y="9087"/>
                  <a:pt x="6276" y="9079"/>
                </a:cubicBezTo>
              </a:path>
              <a:path w="2754" h="596">
                <a:moveTo>
                  <a:pt x="6325" y="8558"/>
                </a:moveTo>
                <a:cubicBezTo>
                  <a:pt x="6357" y="8743"/>
                  <a:pt x="6409" y="8921"/>
                  <a:pt x="6449" y="9103"/>
                </a:cubicBezTo>
                <a:cubicBezTo>
                  <a:pt x="6449" y="9024"/>
                  <a:pt x="6404" y="8806"/>
                  <a:pt x="6524" y="8781"/>
                </a:cubicBezTo>
                <a:cubicBezTo>
                  <a:pt x="6683" y="8748"/>
                  <a:pt x="6744" y="8940"/>
                  <a:pt x="6772" y="9029"/>
                </a:cubicBezTo>
                <a:cubicBezTo>
                  <a:pt x="6635" y="9116"/>
                  <a:pt x="6505" y="9163"/>
                  <a:pt x="6474" y="9004"/>
                </a:cubicBezTo>
              </a:path>
              <a:path w="2754" h="596">
                <a:moveTo>
                  <a:pt x="6871" y="8905"/>
                </a:moveTo>
                <a:cubicBezTo>
                  <a:pt x="6968" y="8885"/>
                  <a:pt x="7030" y="8881"/>
                  <a:pt x="7045" y="8781"/>
                </a:cubicBezTo>
                <a:cubicBezTo>
                  <a:pt x="6912" y="8736"/>
                  <a:pt x="6801" y="8812"/>
                  <a:pt x="6821" y="8979"/>
                </a:cubicBezTo>
                <a:cubicBezTo>
                  <a:pt x="6849" y="9215"/>
                  <a:pt x="7125" y="8994"/>
                  <a:pt x="7193" y="8954"/>
                </a:cubicBezTo>
                <a:cubicBezTo>
                  <a:pt x="7250" y="8921"/>
                  <a:pt x="7218" y="9102"/>
                  <a:pt x="7218" y="9029"/>
                </a:cubicBezTo>
                <a:cubicBezTo>
                  <a:pt x="7242" y="8846"/>
                  <a:pt x="7245" y="8707"/>
                  <a:pt x="7441" y="87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63880" y="3152880"/>
            <a:ext cx="277920" cy="142920"/>
          </a:xfrm>
          <a:custGeom>
            <a:avLst/>
            <a:gdLst/>
            <a:ahLst/>
            <a:rect l="l" t="t" r="r" b="b"/>
            <a:pathLst>
              <a:path w="770" h="398">
                <a:moveTo>
                  <a:pt x="8235" y="8830"/>
                </a:moveTo>
                <a:cubicBezTo>
                  <a:pt x="8268" y="8947"/>
                  <a:pt x="8303" y="9047"/>
                  <a:pt x="8359" y="9153"/>
                </a:cubicBezTo>
                <a:cubicBezTo>
                  <a:pt x="8615" y="9093"/>
                  <a:pt x="8537" y="8999"/>
                  <a:pt x="8657" y="8806"/>
                </a:cubicBezTo>
                <a:cubicBezTo>
                  <a:pt x="8707" y="8725"/>
                  <a:pt x="8699" y="8990"/>
                  <a:pt x="8731" y="9079"/>
                </a:cubicBezTo>
                <a:cubicBezTo>
                  <a:pt x="8731" y="9087"/>
                  <a:pt x="8731" y="9095"/>
                  <a:pt x="8731" y="9103"/>
                </a:cubicBezTo>
                <a:cubicBezTo>
                  <a:pt x="8731" y="8968"/>
                  <a:pt x="8732" y="8876"/>
                  <a:pt x="8781" y="8756"/>
                </a:cubicBezTo>
                <a:cubicBezTo>
                  <a:pt x="8924" y="8834"/>
                  <a:pt x="8994" y="8891"/>
                  <a:pt x="8979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46640" y="3054240"/>
            <a:ext cx="428400" cy="214560"/>
          </a:xfrm>
          <a:custGeom>
            <a:avLst/>
            <a:gdLst/>
            <a:ahLst/>
            <a:rect l="l" t="t" r="r" b="b"/>
            <a:pathLst>
              <a:path w="1191" h="597">
                <a:moveTo>
                  <a:pt x="9575" y="8979"/>
                </a:moveTo>
                <a:cubicBezTo>
                  <a:pt x="9842" y="8960"/>
                  <a:pt x="10056" y="8968"/>
                  <a:pt x="10021" y="8632"/>
                </a:cubicBezTo>
                <a:cubicBezTo>
                  <a:pt x="10004" y="8582"/>
                  <a:pt x="9988" y="8533"/>
                  <a:pt x="9971" y="8483"/>
                </a:cubicBezTo>
                <a:cubicBezTo>
                  <a:pt x="10005" y="8665"/>
                  <a:pt x="10040" y="8847"/>
                  <a:pt x="10071" y="9029"/>
                </a:cubicBezTo>
                <a:cubicBezTo>
                  <a:pt x="10077" y="8950"/>
                  <a:pt x="10059" y="8711"/>
                  <a:pt x="10120" y="8806"/>
                </a:cubicBezTo>
                <a:cubicBezTo>
                  <a:pt x="10244" y="9000"/>
                  <a:pt x="10350" y="9156"/>
                  <a:pt x="10592" y="9004"/>
                </a:cubicBezTo>
                <a:cubicBezTo>
                  <a:pt x="10704" y="8892"/>
                  <a:pt x="10743" y="8866"/>
                  <a:pt x="10740" y="8756"/>
                </a:cubicBezTo>
                <a:cubicBezTo>
                  <a:pt x="10598" y="8745"/>
                  <a:pt x="10422" y="8866"/>
                  <a:pt x="10616" y="9004"/>
                </a:cubicBezTo>
                <a:cubicBezTo>
                  <a:pt x="10666" y="9021"/>
                  <a:pt x="10715" y="9037"/>
                  <a:pt x="10765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60880" y="3125880"/>
            <a:ext cx="536400" cy="142920"/>
          </a:xfrm>
          <a:custGeom>
            <a:avLst/>
            <a:gdLst/>
            <a:ahLst/>
            <a:rect l="l" t="t" r="r" b="b"/>
            <a:pathLst>
              <a:path w="1489" h="398">
                <a:moveTo>
                  <a:pt x="11658" y="8682"/>
                </a:moveTo>
                <a:cubicBezTo>
                  <a:pt x="11593" y="8813"/>
                  <a:pt x="11572" y="8909"/>
                  <a:pt x="11559" y="9054"/>
                </a:cubicBezTo>
                <a:cubicBezTo>
                  <a:pt x="11645" y="9064"/>
                  <a:pt x="12066" y="9050"/>
                  <a:pt x="11906" y="8830"/>
                </a:cubicBezTo>
                <a:cubicBezTo>
                  <a:pt x="11785" y="8782"/>
                  <a:pt x="11747" y="8766"/>
                  <a:pt x="11658" y="8781"/>
                </a:cubicBezTo>
              </a:path>
              <a:path w="1489" h="398">
                <a:moveTo>
                  <a:pt x="12055" y="8954"/>
                </a:moveTo>
                <a:cubicBezTo>
                  <a:pt x="12080" y="8979"/>
                  <a:pt x="12006" y="8860"/>
                  <a:pt x="12080" y="8756"/>
                </a:cubicBezTo>
                <a:cubicBezTo>
                  <a:pt x="12227" y="8550"/>
                  <a:pt x="12371" y="8917"/>
                  <a:pt x="12402" y="9004"/>
                </a:cubicBezTo>
                <a:cubicBezTo>
                  <a:pt x="12402" y="9012"/>
                  <a:pt x="12402" y="9021"/>
                  <a:pt x="12402" y="9029"/>
                </a:cubicBezTo>
              </a:path>
              <a:path w="1489" h="398">
                <a:moveTo>
                  <a:pt x="12551" y="8880"/>
                </a:moveTo>
                <a:cubicBezTo>
                  <a:pt x="12666" y="8813"/>
                  <a:pt x="12650" y="8858"/>
                  <a:pt x="12650" y="8756"/>
                </a:cubicBezTo>
                <a:cubicBezTo>
                  <a:pt x="12551" y="8748"/>
                  <a:pt x="12308" y="8797"/>
                  <a:pt x="12402" y="8979"/>
                </a:cubicBezTo>
                <a:cubicBezTo>
                  <a:pt x="12513" y="9193"/>
                  <a:pt x="12743" y="8987"/>
                  <a:pt x="12849" y="8930"/>
                </a:cubicBezTo>
              </a:path>
              <a:path w="1489" h="398">
                <a:moveTo>
                  <a:pt x="12824" y="8731"/>
                </a:moveTo>
                <a:cubicBezTo>
                  <a:pt x="12807" y="8739"/>
                  <a:pt x="12791" y="8748"/>
                  <a:pt x="12774" y="8756"/>
                </a:cubicBezTo>
                <a:cubicBezTo>
                  <a:pt x="12824" y="8839"/>
                  <a:pt x="12962" y="8887"/>
                  <a:pt x="13047" y="8954"/>
                </a:cubicBezTo>
                <a:cubicBezTo>
                  <a:pt x="12934" y="9133"/>
                  <a:pt x="12845" y="9075"/>
                  <a:pt x="12675" y="89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19760" y="3089160"/>
            <a:ext cx="644400" cy="285840"/>
          </a:xfrm>
          <a:custGeom>
            <a:avLst/>
            <a:gdLst/>
            <a:ahLst/>
            <a:rect l="l" t="t" r="r" b="b"/>
            <a:pathLst>
              <a:path w="1787" h="795">
                <a:moveTo>
                  <a:pt x="13692" y="8905"/>
                </a:moveTo>
                <a:cubicBezTo>
                  <a:pt x="13752" y="9064"/>
                  <a:pt x="13812" y="9212"/>
                  <a:pt x="13841" y="9376"/>
                </a:cubicBezTo>
                <a:cubicBezTo>
                  <a:pt x="13772" y="9204"/>
                  <a:pt x="13669" y="9098"/>
                  <a:pt x="13742" y="8880"/>
                </a:cubicBezTo>
                <a:cubicBezTo>
                  <a:pt x="13775" y="8839"/>
                  <a:pt x="13808" y="8797"/>
                  <a:pt x="13841" y="8756"/>
                </a:cubicBezTo>
                <a:cubicBezTo>
                  <a:pt x="13933" y="8796"/>
                  <a:pt x="14250" y="9038"/>
                  <a:pt x="13940" y="9079"/>
                </a:cubicBezTo>
                <a:cubicBezTo>
                  <a:pt x="13803" y="9051"/>
                  <a:pt x="13749" y="9037"/>
                  <a:pt x="13667" y="8979"/>
                </a:cubicBezTo>
              </a:path>
              <a:path w="1787" h="795">
                <a:moveTo>
                  <a:pt x="14163" y="8582"/>
                </a:moveTo>
                <a:cubicBezTo>
                  <a:pt x="14203" y="8735"/>
                  <a:pt x="14234" y="9004"/>
                  <a:pt x="14337" y="9079"/>
                </a:cubicBezTo>
              </a:path>
              <a:path w="1787" h="795">
                <a:moveTo>
                  <a:pt x="14560" y="8880"/>
                </a:moveTo>
                <a:cubicBezTo>
                  <a:pt x="14417" y="8719"/>
                  <a:pt x="14371" y="8913"/>
                  <a:pt x="14288" y="9054"/>
                </a:cubicBezTo>
                <a:cubicBezTo>
                  <a:pt x="14446" y="9173"/>
                  <a:pt x="14521" y="9152"/>
                  <a:pt x="14560" y="8954"/>
                </a:cubicBezTo>
                <a:cubicBezTo>
                  <a:pt x="14552" y="8946"/>
                  <a:pt x="14544" y="8938"/>
                  <a:pt x="14536" y="8930"/>
                </a:cubicBezTo>
                <a:cubicBezTo>
                  <a:pt x="14643" y="9110"/>
                  <a:pt x="14666" y="9104"/>
                  <a:pt x="14858" y="9054"/>
                </a:cubicBezTo>
              </a:path>
              <a:path w="1787" h="795">
                <a:moveTo>
                  <a:pt x="14957" y="8806"/>
                </a:moveTo>
                <a:cubicBezTo>
                  <a:pt x="14923" y="8871"/>
                  <a:pt x="14904" y="8721"/>
                  <a:pt x="14833" y="8781"/>
                </a:cubicBezTo>
                <a:cubicBezTo>
                  <a:pt x="14681" y="8910"/>
                  <a:pt x="14767" y="9139"/>
                  <a:pt x="14982" y="9079"/>
                </a:cubicBezTo>
                <a:cubicBezTo>
                  <a:pt x="15048" y="9046"/>
                  <a:pt x="15114" y="9012"/>
                  <a:pt x="15180" y="8979"/>
                </a:cubicBezTo>
              </a:path>
              <a:path w="1787" h="795">
                <a:moveTo>
                  <a:pt x="15230" y="8905"/>
                </a:moveTo>
                <a:cubicBezTo>
                  <a:pt x="15323" y="8858"/>
                  <a:pt x="15352" y="8848"/>
                  <a:pt x="15379" y="8781"/>
                </a:cubicBezTo>
                <a:cubicBezTo>
                  <a:pt x="15412" y="8650"/>
                  <a:pt x="15197" y="8826"/>
                  <a:pt x="15180" y="8905"/>
                </a:cubicBezTo>
                <a:cubicBezTo>
                  <a:pt x="15138" y="9099"/>
                  <a:pt x="15377" y="9032"/>
                  <a:pt x="15453" y="90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11920" y="3116160"/>
            <a:ext cx="490320" cy="258840"/>
          </a:xfrm>
          <a:custGeom>
            <a:avLst/>
            <a:gdLst/>
            <a:ahLst/>
            <a:rect l="l" t="t" r="r" b="b"/>
            <a:pathLst>
              <a:path w="1365" h="720">
                <a:moveTo>
                  <a:pt x="16570" y="8682"/>
                </a:moveTo>
                <a:cubicBezTo>
                  <a:pt x="16426" y="8739"/>
                  <a:pt x="16319" y="8956"/>
                  <a:pt x="16470" y="9103"/>
                </a:cubicBezTo>
                <a:cubicBezTo>
                  <a:pt x="16612" y="9151"/>
                  <a:pt x="16654" y="9170"/>
                  <a:pt x="16743" y="9103"/>
                </a:cubicBezTo>
                <a:cubicBezTo>
                  <a:pt x="16819" y="8934"/>
                  <a:pt x="16834" y="8750"/>
                  <a:pt x="16570" y="8731"/>
                </a:cubicBezTo>
                <a:cubicBezTo>
                  <a:pt x="16553" y="8739"/>
                  <a:pt x="16537" y="8748"/>
                  <a:pt x="16520" y="8756"/>
                </a:cubicBezTo>
              </a:path>
              <a:path w="1365" h="720">
                <a:moveTo>
                  <a:pt x="17016" y="9227"/>
                </a:moveTo>
                <a:cubicBezTo>
                  <a:pt x="17028" y="9285"/>
                  <a:pt x="17041" y="9410"/>
                  <a:pt x="17041" y="9351"/>
                </a:cubicBezTo>
              </a:path>
              <a:path w="1365" h="720">
                <a:moveTo>
                  <a:pt x="17190" y="8731"/>
                </a:moveTo>
                <a:cubicBezTo>
                  <a:pt x="17258" y="8697"/>
                  <a:pt x="17316" y="8671"/>
                  <a:pt x="17388" y="8657"/>
                </a:cubicBezTo>
                <a:cubicBezTo>
                  <a:pt x="17414" y="8836"/>
                  <a:pt x="17372" y="8908"/>
                  <a:pt x="17239" y="9029"/>
                </a:cubicBezTo>
                <a:cubicBezTo>
                  <a:pt x="17292" y="9109"/>
                  <a:pt x="17431" y="9017"/>
                  <a:pt x="17512" y="9004"/>
                </a:cubicBezTo>
                <a:cubicBezTo>
                  <a:pt x="17545" y="9004"/>
                  <a:pt x="17578" y="9004"/>
                  <a:pt x="17611" y="9004"/>
                </a:cubicBezTo>
              </a:path>
              <a:path w="1365" h="720">
                <a:moveTo>
                  <a:pt x="17785" y="9054"/>
                </a:moveTo>
                <a:cubicBezTo>
                  <a:pt x="17785" y="9145"/>
                  <a:pt x="17785" y="9169"/>
                  <a:pt x="17785" y="92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54880" y="3106800"/>
            <a:ext cx="17280" cy="189000"/>
          </a:xfrm>
          <a:custGeom>
            <a:avLst/>
            <a:gdLst/>
            <a:ahLst/>
            <a:rect l="l" t="t" r="r" b="b"/>
            <a:pathLst>
              <a:path w="50" h="522">
                <a:moveTo>
                  <a:pt x="18256" y="8632"/>
                </a:moveTo>
                <a:cubicBezTo>
                  <a:pt x="18224" y="8760"/>
                  <a:pt x="18151" y="8997"/>
                  <a:pt x="18207" y="9128"/>
                </a:cubicBezTo>
                <a:cubicBezTo>
                  <a:pt x="18223" y="9136"/>
                  <a:pt x="18240" y="9145"/>
                  <a:pt x="18256" y="9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24800" y="3106800"/>
            <a:ext cx="125280" cy="179280"/>
          </a:xfrm>
          <a:custGeom>
            <a:avLst/>
            <a:gdLst/>
            <a:ahLst/>
            <a:rect l="l" t="t" r="r" b="b"/>
            <a:pathLst>
              <a:path w="348" h="497">
                <a:moveTo>
                  <a:pt x="18728" y="8632"/>
                </a:moveTo>
                <a:cubicBezTo>
                  <a:pt x="18699" y="8763"/>
                  <a:pt x="18620" y="8945"/>
                  <a:pt x="18703" y="9079"/>
                </a:cubicBezTo>
                <a:cubicBezTo>
                  <a:pt x="18801" y="9237"/>
                  <a:pt x="19031" y="9068"/>
                  <a:pt x="19025" y="8930"/>
                </a:cubicBezTo>
                <a:cubicBezTo>
                  <a:pt x="19009" y="8922"/>
                  <a:pt x="18992" y="8913"/>
                  <a:pt x="18976" y="8905"/>
                </a:cubicBezTo>
                <a:cubicBezTo>
                  <a:pt x="18825" y="8937"/>
                  <a:pt x="18767" y="9000"/>
                  <a:pt x="18901" y="91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27920" y="3106800"/>
            <a:ext cx="108000" cy="179280"/>
          </a:xfrm>
          <a:custGeom>
            <a:avLst/>
            <a:gdLst/>
            <a:ahLst/>
            <a:rect l="l" t="t" r="r" b="b"/>
            <a:pathLst>
              <a:path w="299" h="497">
                <a:moveTo>
                  <a:pt x="19819" y="8657"/>
                </a:moveTo>
                <a:cubicBezTo>
                  <a:pt x="19706" y="8644"/>
                  <a:pt x="19656" y="8642"/>
                  <a:pt x="19546" y="8682"/>
                </a:cubicBezTo>
                <a:cubicBezTo>
                  <a:pt x="19531" y="8913"/>
                  <a:pt x="19692" y="8878"/>
                  <a:pt x="19769" y="9054"/>
                </a:cubicBezTo>
                <a:cubicBezTo>
                  <a:pt x="19761" y="9070"/>
                  <a:pt x="19753" y="9087"/>
                  <a:pt x="19745" y="9103"/>
                </a:cubicBezTo>
                <a:cubicBezTo>
                  <a:pt x="19536" y="9116"/>
                  <a:pt x="19523" y="9054"/>
                  <a:pt x="19670" y="8880"/>
                </a:cubicBezTo>
                <a:cubicBezTo>
                  <a:pt x="19777" y="8753"/>
                  <a:pt x="19817" y="8765"/>
                  <a:pt x="19695" y="86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37160" y="3803760"/>
            <a:ext cx="196920" cy="179280"/>
          </a:xfrm>
          <a:custGeom>
            <a:avLst/>
            <a:gdLst/>
            <a:ahLst/>
            <a:rect l="l" t="t" r="r" b="b"/>
            <a:pathLst>
              <a:path w="547" h="497">
                <a:moveTo>
                  <a:pt x="15379" y="10691"/>
                </a:moveTo>
                <a:cubicBezTo>
                  <a:pt x="15387" y="10691"/>
                  <a:pt x="15396" y="10691"/>
                  <a:pt x="15404" y="10691"/>
                </a:cubicBezTo>
              </a:path>
              <a:path w="547" h="497">
                <a:moveTo>
                  <a:pt x="15404" y="10691"/>
                </a:moveTo>
                <a:lnTo>
                  <a:pt x="15404" y="10691"/>
                </a:lnTo>
              </a:path>
              <a:path w="547" h="497">
                <a:moveTo>
                  <a:pt x="15652" y="10567"/>
                </a:moveTo>
                <a:cubicBezTo>
                  <a:pt x="15726" y="10728"/>
                  <a:pt x="15775" y="10913"/>
                  <a:pt x="15850" y="11063"/>
                </a:cubicBezTo>
              </a:path>
              <a:path w="547" h="497">
                <a:moveTo>
                  <a:pt x="15577" y="10864"/>
                </a:moveTo>
                <a:cubicBezTo>
                  <a:pt x="15693" y="10847"/>
                  <a:pt x="15809" y="10826"/>
                  <a:pt x="15925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3929040"/>
            <a:ext cx="19080" cy="115920"/>
          </a:xfrm>
          <a:custGeom>
            <a:avLst/>
            <a:gdLst/>
            <a:ahLst/>
            <a:rect l="l" t="t" r="r" b="b"/>
            <a:pathLst>
              <a:path w="51" h="324">
                <a:moveTo>
                  <a:pt x="15453" y="10914"/>
                </a:moveTo>
                <a:cubicBezTo>
                  <a:pt x="15453" y="11018"/>
                  <a:pt x="15512" y="11144"/>
                  <a:pt x="15503" y="11237"/>
                </a:cubicBezTo>
                <a:cubicBezTo>
                  <a:pt x="15495" y="11229"/>
                  <a:pt x="15486" y="11220"/>
                  <a:pt x="15478" y="112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11920" y="3786120"/>
            <a:ext cx="438120" cy="223920"/>
          </a:xfrm>
          <a:custGeom>
            <a:avLst/>
            <a:gdLst/>
            <a:ahLst/>
            <a:rect l="l" t="t" r="r" b="b"/>
            <a:pathLst>
              <a:path w="1216" h="621">
                <a:moveTo>
                  <a:pt x="16470" y="10691"/>
                </a:moveTo>
                <a:cubicBezTo>
                  <a:pt x="16513" y="10831"/>
                  <a:pt x="16549" y="10975"/>
                  <a:pt x="16594" y="11112"/>
                </a:cubicBezTo>
                <a:cubicBezTo>
                  <a:pt x="16530" y="10937"/>
                  <a:pt x="16588" y="10845"/>
                  <a:pt x="16694" y="10716"/>
                </a:cubicBezTo>
                <a:cubicBezTo>
                  <a:pt x="16848" y="10841"/>
                  <a:pt x="16927" y="10930"/>
                  <a:pt x="16892" y="11137"/>
                </a:cubicBezTo>
              </a:path>
              <a:path w="1216" h="621">
                <a:moveTo>
                  <a:pt x="17115" y="10765"/>
                </a:moveTo>
                <a:cubicBezTo>
                  <a:pt x="17081" y="10820"/>
                  <a:pt x="16863" y="11210"/>
                  <a:pt x="17115" y="11112"/>
                </a:cubicBezTo>
                <a:cubicBezTo>
                  <a:pt x="17213" y="11074"/>
                  <a:pt x="17204" y="10971"/>
                  <a:pt x="17214" y="10889"/>
                </a:cubicBezTo>
                <a:cubicBezTo>
                  <a:pt x="17240" y="11066"/>
                  <a:pt x="17285" y="11063"/>
                  <a:pt x="17438" y="11063"/>
                </a:cubicBezTo>
              </a:path>
              <a:path w="1216" h="621">
                <a:moveTo>
                  <a:pt x="17413" y="10716"/>
                </a:moveTo>
                <a:cubicBezTo>
                  <a:pt x="17396" y="10724"/>
                  <a:pt x="17380" y="10732"/>
                  <a:pt x="17363" y="10740"/>
                </a:cubicBezTo>
                <a:cubicBezTo>
                  <a:pt x="17416" y="10868"/>
                  <a:pt x="17554" y="10929"/>
                  <a:pt x="17636" y="11063"/>
                </a:cubicBezTo>
                <a:cubicBezTo>
                  <a:pt x="17517" y="11134"/>
                  <a:pt x="17482" y="11160"/>
                  <a:pt x="17388" y="11112"/>
                </a:cubicBezTo>
              </a:path>
              <a:path w="1216" h="621">
                <a:moveTo>
                  <a:pt x="16421" y="10616"/>
                </a:moveTo>
                <a:cubicBezTo>
                  <a:pt x="16476" y="10598"/>
                  <a:pt x="16434" y="10581"/>
                  <a:pt x="16421" y="10542"/>
                </a:cubicBezTo>
                <a:cubicBezTo>
                  <a:pt x="16399" y="10477"/>
                  <a:pt x="16466" y="10673"/>
                  <a:pt x="16470" y="10691"/>
                </a:cubicBezTo>
                <a:cubicBezTo>
                  <a:pt x="16470" y="10699"/>
                  <a:pt x="16470" y="10708"/>
                  <a:pt x="16470" y="10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62800" y="3786120"/>
            <a:ext cx="509400" cy="223920"/>
          </a:xfrm>
          <a:custGeom>
            <a:avLst/>
            <a:gdLst/>
            <a:ahLst/>
            <a:rect l="l" t="t" r="r" b="b"/>
            <a:pathLst>
              <a:path w="1415" h="621">
                <a:moveTo>
                  <a:pt x="18554" y="10864"/>
                </a:moveTo>
                <a:cubicBezTo>
                  <a:pt x="18554" y="10813"/>
                  <a:pt x="18535" y="10785"/>
                  <a:pt x="18479" y="10765"/>
                </a:cubicBezTo>
                <a:cubicBezTo>
                  <a:pt x="18419" y="10793"/>
                  <a:pt x="18028" y="11104"/>
                  <a:pt x="18306" y="11137"/>
                </a:cubicBezTo>
                <a:cubicBezTo>
                  <a:pt x="18492" y="11159"/>
                  <a:pt x="18525" y="11039"/>
                  <a:pt x="18554" y="10914"/>
                </a:cubicBezTo>
                <a:cubicBezTo>
                  <a:pt x="18573" y="11007"/>
                  <a:pt x="18672" y="11100"/>
                  <a:pt x="18777" y="11088"/>
                </a:cubicBezTo>
                <a:cubicBezTo>
                  <a:pt x="18810" y="11071"/>
                  <a:pt x="18843" y="11055"/>
                  <a:pt x="18876" y="11038"/>
                </a:cubicBezTo>
              </a:path>
              <a:path w="1415" h="621">
                <a:moveTo>
                  <a:pt x="19348" y="10517"/>
                </a:moveTo>
                <a:cubicBezTo>
                  <a:pt x="19228" y="10517"/>
                  <a:pt x="19159" y="10479"/>
                  <a:pt x="19149" y="10616"/>
                </a:cubicBezTo>
                <a:cubicBezTo>
                  <a:pt x="19149" y="10740"/>
                  <a:pt x="19149" y="10765"/>
                  <a:pt x="19149" y="10840"/>
                </a:cubicBezTo>
                <a:cubicBezTo>
                  <a:pt x="19253" y="10856"/>
                  <a:pt x="19400" y="10742"/>
                  <a:pt x="19546" y="10815"/>
                </a:cubicBezTo>
                <a:cubicBezTo>
                  <a:pt x="19579" y="10848"/>
                  <a:pt x="19612" y="10881"/>
                  <a:pt x="19645" y="10914"/>
                </a:cubicBezTo>
                <a:cubicBezTo>
                  <a:pt x="19488" y="11111"/>
                  <a:pt x="19397" y="11120"/>
                  <a:pt x="19174" y="110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59760" y="3830760"/>
            <a:ext cx="260280" cy="117360"/>
          </a:xfrm>
          <a:custGeom>
            <a:avLst/>
            <a:gdLst/>
            <a:ahLst/>
            <a:rect l="l" t="t" r="r" b="b"/>
            <a:pathLst>
              <a:path w="721" h="324">
                <a:moveTo>
                  <a:pt x="20389" y="10641"/>
                </a:moveTo>
                <a:cubicBezTo>
                  <a:pt x="20272" y="10737"/>
                  <a:pt x="20225" y="10781"/>
                  <a:pt x="20166" y="10914"/>
                </a:cubicBezTo>
                <a:cubicBezTo>
                  <a:pt x="20362" y="10993"/>
                  <a:pt x="20436" y="10976"/>
                  <a:pt x="20563" y="10815"/>
                </a:cubicBezTo>
                <a:cubicBezTo>
                  <a:pt x="20491" y="10774"/>
                  <a:pt x="20471" y="10740"/>
                  <a:pt x="20389" y="10740"/>
                </a:cubicBezTo>
              </a:path>
              <a:path w="721" h="324">
                <a:moveTo>
                  <a:pt x="20687" y="10889"/>
                </a:moveTo>
                <a:cubicBezTo>
                  <a:pt x="20687" y="10958"/>
                  <a:pt x="20735" y="10743"/>
                  <a:pt x="20737" y="10740"/>
                </a:cubicBezTo>
                <a:cubicBezTo>
                  <a:pt x="20803" y="10708"/>
                  <a:pt x="20837" y="10691"/>
                  <a:pt x="20886" y="106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78800" y="3724200"/>
            <a:ext cx="243000" cy="268200"/>
          </a:xfrm>
          <a:custGeom>
            <a:avLst/>
            <a:gdLst/>
            <a:ahLst/>
            <a:rect l="l" t="t" r="r" b="b"/>
            <a:pathLst>
              <a:path w="671" h="745">
                <a:moveTo>
                  <a:pt x="21630" y="10344"/>
                </a:moveTo>
                <a:cubicBezTo>
                  <a:pt x="21442" y="10463"/>
                  <a:pt x="21253" y="10687"/>
                  <a:pt x="21357" y="10939"/>
                </a:cubicBezTo>
                <a:cubicBezTo>
                  <a:pt x="21481" y="11239"/>
                  <a:pt x="21949" y="11082"/>
                  <a:pt x="22002" y="10815"/>
                </a:cubicBezTo>
                <a:cubicBezTo>
                  <a:pt x="22076" y="10446"/>
                  <a:pt x="21741" y="10388"/>
                  <a:pt x="21481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51040" y="4098960"/>
            <a:ext cx="2436840" cy="214200"/>
          </a:xfrm>
          <a:custGeom>
            <a:avLst/>
            <a:gdLst/>
            <a:ahLst/>
            <a:rect l="l" t="t" r="r" b="b"/>
            <a:pathLst>
              <a:path w="6772" h="597">
                <a:moveTo>
                  <a:pt x="4862" y="11559"/>
                </a:moveTo>
                <a:lnTo>
                  <a:pt x="4862" y="11559"/>
                </a:lnTo>
                <a:lnTo>
                  <a:pt x="4862" y="11559"/>
                </a:lnTo>
              </a:path>
              <a:path w="6772" h="597">
                <a:moveTo>
                  <a:pt x="4862" y="11559"/>
                </a:moveTo>
                <a:lnTo>
                  <a:pt x="4862" y="11559"/>
                </a:lnTo>
              </a:path>
              <a:path w="6772" h="597">
                <a:moveTo>
                  <a:pt x="6400" y="11385"/>
                </a:moveTo>
                <a:cubicBezTo>
                  <a:pt x="6494" y="11541"/>
                  <a:pt x="6597" y="11675"/>
                  <a:pt x="6623" y="11857"/>
                </a:cubicBezTo>
              </a:path>
              <a:path w="6772" h="597">
                <a:moveTo>
                  <a:pt x="11485" y="11509"/>
                </a:moveTo>
                <a:cubicBezTo>
                  <a:pt x="11514" y="11610"/>
                  <a:pt x="11556" y="11922"/>
                  <a:pt x="11633" y="119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12960" y="4205160"/>
            <a:ext cx="250920" cy="144720"/>
          </a:xfrm>
          <a:custGeom>
            <a:avLst/>
            <a:gdLst/>
            <a:ahLst/>
            <a:rect l="l" t="t" r="r" b="b"/>
            <a:pathLst>
              <a:path w="696" h="398">
                <a:moveTo>
                  <a:pt x="5035" y="11708"/>
                </a:moveTo>
                <a:cubicBezTo>
                  <a:pt x="5043" y="11832"/>
                  <a:pt x="5126" y="12186"/>
                  <a:pt x="5060" y="12080"/>
                </a:cubicBezTo>
                <a:cubicBezTo>
                  <a:pt x="5052" y="12055"/>
                  <a:pt x="5043" y="12030"/>
                  <a:pt x="5035" y="12005"/>
                </a:cubicBezTo>
              </a:path>
              <a:path w="696" h="398">
                <a:moveTo>
                  <a:pt x="5333" y="11981"/>
                </a:moveTo>
                <a:cubicBezTo>
                  <a:pt x="5333" y="12050"/>
                  <a:pt x="5281" y="11901"/>
                  <a:pt x="5283" y="11832"/>
                </a:cubicBezTo>
                <a:cubicBezTo>
                  <a:pt x="5291" y="11578"/>
                  <a:pt x="5544" y="11713"/>
                  <a:pt x="5631" y="11832"/>
                </a:cubicBezTo>
                <a:cubicBezTo>
                  <a:pt x="5720" y="11954"/>
                  <a:pt x="5634" y="11983"/>
                  <a:pt x="5730" y="120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51080" y="4071960"/>
            <a:ext cx="473040" cy="223920"/>
          </a:xfrm>
          <a:custGeom>
            <a:avLst/>
            <a:gdLst/>
            <a:ahLst/>
            <a:rect l="l" t="t" r="r" b="b"/>
            <a:pathLst>
              <a:path w="1315" h="621">
                <a:moveTo>
                  <a:pt x="6251" y="11658"/>
                </a:moveTo>
                <a:cubicBezTo>
                  <a:pt x="6402" y="11727"/>
                  <a:pt x="6726" y="11863"/>
                  <a:pt x="6796" y="11584"/>
                </a:cubicBezTo>
                <a:cubicBezTo>
                  <a:pt x="6775" y="11434"/>
                  <a:pt x="6773" y="11400"/>
                  <a:pt x="6747" y="11311"/>
                </a:cubicBezTo>
                <a:cubicBezTo>
                  <a:pt x="6747" y="11509"/>
                  <a:pt x="6773" y="11649"/>
                  <a:pt x="6846" y="11832"/>
                </a:cubicBezTo>
                <a:cubicBezTo>
                  <a:pt x="6846" y="11755"/>
                  <a:pt x="6839" y="11616"/>
                  <a:pt x="6896" y="11559"/>
                </a:cubicBezTo>
                <a:cubicBezTo>
                  <a:pt x="6949" y="11506"/>
                  <a:pt x="7046" y="11813"/>
                  <a:pt x="7069" y="11857"/>
                </a:cubicBezTo>
              </a:path>
              <a:path w="1315" h="621">
                <a:moveTo>
                  <a:pt x="7218" y="11757"/>
                </a:moveTo>
                <a:cubicBezTo>
                  <a:pt x="7303" y="11698"/>
                  <a:pt x="7305" y="11719"/>
                  <a:pt x="7317" y="11633"/>
                </a:cubicBezTo>
                <a:cubicBezTo>
                  <a:pt x="7210" y="11603"/>
                  <a:pt x="7018" y="11696"/>
                  <a:pt x="7094" y="11857"/>
                </a:cubicBezTo>
                <a:cubicBezTo>
                  <a:pt x="7196" y="12073"/>
                  <a:pt x="7466" y="11855"/>
                  <a:pt x="7565" y="118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27240" y="4152960"/>
            <a:ext cx="561960" cy="169920"/>
          </a:xfrm>
          <a:custGeom>
            <a:avLst/>
            <a:gdLst/>
            <a:ahLst/>
            <a:rect l="l" t="t" r="r" b="b"/>
            <a:pathLst>
              <a:path w="1563" h="472">
                <a:moveTo>
                  <a:pt x="8558" y="11534"/>
                </a:moveTo>
                <a:cubicBezTo>
                  <a:pt x="8468" y="11631"/>
                  <a:pt x="8275" y="11926"/>
                  <a:pt x="8533" y="12005"/>
                </a:cubicBezTo>
                <a:cubicBezTo>
                  <a:pt x="8763" y="12075"/>
                  <a:pt x="8850" y="11793"/>
                  <a:pt x="8706" y="11658"/>
                </a:cubicBezTo>
                <a:cubicBezTo>
                  <a:pt x="8633" y="11590"/>
                  <a:pt x="8505" y="11584"/>
                  <a:pt x="8607" y="11584"/>
                </a:cubicBezTo>
              </a:path>
              <a:path w="1563" h="472">
                <a:moveTo>
                  <a:pt x="8905" y="11782"/>
                </a:moveTo>
                <a:cubicBezTo>
                  <a:pt x="8921" y="11823"/>
                  <a:pt x="8938" y="11865"/>
                  <a:pt x="8954" y="11906"/>
                </a:cubicBezTo>
                <a:cubicBezTo>
                  <a:pt x="8954" y="11927"/>
                  <a:pt x="8899" y="11728"/>
                  <a:pt x="8954" y="11633"/>
                </a:cubicBezTo>
                <a:cubicBezTo>
                  <a:pt x="8979" y="11617"/>
                  <a:pt x="9004" y="11600"/>
                  <a:pt x="9029" y="11584"/>
                </a:cubicBezTo>
                <a:cubicBezTo>
                  <a:pt x="9164" y="11681"/>
                  <a:pt x="9274" y="11780"/>
                  <a:pt x="9252" y="11956"/>
                </a:cubicBezTo>
              </a:path>
              <a:path w="1563" h="472">
                <a:moveTo>
                  <a:pt x="9376" y="11708"/>
                </a:moveTo>
                <a:cubicBezTo>
                  <a:pt x="9436" y="11678"/>
                  <a:pt x="9459" y="11661"/>
                  <a:pt x="9475" y="11609"/>
                </a:cubicBezTo>
                <a:cubicBezTo>
                  <a:pt x="9505" y="11438"/>
                  <a:pt x="9311" y="11711"/>
                  <a:pt x="9302" y="11782"/>
                </a:cubicBezTo>
                <a:cubicBezTo>
                  <a:pt x="9255" y="12152"/>
                  <a:pt x="9766" y="11708"/>
                  <a:pt x="9798" y="11683"/>
                </a:cubicBezTo>
              </a:path>
              <a:path w="1563" h="472">
                <a:moveTo>
                  <a:pt x="9649" y="11584"/>
                </a:moveTo>
                <a:cubicBezTo>
                  <a:pt x="9563" y="11698"/>
                  <a:pt x="9812" y="11678"/>
                  <a:pt x="9872" y="11708"/>
                </a:cubicBezTo>
                <a:cubicBezTo>
                  <a:pt x="10128" y="11836"/>
                  <a:pt x="9850" y="11931"/>
                  <a:pt x="9723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38760" y="4143240"/>
            <a:ext cx="749160" cy="268560"/>
          </a:xfrm>
          <a:custGeom>
            <a:avLst/>
            <a:gdLst/>
            <a:ahLst/>
            <a:rect l="l" t="t" r="r" b="b"/>
            <a:pathLst>
              <a:path w="2084" h="746">
                <a:moveTo>
                  <a:pt x="10939" y="11832"/>
                </a:moveTo>
                <a:cubicBezTo>
                  <a:pt x="10990" y="11965"/>
                  <a:pt x="11038" y="12130"/>
                  <a:pt x="11088" y="12254"/>
                </a:cubicBezTo>
                <a:cubicBezTo>
                  <a:pt x="10950" y="12117"/>
                  <a:pt x="10912" y="11825"/>
                  <a:pt x="11013" y="11633"/>
                </a:cubicBezTo>
                <a:cubicBezTo>
                  <a:pt x="11054" y="11600"/>
                  <a:pt x="11096" y="11567"/>
                  <a:pt x="11137" y="11534"/>
                </a:cubicBezTo>
                <a:cubicBezTo>
                  <a:pt x="11225" y="11622"/>
                  <a:pt x="11484" y="11973"/>
                  <a:pt x="11137" y="11981"/>
                </a:cubicBezTo>
                <a:cubicBezTo>
                  <a:pt x="11008" y="11929"/>
                  <a:pt x="10965" y="11906"/>
                  <a:pt x="10988" y="11782"/>
                </a:cubicBezTo>
              </a:path>
              <a:path w="2084" h="746">
                <a:moveTo>
                  <a:pt x="11931" y="11683"/>
                </a:moveTo>
                <a:cubicBezTo>
                  <a:pt x="11823" y="11557"/>
                  <a:pt x="11656" y="11632"/>
                  <a:pt x="11609" y="11807"/>
                </a:cubicBezTo>
                <a:cubicBezTo>
                  <a:pt x="11617" y="11848"/>
                  <a:pt x="11625" y="11890"/>
                  <a:pt x="11633" y="11931"/>
                </a:cubicBezTo>
                <a:cubicBezTo>
                  <a:pt x="11882" y="11987"/>
                  <a:pt x="11909" y="11914"/>
                  <a:pt x="11981" y="11683"/>
                </a:cubicBezTo>
                <a:cubicBezTo>
                  <a:pt x="11981" y="11691"/>
                  <a:pt x="11981" y="11700"/>
                  <a:pt x="11981" y="11708"/>
                </a:cubicBezTo>
                <a:cubicBezTo>
                  <a:pt x="12034" y="11921"/>
                  <a:pt x="12120" y="11873"/>
                  <a:pt x="12303" y="11807"/>
                </a:cubicBezTo>
              </a:path>
              <a:path w="2084" h="746">
                <a:moveTo>
                  <a:pt x="12452" y="11584"/>
                </a:moveTo>
                <a:cubicBezTo>
                  <a:pt x="12460" y="11576"/>
                  <a:pt x="12469" y="11567"/>
                  <a:pt x="12477" y="11559"/>
                </a:cubicBezTo>
                <a:cubicBezTo>
                  <a:pt x="12357" y="11546"/>
                  <a:pt x="12203" y="11682"/>
                  <a:pt x="12303" y="11832"/>
                </a:cubicBezTo>
                <a:cubicBezTo>
                  <a:pt x="12411" y="11994"/>
                  <a:pt x="12654" y="11784"/>
                  <a:pt x="12750" y="11733"/>
                </a:cubicBezTo>
              </a:path>
              <a:path w="2084" h="746">
                <a:moveTo>
                  <a:pt x="12725" y="11683"/>
                </a:moveTo>
                <a:cubicBezTo>
                  <a:pt x="12790" y="11632"/>
                  <a:pt x="12830" y="11582"/>
                  <a:pt x="12874" y="11509"/>
                </a:cubicBezTo>
                <a:cubicBezTo>
                  <a:pt x="12793" y="11555"/>
                  <a:pt x="12473" y="11819"/>
                  <a:pt x="12750" y="11881"/>
                </a:cubicBezTo>
                <a:cubicBezTo>
                  <a:pt x="12901" y="11857"/>
                  <a:pt x="12953" y="11847"/>
                  <a:pt x="13022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59280" y="48942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5999" y="13593"/>
                </a:moveTo>
                <a:lnTo>
                  <a:pt x="15999" y="13593"/>
                </a:lnTo>
                <a:lnTo>
                  <a:pt x="15999" y="13593"/>
                </a:lnTo>
              </a:path>
              <a:path w="1" h="1">
                <a:moveTo>
                  <a:pt x="15999" y="13593"/>
                </a:moveTo>
                <a:lnTo>
                  <a:pt x="15999" y="1359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86280" y="4741920"/>
            <a:ext cx="1214640" cy="357120"/>
          </a:xfrm>
          <a:custGeom>
            <a:avLst/>
            <a:gdLst/>
            <a:ahLst/>
            <a:rect l="l" t="t" r="r" b="b"/>
            <a:pathLst>
              <a:path w="3375" h="993">
                <a:moveTo>
                  <a:pt x="16073" y="13816"/>
                </a:moveTo>
                <a:cubicBezTo>
                  <a:pt x="16102" y="13933"/>
                  <a:pt x="16131" y="14041"/>
                  <a:pt x="16148" y="14163"/>
                </a:cubicBezTo>
                <a:cubicBezTo>
                  <a:pt x="16148" y="14155"/>
                  <a:pt x="16148" y="14147"/>
                  <a:pt x="16148" y="14139"/>
                </a:cubicBezTo>
              </a:path>
              <a:path w="3375" h="993">
                <a:moveTo>
                  <a:pt x="16247" y="13419"/>
                </a:moveTo>
                <a:cubicBezTo>
                  <a:pt x="16380" y="13499"/>
                  <a:pt x="16410" y="13743"/>
                  <a:pt x="16446" y="13891"/>
                </a:cubicBezTo>
                <a:cubicBezTo>
                  <a:pt x="16501" y="14115"/>
                  <a:pt x="16544" y="14021"/>
                  <a:pt x="16694" y="13891"/>
                </a:cubicBezTo>
              </a:path>
              <a:path w="3375" h="993">
                <a:moveTo>
                  <a:pt x="16297" y="13767"/>
                </a:moveTo>
                <a:cubicBezTo>
                  <a:pt x="16492" y="13709"/>
                  <a:pt x="16659" y="13654"/>
                  <a:pt x="16842" y="13568"/>
                </a:cubicBezTo>
              </a:path>
              <a:path w="3375" h="993">
                <a:moveTo>
                  <a:pt x="17165" y="13171"/>
                </a:moveTo>
                <a:cubicBezTo>
                  <a:pt x="17257" y="13401"/>
                  <a:pt x="17345" y="13628"/>
                  <a:pt x="17413" y="13866"/>
                </a:cubicBezTo>
                <a:cubicBezTo>
                  <a:pt x="17312" y="13934"/>
                  <a:pt x="17394" y="13606"/>
                  <a:pt x="17413" y="13568"/>
                </a:cubicBezTo>
                <a:cubicBezTo>
                  <a:pt x="17438" y="13543"/>
                  <a:pt x="17462" y="13519"/>
                  <a:pt x="17487" y="13494"/>
                </a:cubicBezTo>
                <a:cubicBezTo>
                  <a:pt x="17710" y="13615"/>
                  <a:pt x="17765" y="13677"/>
                  <a:pt x="17735" y="13940"/>
                </a:cubicBezTo>
              </a:path>
              <a:path w="3375" h="993">
                <a:moveTo>
                  <a:pt x="18008" y="13618"/>
                </a:moveTo>
                <a:cubicBezTo>
                  <a:pt x="17876" y="13551"/>
                  <a:pt x="17665" y="13671"/>
                  <a:pt x="17760" y="13866"/>
                </a:cubicBezTo>
                <a:cubicBezTo>
                  <a:pt x="17854" y="14061"/>
                  <a:pt x="18047" y="13774"/>
                  <a:pt x="18083" y="13717"/>
                </a:cubicBezTo>
                <a:cubicBezTo>
                  <a:pt x="18114" y="13810"/>
                  <a:pt x="18189" y="13917"/>
                  <a:pt x="18306" y="13841"/>
                </a:cubicBezTo>
                <a:cubicBezTo>
                  <a:pt x="18347" y="13800"/>
                  <a:pt x="18389" y="13758"/>
                  <a:pt x="18430" y="13717"/>
                </a:cubicBezTo>
              </a:path>
              <a:path w="3375" h="993">
                <a:moveTo>
                  <a:pt x="18331" y="13568"/>
                </a:moveTo>
                <a:cubicBezTo>
                  <a:pt x="18314" y="13576"/>
                  <a:pt x="18298" y="13585"/>
                  <a:pt x="18281" y="13593"/>
                </a:cubicBezTo>
                <a:cubicBezTo>
                  <a:pt x="18382" y="13683"/>
                  <a:pt x="18508" y="13721"/>
                  <a:pt x="18604" y="13841"/>
                </a:cubicBezTo>
                <a:cubicBezTo>
                  <a:pt x="18459" y="13899"/>
                  <a:pt x="18397" y="13916"/>
                  <a:pt x="18281" y="13891"/>
                </a:cubicBezTo>
              </a:path>
              <a:path w="3375" h="993">
                <a:moveTo>
                  <a:pt x="19124" y="13742"/>
                </a:moveTo>
                <a:cubicBezTo>
                  <a:pt x="19132" y="13742"/>
                  <a:pt x="19141" y="13742"/>
                  <a:pt x="19149" y="13742"/>
                </a:cubicBezTo>
                <a:cubicBezTo>
                  <a:pt x="19118" y="13663"/>
                  <a:pt x="19019" y="13547"/>
                  <a:pt x="18951" y="13692"/>
                </a:cubicBezTo>
                <a:cubicBezTo>
                  <a:pt x="18847" y="13915"/>
                  <a:pt x="19033" y="14246"/>
                  <a:pt x="19199" y="13940"/>
                </a:cubicBezTo>
                <a:cubicBezTo>
                  <a:pt x="19252" y="13842"/>
                  <a:pt x="19157" y="13810"/>
                  <a:pt x="19224" y="13767"/>
                </a:cubicBezTo>
                <a:cubicBezTo>
                  <a:pt x="19304" y="13910"/>
                  <a:pt x="19300" y="13926"/>
                  <a:pt x="19447" y="139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61120" y="4732200"/>
            <a:ext cx="233280" cy="277920"/>
          </a:xfrm>
          <a:custGeom>
            <a:avLst/>
            <a:gdLst/>
            <a:ahLst/>
            <a:rect l="l" t="t" r="r" b="b"/>
            <a:pathLst>
              <a:path w="646" h="770">
                <a:moveTo>
                  <a:pt x="20241" y="13146"/>
                </a:moveTo>
                <a:cubicBezTo>
                  <a:pt x="20005" y="13182"/>
                  <a:pt x="19880" y="13423"/>
                  <a:pt x="19893" y="13667"/>
                </a:cubicBezTo>
                <a:cubicBezTo>
                  <a:pt x="19918" y="13733"/>
                  <a:pt x="19943" y="13800"/>
                  <a:pt x="19968" y="13866"/>
                </a:cubicBezTo>
                <a:cubicBezTo>
                  <a:pt x="20252" y="13900"/>
                  <a:pt x="20709" y="13880"/>
                  <a:pt x="20513" y="13419"/>
                </a:cubicBezTo>
                <a:cubicBezTo>
                  <a:pt x="20402" y="13157"/>
                  <a:pt x="20207" y="13242"/>
                  <a:pt x="20017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87680" y="5160960"/>
            <a:ext cx="733320" cy="223920"/>
          </a:xfrm>
          <a:custGeom>
            <a:avLst/>
            <a:gdLst/>
            <a:ahLst/>
            <a:rect l="l" t="t" r="r" b="b"/>
            <a:pathLst>
              <a:path w="2035" h="621">
                <a:moveTo>
                  <a:pt x="4812" y="14560"/>
                </a:moveTo>
                <a:cubicBezTo>
                  <a:pt x="4845" y="14692"/>
                  <a:pt x="4879" y="14826"/>
                  <a:pt x="4911" y="14957"/>
                </a:cubicBezTo>
              </a:path>
              <a:path w="2035" h="621">
                <a:moveTo>
                  <a:pt x="4688" y="14461"/>
                </a:moveTo>
                <a:cubicBezTo>
                  <a:pt x="4688" y="14433"/>
                  <a:pt x="4690" y="14427"/>
                  <a:pt x="4713" y="14461"/>
                </a:cubicBezTo>
              </a:path>
              <a:path w="2035" h="621">
                <a:moveTo>
                  <a:pt x="6028" y="14585"/>
                </a:moveTo>
                <a:cubicBezTo>
                  <a:pt x="6199" y="14616"/>
                  <a:pt x="6630" y="14702"/>
                  <a:pt x="6722" y="14461"/>
                </a:cubicBezTo>
                <a:cubicBezTo>
                  <a:pt x="6714" y="14420"/>
                  <a:pt x="6705" y="14378"/>
                  <a:pt x="6697" y="14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03240" y="5249880"/>
            <a:ext cx="152640" cy="125280"/>
          </a:xfrm>
          <a:custGeom>
            <a:avLst/>
            <a:gdLst/>
            <a:ahLst/>
            <a:rect l="l" t="t" r="r" b="b"/>
            <a:pathLst>
              <a:path w="422" h="348">
                <a:moveTo>
                  <a:pt x="5035" y="14858"/>
                </a:moveTo>
                <a:cubicBezTo>
                  <a:pt x="5104" y="14881"/>
                  <a:pt x="5009" y="14728"/>
                  <a:pt x="5011" y="14660"/>
                </a:cubicBezTo>
                <a:cubicBezTo>
                  <a:pt x="5019" y="14413"/>
                  <a:pt x="5366" y="14758"/>
                  <a:pt x="5383" y="14784"/>
                </a:cubicBezTo>
                <a:cubicBezTo>
                  <a:pt x="5419" y="14874"/>
                  <a:pt x="5435" y="14879"/>
                  <a:pt x="5432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51080" y="5153040"/>
            <a:ext cx="374760" cy="187200"/>
          </a:xfrm>
          <a:custGeom>
            <a:avLst/>
            <a:gdLst/>
            <a:ahLst/>
            <a:rect l="l" t="t" r="r" b="b"/>
            <a:pathLst>
              <a:path w="1043" h="522">
                <a:moveTo>
                  <a:pt x="6251" y="14312"/>
                </a:moveTo>
                <a:cubicBezTo>
                  <a:pt x="6313" y="14473"/>
                  <a:pt x="6400" y="14637"/>
                  <a:pt x="6424" y="14808"/>
                </a:cubicBezTo>
              </a:path>
              <a:path w="1043" h="522">
                <a:moveTo>
                  <a:pt x="6623" y="14312"/>
                </a:moveTo>
                <a:cubicBezTo>
                  <a:pt x="6663" y="14453"/>
                  <a:pt x="6703" y="14594"/>
                  <a:pt x="6747" y="14734"/>
                </a:cubicBezTo>
                <a:cubicBezTo>
                  <a:pt x="6739" y="14673"/>
                  <a:pt x="6665" y="14379"/>
                  <a:pt x="6846" y="14511"/>
                </a:cubicBezTo>
                <a:cubicBezTo>
                  <a:pt x="6953" y="14589"/>
                  <a:pt x="6995" y="14718"/>
                  <a:pt x="7020" y="14833"/>
                </a:cubicBezTo>
              </a:path>
              <a:path w="1043" h="522">
                <a:moveTo>
                  <a:pt x="7119" y="14660"/>
                </a:moveTo>
                <a:cubicBezTo>
                  <a:pt x="7198" y="14602"/>
                  <a:pt x="7221" y="14598"/>
                  <a:pt x="7243" y="14511"/>
                </a:cubicBezTo>
                <a:cubicBezTo>
                  <a:pt x="7078" y="14511"/>
                  <a:pt x="6988" y="14540"/>
                  <a:pt x="7045" y="14734"/>
                </a:cubicBezTo>
                <a:cubicBezTo>
                  <a:pt x="7093" y="14898"/>
                  <a:pt x="7202" y="14799"/>
                  <a:pt x="7293" y="147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7960" y="5187960"/>
            <a:ext cx="617400" cy="206280"/>
          </a:xfrm>
          <a:custGeom>
            <a:avLst/>
            <a:gdLst/>
            <a:ahLst/>
            <a:rect l="l" t="t" r="r" b="b"/>
            <a:pathLst>
              <a:path w="1712" h="571">
                <a:moveTo>
                  <a:pt x="8161" y="14436"/>
                </a:moveTo>
                <a:cubicBezTo>
                  <a:pt x="7994" y="14437"/>
                  <a:pt x="7881" y="14640"/>
                  <a:pt x="7913" y="14833"/>
                </a:cubicBezTo>
                <a:cubicBezTo>
                  <a:pt x="7961" y="15119"/>
                  <a:pt x="8363" y="14957"/>
                  <a:pt x="8359" y="14734"/>
                </a:cubicBezTo>
                <a:cubicBezTo>
                  <a:pt x="8355" y="14510"/>
                  <a:pt x="8147" y="14536"/>
                  <a:pt x="8012" y="14536"/>
                </a:cubicBezTo>
              </a:path>
              <a:path w="1712" h="571">
                <a:moveTo>
                  <a:pt x="8558" y="14759"/>
                </a:moveTo>
                <a:cubicBezTo>
                  <a:pt x="8567" y="14790"/>
                  <a:pt x="8622" y="14919"/>
                  <a:pt x="8558" y="14808"/>
                </a:cubicBezTo>
                <a:cubicBezTo>
                  <a:pt x="8526" y="14680"/>
                  <a:pt x="8542" y="14632"/>
                  <a:pt x="8582" y="14511"/>
                </a:cubicBezTo>
                <a:cubicBezTo>
                  <a:pt x="8798" y="14572"/>
                  <a:pt x="8764" y="14664"/>
                  <a:pt x="8855" y="14833"/>
                </a:cubicBezTo>
                <a:cubicBezTo>
                  <a:pt x="8863" y="14833"/>
                  <a:pt x="8872" y="14833"/>
                  <a:pt x="8880" y="14833"/>
                </a:cubicBezTo>
              </a:path>
              <a:path w="1712" h="571">
                <a:moveTo>
                  <a:pt x="8880" y="14684"/>
                </a:moveTo>
                <a:cubicBezTo>
                  <a:pt x="9002" y="14623"/>
                  <a:pt x="9079" y="14625"/>
                  <a:pt x="9079" y="14486"/>
                </a:cubicBezTo>
                <a:cubicBezTo>
                  <a:pt x="8847" y="14528"/>
                  <a:pt x="8855" y="14624"/>
                  <a:pt x="8855" y="14833"/>
                </a:cubicBezTo>
                <a:cubicBezTo>
                  <a:pt x="9130" y="14877"/>
                  <a:pt x="9128" y="14845"/>
                  <a:pt x="9376" y="14684"/>
                </a:cubicBezTo>
              </a:path>
              <a:path w="1712" h="571">
                <a:moveTo>
                  <a:pt x="9351" y="14486"/>
                </a:moveTo>
                <a:cubicBezTo>
                  <a:pt x="9318" y="14503"/>
                  <a:pt x="9285" y="14519"/>
                  <a:pt x="9252" y="14536"/>
                </a:cubicBezTo>
                <a:cubicBezTo>
                  <a:pt x="9312" y="14594"/>
                  <a:pt x="9508" y="14593"/>
                  <a:pt x="9599" y="14684"/>
                </a:cubicBezTo>
                <a:cubicBezTo>
                  <a:pt x="9786" y="14872"/>
                  <a:pt x="9292" y="14799"/>
                  <a:pt x="9252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95840" y="5180040"/>
            <a:ext cx="768240" cy="330120"/>
          </a:xfrm>
          <a:custGeom>
            <a:avLst/>
            <a:gdLst/>
            <a:ahLst/>
            <a:rect l="l" t="t" r="r" b="b"/>
            <a:pathLst>
              <a:path w="2134" h="918">
                <a:moveTo>
                  <a:pt x="10592" y="14684"/>
                </a:moveTo>
                <a:cubicBezTo>
                  <a:pt x="10653" y="14890"/>
                  <a:pt x="10969" y="15372"/>
                  <a:pt x="10765" y="15304"/>
                </a:cubicBezTo>
                <a:cubicBezTo>
                  <a:pt x="10749" y="15288"/>
                  <a:pt x="10732" y="15271"/>
                  <a:pt x="10716" y="15255"/>
                </a:cubicBezTo>
                <a:cubicBezTo>
                  <a:pt x="10641" y="14915"/>
                  <a:pt x="10576" y="14753"/>
                  <a:pt x="10864" y="14560"/>
                </a:cubicBezTo>
                <a:cubicBezTo>
                  <a:pt x="10979" y="14752"/>
                  <a:pt x="11095" y="15028"/>
                  <a:pt x="10716" y="15007"/>
                </a:cubicBezTo>
                <a:cubicBezTo>
                  <a:pt x="10584" y="14963"/>
                  <a:pt x="10539" y="14964"/>
                  <a:pt x="10542" y="14858"/>
                </a:cubicBezTo>
              </a:path>
              <a:path w="2134" h="918">
                <a:moveTo>
                  <a:pt x="11013" y="14387"/>
                </a:moveTo>
                <a:cubicBezTo>
                  <a:pt x="11089" y="14563"/>
                  <a:pt x="11135" y="14759"/>
                  <a:pt x="11212" y="14932"/>
                </a:cubicBezTo>
                <a:cubicBezTo>
                  <a:pt x="11220" y="14940"/>
                  <a:pt x="11229" y="14949"/>
                  <a:pt x="11237" y="14957"/>
                </a:cubicBezTo>
              </a:path>
              <a:path w="2134" h="918">
                <a:moveTo>
                  <a:pt x="11633" y="14610"/>
                </a:moveTo>
                <a:cubicBezTo>
                  <a:pt x="11625" y="14577"/>
                  <a:pt x="11617" y="14544"/>
                  <a:pt x="11609" y="14511"/>
                </a:cubicBezTo>
                <a:cubicBezTo>
                  <a:pt x="11465" y="14511"/>
                  <a:pt x="11214" y="14659"/>
                  <a:pt x="11361" y="14858"/>
                </a:cubicBezTo>
                <a:cubicBezTo>
                  <a:pt x="11488" y="15030"/>
                  <a:pt x="11611" y="14702"/>
                  <a:pt x="11633" y="14660"/>
                </a:cubicBezTo>
                <a:cubicBezTo>
                  <a:pt x="11625" y="14635"/>
                  <a:pt x="11617" y="14610"/>
                  <a:pt x="11609" y="14585"/>
                </a:cubicBezTo>
                <a:cubicBezTo>
                  <a:pt x="11617" y="14648"/>
                  <a:pt x="11671" y="14927"/>
                  <a:pt x="11807" y="14833"/>
                </a:cubicBezTo>
                <a:cubicBezTo>
                  <a:pt x="11824" y="14800"/>
                  <a:pt x="11840" y="14767"/>
                  <a:pt x="11857" y="14734"/>
                </a:cubicBezTo>
              </a:path>
              <a:path w="2134" h="918">
                <a:moveTo>
                  <a:pt x="11931" y="14511"/>
                </a:moveTo>
                <a:cubicBezTo>
                  <a:pt x="11959" y="14596"/>
                  <a:pt x="11948" y="14442"/>
                  <a:pt x="11857" y="14511"/>
                </a:cubicBezTo>
                <a:cubicBezTo>
                  <a:pt x="11714" y="14619"/>
                  <a:pt x="11749" y="14918"/>
                  <a:pt x="11981" y="14833"/>
                </a:cubicBezTo>
                <a:cubicBezTo>
                  <a:pt x="12047" y="14792"/>
                  <a:pt x="12113" y="14750"/>
                  <a:pt x="12179" y="14709"/>
                </a:cubicBezTo>
              </a:path>
              <a:path w="2134" h="918">
                <a:moveTo>
                  <a:pt x="12303" y="14585"/>
                </a:moveTo>
                <a:cubicBezTo>
                  <a:pt x="12357" y="14532"/>
                  <a:pt x="12427" y="14505"/>
                  <a:pt x="12378" y="14436"/>
                </a:cubicBezTo>
                <a:cubicBezTo>
                  <a:pt x="12250" y="14459"/>
                  <a:pt x="11918" y="14627"/>
                  <a:pt x="12204" y="14759"/>
                </a:cubicBezTo>
                <a:cubicBezTo>
                  <a:pt x="12366" y="14834"/>
                  <a:pt x="12665" y="14731"/>
                  <a:pt x="12626" y="146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4840" y="6438960"/>
            <a:ext cx="9360" cy="1440"/>
          </a:xfrm>
          <a:custGeom>
            <a:avLst/>
            <a:gdLst/>
            <a:ahLst/>
            <a:rect l="l" t="t" r="r" b="b"/>
            <a:pathLst>
              <a:path w="25" h="1">
                <a:moveTo>
                  <a:pt x="571" y="17884"/>
                </a:moveTo>
                <a:cubicBezTo>
                  <a:pt x="579" y="17884"/>
                  <a:pt x="587" y="17884"/>
                  <a:pt x="595" y="178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bjective:  Students will be able to use divisibility rules to quickly identify the factors of a given numb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numbers can be checked by looking at the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digits or by seeing if they’re divisible by other numbers.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 number is divisible by 3 if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 number is divisible by 9 if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 number is divisible by 6 if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99ff"/>
                </a:solidFill>
                <a:uFillTx/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37160" y="2625840"/>
            <a:ext cx="1785960" cy="214200"/>
          </a:xfrm>
          <a:custGeom>
            <a:avLst/>
            <a:gdLst/>
            <a:ahLst/>
            <a:rect l="l" t="t" r="r" b="b"/>
            <a:pathLst>
              <a:path w="4962" h="596">
                <a:moveTo>
                  <a:pt x="15528" y="7293"/>
                </a:moveTo>
                <a:cubicBezTo>
                  <a:pt x="15586" y="7481"/>
                  <a:pt x="15666" y="7657"/>
                  <a:pt x="15701" y="7863"/>
                </a:cubicBezTo>
                <a:cubicBezTo>
                  <a:pt x="15701" y="7910"/>
                  <a:pt x="15689" y="7900"/>
                  <a:pt x="15652" y="7813"/>
                </a:cubicBezTo>
              </a:path>
              <a:path w="4962" h="596">
                <a:moveTo>
                  <a:pt x="15379" y="7565"/>
                </a:moveTo>
                <a:cubicBezTo>
                  <a:pt x="15485" y="7583"/>
                  <a:pt x="15961" y="7691"/>
                  <a:pt x="15974" y="7466"/>
                </a:cubicBezTo>
                <a:cubicBezTo>
                  <a:pt x="15958" y="7425"/>
                  <a:pt x="15941" y="7383"/>
                  <a:pt x="15925" y="7342"/>
                </a:cubicBezTo>
              </a:path>
              <a:path w="4962" h="596">
                <a:moveTo>
                  <a:pt x="20017" y="7516"/>
                </a:moveTo>
                <a:cubicBezTo>
                  <a:pt x="20191" y="7494"/>
                  <a:pt x="20231" y="7486"/>
                  <a:pt x="20340" y="74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05640" y="2608200"/>
            <a:ext cx="304560" cy="187560"/>
          </a:xfrm>
          <a:custGeom>
            <a:avLst/>
            <a:gdLst/>
            <a:ahLst/>
            <a:rect l="l" t="t" r="r" b="b"/>
            <a:pathLst>
              <a:path w="845" h="522">
                <a:moveTo>
                  <a:pt x="15850" y="7243"/>
                </a:moveTo>
                <a:cubicBezTo>
                  <a:pt x="15884" y="7388"/>
                  <a:pt x="15947" y="7537"/>
                  <a:pt x="16024" y="7665"/>
                </a:cubicBezTo>
                <a:cubicBezTo>
                  <a:pt x="16008" y="7580"/>
                  <a:pt x="15988" y="7313"/>
                  <a:pt x="16173" y="7441"/>
                </a:cubicBezTo>
                <a:cubicBezTo>
                  <a:pt x="16276" y="7512"/>
                  <a:pt x="16319" y="7656"/>
                  <a:pt x="16346" y="7764"/>
                </a:cubicBezTo>
              </a:path>
              <a:path w="845" h="522">
                <a:moveTo>
                  <a:pt x="16446" y="7541"/>
                </a:moveTo>
                <a:cubicBezTo>
                  <a:pt x="16512" y="7505"/>
                  <a:pt x="16626" y="7488"/>
                  <a:pt x="16644" y="7417"/>
                </a:cubicBezTo>
                <a:cubicBezTo>
                  <a:pt x="16497" y="7439"/>
                  <a:pt x="16327" y="7536"/>
                  <a:pt x="16470" y="7714"/>
                </a:cubicBezTo>
                <a:cubicBezTo>
                  <a:pt x="16574" y="7766"/>
                  <a:pt x="16613" y="7782"/>
                  <a:pt x="16694" y="7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61040" y="2652840"/>
            <a:ext cx="546120" cy="160200"/>
          </a:xfrm>
          <a:custGeom>
            <a:avLst/>
            <a:gdLst/>
            <a:ahLst/>
            <a:rect l="l" t="t" r="r" b="b"/>
            <a:pathLst>
              <a:path w="1514" h="447">
                <a:moveTo>
                  <a:pt x="17289" y="7367"/>
                </a:moveTo>
                <a:cubicBezTo>
                  <a:pt x="17201" y="7396"/>
                  <a:pt x="17160" y="7392"/>
                  <a:pt x="17115" y="7466"/>
                </a:cubicBezTo>
                <a:cubicBezTo>
                  <a:pt x="17271" y="7520"/>
                  <a:pt x="17414" y="7569"/>
                  <a:pt x="17562" y="7640"/>
                </a:cubicBezTo>
                <a:cubicBezTo>
                  <a:pt x="17441" y="7865"/>
                  <a:pt x="17341" y="7841"/>
                  <a:pt x="17140" y="7714"/>
                </a:cubicBezTo>
              </a:path>
              <a:path w="1514" h="447">
                <a:moveTo>
                  <a:pt x="17587" y="7541"/>
                </a:moveTo>
                <a:cubicBezTo>
                  <a:pt x="17636" y="7627"/>
                  <a:pt x="17762" y="7924"/>
                  <a:pt x="17884" y="7714"/>
                </a:cubicBezTo>
                <a:cubicBezTo>
                  <a:pt x="17928" y="7582"/>
                  <a:pt x="17949" y="7551"/>
                  <a:pt x="17909" y="7466"/>
                </a:cubicBezTo>
                <a:cubicBezTo>
                  <a:pt x="17911" y="7497"/>
                  <a:pt x="17942" y="7885"/>
                  <a:pt x="18058" y="7764"/>
                </a:cubicBezTo>
                <a:cubicBezTo>
                  <a:pt x="18083" y="7714"/>
                  <a:pt x="18107" y="7665"/>
                  <a:pt x="18132" y="7615"/>
                </a:cubicBezTo>
              </a:path>
              <a:path w="1514" h="447">
                <a:moveTo>
                  <a:pt x="18083" y="7615"/>
                </a:moveTo>
                <a:cubicBezTo>
                  <a:pt x="18083" y="7706"/>
                  <a:pt x="18083" y="7714"/>
                  <a:pt x="18083" y="7764"/>
                </a:cubicBezTo>
                <a:cubicBezTo>
                  <a:pt x="18083" y="7677"/>
                  <a:pt x="18060" y="7485"/>
                  <a:pt x="18157" y="7441"/>
                </a:cubicBezTo>
                <a:cubicBezTo>
                  <a:pt x="18279" y="7385"/>
                  <a:pt x="18345" y="7665"/>
                  <a:pt x="18355" y="7739"/>
                </a:cubicBezTo>
                <a:cubicBezTo>
                  <a:pt x="18355" y="7597"/>
                  <a:pt x="18361" y="7509"/>
                  <a:pt x="18430" y="7392"/>
                </a:cubicBezTo>
                <a:cubicBezTo>
                  <a:pt x="18585" y="7505"/>
                  <a:pt x="18631" y="7569"/>
                  <a:pt x="18604" y="7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73920" y="2509920"/>
            <a:ext cx="330120" cy="330120"/>
          </a:xfrm>
          <a:custGeom>
            <a:avLst/>
            <a:gdLst/>
            <a:ahLst/>
            <a:rect l="l" t="t" r="r" b="b"/>
            <a:pathLst>
              <a:path w="919" h="919">
                <a:moveTo>
                  <a:pt x="19596" y="7491"/>
                </a:moveTo>
                <a:cubicBezTo>
                  <a:pt x="19432" y="7587"/>
                  <a:pt x="19414" y="7629"/>
                  <a:pt x="19372" y="7813"/>
                </a:cubicBezTo>
                <a:cubicBezTo>
                  <a:pt x="19507" y="7874"/>
                  <a:pt x="19867" y="7972"/>
                  <a:pt x="19819" y="7665"/>
                </a:cubicBezTo>
                <a:cubicBezTo>
                  <a:pt x="19794" y="7508"/>
                  <a:pt x="19686" y="7526"/>
                  <a:pt x="19571" y="7516"/>
                </a:cubicBezTo>
              </a:path>
              <a:path w="919" h="919">
                <a:moveTo>
                  <a:pt x="20067" y="7193"/>
                </a:moveTo>
                <a:cubicBezTo>
                  <a:pt x="20048" y="7410"/>
                  <a:pt x="20086" y="7577"/>
                  <a:pt x="20141" y="7789"/>
                </a:cubicBezTo>
              </a:path>
              <a:path w="919" h="919">
                <a:moveTo>
                  <a:pt x="20017" y="7119"/>
                </a:moveTo>
                <a:cubicBezTo>
                  <a:pt x="20051" y="7073"/>
                  <a:pt x="20077" y="6996"/>
                  <a:pt x="20141" y="6970"/>
                </a:cubicBezTo>
                <a:cubicBezTo>
                  <a:pt x="20161" y="6962"/>
                  <a:pt x="20261" y="6970"/>
                  <a:pt x="20290" y="6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5760" y="2894040"/>
            <a:ext cx="5392440" cy="285840"/>
          </a:xfrm>
          <a:custGeom>
            <a:avLst/>
            <a:gdLst/>
            <a:ahLst/>
            <a:rect l="l" t="t" r="r" b="b"/>
            <a:pathLst>
              <a:path w="14983" h="794">
                <a:moveTo>
                  <a:pt x="4514" y="8508"/>
                </a:moveTo>
                <a:cubicBezTo>
                  <a:pt x="4739" y="8538"/>
                  <a:pt x="4881" y="8536"/>
                  <a:pt x="5085" y="8434"/>
                </a:cubicBezTo>
              </a:path>
              <a:path w="14983" h="794">
                <a:moveTo>
                  <a:pt x="6747" y="8161"/>
                </a:moveTo>
                <a:cubicBezTo>
                  <a:pt x="6886" y="8352"/>
                  <a:pt x="6960" y="8513"/>
                  <a:pt x="7045" y="8731"/>
                </a:cubicBezTo>
              </a:path>
              <a:path w="14983" h="794">
                <a:moveTo>
                  <a:pt x="7144" y="8260"/>
                </a:moveTo>
                <a:lnTo>
                  <a:pt x="7144" y="8260"/>
                </a:lnTo>
                <a:lnTo>
                  <a:pt x="7144" y="8260"/>
                </a:lnTo>
                <a:lnTo>
                  <a:pt x="7144" y="8260"/>
                </a:lnTo>
              </a:path>
              <a:path w="14983" h="794">
                <a:moveTo>
                  <a:pt x="7144" y="8260"/>
                </a:moveTo>
                <a:lnTo>
                  <a:pt x="7144" y="8260"/>
                </a:lnTo>
              </a:path>
              <a:path w="14983" h="794">
                <a:moveTo>
                  <a:pt x="7863" y="8582"/>
                </a:moveTo>
                <a:cubicBezTo>
                  <a:pt x="7882" y="8640"/>
                  <a:pt x="7891" y="8683"/>
                  <a:pt x="7888" y="8632"/>
                </a:cubicBezTo>
              </a:path>
              <a:path w="14983" h="794">
                <a:moveTo>
                  <a:pt x="7789" y="8285"/>
                </a:moveTo>
                <a:cubicBezTo>
                  <a:pt x="7766" y="8262"/>
                  <a:pt x="7755" y="8254"/>
                  <a:pt x="7789" y="8260"/>
                </a:cubicBezTo>
              </a:path>
              <a:path w="14983" h="794">
                <a:moveTo>
                  <a:pt x="7789" y="8260"/>
                </a:moveTo>
                <a:lnTo>
                  <a:pt x="7789" y="8260"/>
                </a:lnTo>
              </a:path>
              <a:path w="14983" h="794">
                <a:moveTo>
                  <a:pt x="8012" y="8434"/>
                </a:moveTo>
                <a:cubicBezTo>
                  <a:pt x="8221" y="8401"/>
                  <a:pt x="8385" y="8360"/>
                  <a:pt x="8582" y="8285"/>
                </a:cubicBezTo>
              </a:path>
              <a:path w="14983" h="794">
                <a:moveTo>
                  <a:pt x="9401" y="8458"/>
                </a:moveTo>
                <a:cubicBezTo>
                  <a:pt x="9434" y="8557"/>
                  <a:pt x="9504" y="8747"/>
                  <a:pt x="9451" y="8657"/>
                </a:cubicBezTo>
              </a:path>
              <a:path w="14983" h="794">
                <a:moveTo>
                  <a:pt x="9252" y="8260"/>
                </a:moveTo>
                <a:lnTo>
                  <a:pt x="9252" y="8260"/>
                </a:lnTo>
              </a:path>
              <a:path w="14983" h="794">
                <a:moveTo>
                  <a:pt x="10988" y="8483"/>
                </a:moveTo>
                <a:cubicBezTo>
                  <a:pt x="11023" y="8575"/>
                  <a:pt x="11036" y="8734"/>
                  <a:pt x="11088" y="8657"/>
                </a:cubicBezTo>
              </a:path>
              <a:path w="14983" h="794">
                <a:moveTo>
                  <a:pt x="10988" y="8285"/>
                </a:moveTo>
                <a:lnTo>
                  <a:pt x="10988" y="8285"/>
                </a:lnTo>
              </a:path>
              <a:path w="14983" h="794">
                <a:moveTo>
                  <a:pt x="11559" y="8310"/>
                </a:moveTo>
                <a:cubicBezTo>
                  <a:pt x="11559" y="8277"/>
                  <a:pt x="11567" y="8268"/>
                  <a:pt x="11609" y="8285"/>
                </a:cubicBezTo>
              </a:path>
              <a:path w="14983" h="794">
                <a:moveTo>
                  <a:pt x="11609" y="8285"/>
                </a:moveTo>
                <a:lnTo>
                  <a:pt x="11609" y="8285"/>
                </a:lnTo>
              </a:path>
              <a:path w="14983" h="794">
                <a:moveTo>
                  <a:pt x="12229" y="8558"/>
                </a:moveTo>
                <a:cubicBezTo>
                  <a:pt x="12266" y="8614"/>
                  <a:pt x="12283" y="8660"/>
                  <a:pt x="12278" y="8607"/>
                </a:cubicBezTo>
              </a:path>
              <a:path w="14983" h="794">
                <a:moveTo>
                  <a:pt x="12105" y="8161"/>
                </a:moveTo>
                <a:lnTo>
                  <a:pt x="12105" y="8161"/>
                </a:lnTo>
                <a:lnTo>
                  <a:pt x="12105" y="8161"/>
                </a:lnTo>
              </a:path>
              <a:path w="14983" h="794">
                <a:moveTo>
                  <a:pt x="12105" y="8161"/>
                </a:moveTo>
                <a:lnTo>
                  <a:pt x="12105" y="8161"/>
                </a:lnTo>
              </a:path>
              <a:path w="14983" h="794">
                <a:moveTo>
                  <a:pt x="17760" y="8632"/>
                </a:moveTo>
                <a:cubicBezTo>
                  <a:pt x="17782" y="8740"/>
                  <a:pt x="17785" y="8766"/>
                  <a:pt x="17810" y="8830"/>
                </a:cubicBezTo>
              </a:path>
              <a:path w="14983" h="794">
                <a:moveTo>
                  <a:pt x="18604" y="8632"/>
                </a:moveTo>
                <a:cubicBezTo>
                  <a:pt x="18622" y="8706"/>
                  <a:pt x="18630" y="8713"/>
                  <a:pt x="18628" y="8756"/>
                </a:cubicBezTo>
              </a:path>
              <a:path w="14983" h="794">
                <a:moveTo>
                  <a:pt x="19298" y="8037"/>
                </a:moveTo>
                <a:cubicBezTo>
                  <a:pt x="19408" y="8263"/>
                  <a:pt x="19681" y="8701"/>
                  <a:pt x="19273" y="8830"/>
                </a:cubicBezTo>
                <a:cubicBezTo>
                  <a:pt x="19223" y="8822"/>
                  <a:pt x="19174" y="8814"/>
                  <a:pt x="19124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31960" y="2973240"/>
            <a:ext cx="349200" cy="196920"/>
          </a:xfrm>
          <a:custGeom>
            <a:avLst/>
            <a:gdLst/>
            <a:ahLst/>
            <a:rect l="l" t="t" r="r" b="b"/>
            <a:pathLst>
              <a:path w="968" h="547">
                <a:moveTo>
                  <a:pt x="4812" y="8285"/>
                </a:moveTo>
                <a:cubicBezTo>
                  <a:pt x="4841" y="8445"/>
                  <a:pt x="4898" y="8598"/>
                  <a:pt x="4936" y="8756"/>
                </a:cubicBezTo>
                <a:cubicBezTo>
                  <a:pt x="4936" y="8764"/>
                  <a:pt x="4936" y="8773"/>
                  <a:pt x="4936" y="8781"/>
                </a:cubicBezTo>
              </a:path>
              <a:path w="968" h="547">
                <a:moveTo>
                  <a:pt x="5011" y="8260"/>
                </a:moveTo>
                <a:cubicBezTo>
                  <a:pt x="5085" y="8418"/>
                  <a:pt x="5151" y="8567"/>
                  <a:pt x="5209" y="8731"/>
                </a:cubicBezTo>
                <a:cubicBezTo>
                  <a:pt x="5197" y="8621"/>
                  <a:pt x="5135" y="8385"/>
                  <a:pt x="5234" y="8434"/>
                </a:cubicBezTo>
                <a:cubicBezTo>
                  <a:pt x="5376" y="8505"/>
                  <a:pt x="5466" y="8663"/>
                  <a:pt x="5507" y="8806"/>
                </a:cubicBezTo>
              </a:path>
              <a:path w="968" h="547">
                <a:moveTo>
                  <a:pt x="5581" y="8558"/>
                </a:moveTo>
                <a:cubicBezTo>
                  <a:pt x="5622" y="8524"/>
                  <a:pt x="5664" y="8492"/>
                  <a:pt x="5705" y="8458"/>
                </a:cubicBezTo>
                <a:cubicBezTo>
                  <a:pt x="5705" y="8368"/>
                  <a:pt x="5612" y="8298"/>
                  <a:pt x="5556" y="8409"/>
                </a:cubicBezTo>
                <a:cubicBezTo>
                  <a:pt x="5449" y="8622"/>
                  <a:pt x="5620" y="8691"/>
                  <a:pt x="5779" y="86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47920" y="2919240"/>
            <a:ext cx="831960" cy="349560"/>
          </a:xfrm>
          <a:custGeom>
            <a:avLst/>
            <a:gdLst/>
            <a:ahLst/>
            <a:rect l="l" t="t" r="r" b="b"/>
            <a:pathLst>
              <a:path w="2307" h="969">
                <a:moveTo>
                  <a:pt x="6921" y="8483"/>
                </a:moveTo>
                <a:cubicBezTo>
                  <a:pt x="6820" y="8358"/>
                  <a:pt x="6659" y="8412"/>
                  <a:pt x="6573" y="8558"/>
                </a:cubicBezTo>
                <a:cubicBezTo>
                  <a:pt x="6336" y="8962"/>
                  <a:pt x="6835" y="8712"/>
                  <a:pt x="6945" y="8632"/>
                </a:cubicBezTo>
              </a:path>
              <a:path w="2307" h="969">
                <a:moveTo>
                  <a:pt x="7169" y="8508"/>
                </a:moveTo>
                <a:cubicBezTo>
                  <a:pt x="7194" y="8584"/>
                  <a:pt x="7232" y="8706"/>
                  <a:pt x="7243" y="8706"/>
                </a:cubicBezTo>
              </a:path>
              <a:path w="2307" h="969">
                <a:moveTo>
                  <a:pt x="7714" y="8434"/>
                </a:moveTo>
                <a:cubicBezTo>
                  <a:pt x="7542" y="8304"/>
                  <a:pt x="7454" y="8413"/>
                  <a:pt x="7441" y="8632"/>
                </a:cubicBezTo>
                <a:cubicBezTo>
                  <a:pt x="7429" y="8832"/>
                  <a:pt x="7655" y="8464"/>
                  <a:pt x="7665" y="8434"/>
                </a:cubicBezTo>
                <a:cubicBezTo>
                  <a:pt x="7657" y="8426"/>
                  <a:pt x="7648" y="8417"/>
                  <a:pt x="7640" y="8409"/>
                </a:cubicBezTo>
                <a:cubicBezTo>
                  <a:pt x="7673" y="8543"/>
                  <a:pt x="7793" y="8737"/>
                  <a:pt x="7764" y="8880"/>
                </a:cubicBezTo>
                <a:cubicBezTo>
                  <a:pt x="7709" y="9155"/>
                  <a:pt x="7457" y="9079"/>
                  <a:pt x="7342" y="8954"/>
                </a:cubicBezTo>
              </a:path>
              <a:path w="2307" h="969">
                <a:moveTo>
                  <a:pt x="8086" y="8111"/>
                </a:moveTo>
                <a:cubicBezTo>
                  <a:pt x="8127" y="8288"/>
                  <a:pt x="8202" y="8490"/>
                  <a:pt x="8285" y="8657"/>
                </a:cubicBezTo>
                <a:cubicBezTo>
                  <a:pt x="8323" y="8695"/>
                  <a:pt x="8321" y="8688"/>
                  <a:pt x="8260" y="8607"/>
                </a:cubicBezTo>
              </a:path>
              <a:path w="2307" h="969">
                <a:moveTo>
                  <a:pt x="8632" y="8260"/>
                </a:moveTo>
                <a:cubicBezTo>
                  <a:pt x="8564" y="8260"/>
                  <a:pt x="8545" y="8257"/>
                  <a:pt x="8508" y="8285"/>
                </a:cubicBezTo>
                <a:cubicBezTo>
                  <a:pt x="8532" y="8358"/>
                  <a:pt x="8719" y="8364"/>
                  <a:pt x="8781" y="8409"/>
                </a:cubicBezTo>
                <a:cubicBezTo>
                  <a:pt x="9028" y="8587"/>
                  <a:pt x="8507" y="8562"/>
                  <a:pt x="8483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73280" y="2973240"/>
            <a:ext cx="135000" cy="13500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9773" y="8260"/>
                </a:moveTo>
                <a:cubicBezTo>
                  <a:pt x="9706" y="8282"/>
                  <a:pt x="9689" y="8306"/>
                  <a:pt x="9649" y="8359"/>
                </a:cubicBezTo>
                <a:cubicBezTo>
                  <a:pt x="9722" y="8383"/>
                  <a:pt x="9873" y="8373"/>
                  <a:pt x="9971" y="8434"/>
                </a:cubicBezTo>
                <a:cubicBezTo>
                  <a:pt x="10158" y="8549"/>
                  <a:pt x="9809" y="8655"/>
                  <a:pt x="9723" y="8632"/>
                </a:cubicBezTo>
                <a:cubicBezTo>
                  <a:pt x="9707" y="8615"/>
                  <a:pt x="9690" y="8599"/>
                  <a:pt x="9674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68840" y="2955960"/>
            <a:ext cx="963360" cy="187200"/>
          </a:xfrm>
          <a:custGeom>
            <a:avLst/>
            <a:gdLst/>
            <a:ahLst/>
            <a:rect l="l" t="t" r="r" b="b"/>
            <a:pathLst>
              <a:path w="2679" h="522">
                <a:moveTo>
                  <a:pt x="10716" y="8508"/>
                </a:moveTo>
                <a:cubicBezTo>
                  <a:pt x="10740" y="8432"/>
                  <a:pt x="10718" y="8426"/>
                  <a:pt x="10666" y="8359"/>
                </a:cubicBezTo>
                <a:cubicBezTo>
                  <a:pt x="10604" y="8390"/>
                  <a:pt x="10304" y="8676"/>
                  <a:pt x="10567" y="8706"/>
                </a:cubicBezTo>
                <a:cubicBezTo>
                  <a:pt x="10745" y="8656"/>
                  <a:pt x="10805" y="8636"/>
                  <a:pt x="10864" y="8508"/>
                </a:cubicBezTo>
              </a:path>
              <a:path w="2679" h="522">
                <a:moveTo>
                  <a:pt x="10666" y="8210"/>
                </a:moveTo>
                <a:cubicBezTo>
                  <a:pt x="10719" y="8369"/>
                  <a:pt x="10787" y="8553"/>
                  <a:pt x="10864" y="8706"/>
                </a:cubicBezTo>
                <a:cubicBezTo>
                  <a:pt x="10872" y="8714"/>
                  <a:pt x="10881" y="8723"/>
                  <a:pt x="10889" y="8731"/>
                </a:cubicBezTo>
              </a:path>
              <a:path w="2679" h="522">
                <a:moveTo>
                  <a:pt x="10914" y="8285"/>
                </a:moveTo>
                <a:cubicBezTo>
                  <a:pt x="10947" y="8285"/>
                  <a:pt x="10963" y="8285"/>
                  <a:pt x="10988" y="8285"/>
                </a:cubicBezTo>
              </a:path>
              <a:path w="2679" h="522">
                <a:moveTo>
                  <a:pt x="11286" y="8508"/>
                </a:moveTo>
                <a:cubicBezTo>
                  <a:pt x="11358" y="8580"/>
                  <a:pt x="11391" y="8575"/>
                  <a:pt x="11385" y="8632"/>
                </a:cubicBezTo>
                <a:cubicBezTo>
                  <a:pt x="11414" y="8510"/>
                  <a:pt x="11458" y="8397"/>
                  <a:pt x="11410" y="8285"/>
                </a:cubicBezTo>
              </a:path>
              <a:path w="2679" h="522">
                <a:moveTo>
                  <a:pt x="11633" y="8533"/>
                </a:moveTo>
                <a:cubicBezTo>
                  <a:pt x="11658" y="8575"/>
                  <a:pt x="11683" y="8653"/>
                  <a:pt x="11683" y="8607"/>
                </a:cubicBezTo>
              </a:path>
              <a:path w="2679" h="522">
                <a:moveTo>
                  <a:pt x="11906" y="8334"/>
                </a:moveTo>
                <a:cubicBezTo>
                  <a:pt x="11730" y="8407"/>
                  <a:pt x="11680" y="8400"/>
                  <a:pt x="11881" y="8483"/>
                </a:cubicBezTo>
                <a:cubicBezTo>
                  <a:pt x="11922" y="8500"/>
                  <a:pt x="11964" y="8516"/>
                  <a:pt x="12005" y="8533"/>
                </a:cubicBezTo>
                <a:cubicBezTo>
                  <a:pt x="11950" y="8645"/>
                  <a:pt x="11876" y="8588"/>
                  <a:pt x="11807" y="8533"/>
                </a:cubicBezTo>
              </a:path>
              <a:path w="2679" h="522">
                <a:moveTo>
                  <a:pt x="12204" y="8235"/>
                </a:moveTo>
                <a:cubicBezTo>
                  <a:pt x="12261" y="8339"/>
                  <a:pt x="12317" y="8433"/>
                  <a:pt x="12378" y="8533"/>
                </a:cubicBezTo>
                <a:cubicBezTo>
                  <a:pt x="12378" y="8490"/>
                  <a:pt x="12354" y="8366"/>
                  <a:pt x="12427" y="8359"/>
                </a:cubicBezTo>
                <a:cubicBezTo>
                  <a:pt x="12519" y="8350"/>
                  <a:pt x="12775" y="8549"/>
                  <a:pt x="12626" y="8607"/>
                </a:cubicBezTo>
                <a:cubicBezTo>
                  <a:pt x="12533" y="8607"/>
                  <a:pt x="12507" y="8609"/>
                  <a:pt x="12452" y="8582"/>
                </a:cubicBezTo>
              </a:path>
              <a:path w="2679" h="522">
                <a:moveTo>
                  <a:pt x="12650" y="8210"/>
                </a:moveTo>
                <a:cubicBezTo>
                  <a:pt x="12699" y="8363"/>
                  <a:pt x="12737" y="8480"/>
                  <a:pt x="12824" y="8607"/>
                </a:cubicBezTo>
              </a:path>
              <a:path w="2679" h="522">
                <a:moveTo>
                  <a:pt x="12973" y="8458"/>
                </a:moveTo>
                <a:cubicBezTo>
                  <a:pt x="13042" y="8403"/>
                  <a:pt x="13056" y="8414"/>
                  <a:pt x="13072" y="8334"/>
                </a:cubicBezTo>
                <a:cubicBezTo>
                  <a:pt x="13030" y="8353"/>
                  <a:pt x="12790" y="8590"/>
                  <a:pt x="12998" y="8607"/>
                </a:cubicBezTo>
                <a:cubicBezTo>
                  <a:pt x="13047" y="8591"/>
                  <a:pt x="13097" y="8574"/>
                  <a:pt x="13146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27760" y="2973240"/>
            <a:ext cx="312480" cy="277920"/>
          </a:xfrm>
          <a:custGeom>
            <a:avLst/>
            <a:gdLst/>
            <a:ahLst/>
            <a:rect l="l" t="t" r="r" b="b"/>
            <a:pathLst>
              <a:path w="869" h="770">
                <a:moveTo>
                  <a:pt x="13965" y="8260"/>
                </a:moveTo>
                <a:cubicBezTo>
                  <a:pt x="14018" y="8385"/>
                  <a:pt x="14070" y="8518"/>
                  <a:pt x="14139" y="8632"/>
                </a:cubicBezTo>
                <a:cubicBezTo>
                  <a:pt x="14139" y="8529"/>
                  <a:pt x="14118" y="8356"/>
                  <a:pt x="14263" y="8334"/>
                </a:cubicBezTo>
                <a:cubicBezTo>
                  <a:pt x="14441" y="8307"/>
                  <a:pt x="14396" y="8673"/>
                  <a:pt x="14213" y="8657"/>
                </a:cubicBezTo>
                <a:cubicBezTo>
                  <a:pt x="14180" y="8640"/>
                  <a:pt x="14147" y="8624"/>
                  <a:pt x="14114" y="8607"/>
                </a:cubicBezTo>
              </a:path>
              <a:path w="869" h="770">
                <a:moveTo>
                  <a:pt x="14536" y="8533"/>
                </a:moveTo>
                <a:cubicBezTo>
                  <a:pt x="14610" y="8597"/>
                  <a:pt x="14715" y="8657"/>
                  <a:pt x="14734" y="8483"/>
                </a:cubicBezTo>
                <a:cubicBezTo>
                  <a:pt x="14715" y="8426"/>
                  <a:pt x="14706" y="8419"/>
                  <a:pt x="14709" y="8384"/>
                </a:cubicBezTo>
                <a:cubicBezTo>
                  <a:pt x="14747" y="8555"/>
                  <a:pt x="14893" y="8752"/>
                  <a:pt x="14808" y="8930"/>
                </a:cubicBezTo>
                <a:cubicBezTo>
                  <a:pt x="14722" y="9110"/>
                  <a:pt x="14521" y="8994"/>
                  <a:pt x="14412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62720" y="2928960"/>
            <a:ext cx="179280" cy="187200"/>
          </a:xfrm>
          <a:custGeom>
            <a:avLst/>
            <a:gdLst/>
            <a:ahLst/>
            <a:rect l="l" t="t" r="r" b="b"/>
            <a:pathLst>
              <a:path w="497" h="522">
                <a:moveTo>
                  <a:pt x="15453" y="8235"/>
                </a:moveTo>
                <a:cubicBezTo>
                  <a:pt x="15485" y="8214"/>
                  <a:pt x="15839" y="8038"/>
                  <a:pt x="15801" y="8210"/>
                </a:cubicBezTo>
                <a:cubicBezTo>
                  <a:pt x="15777" y="8320"/>
                  <a:pt x="15678" y="8369"/>
                  <a:pt x="15602" y="8434"/>
                </a:cubicBezTo>
                <a:cubicBezTo>
                  <a:pt x="15828" y="8321"/>
                  <a:pt x="15880" y="8338"/>
                  <a:pt x="15949" y="8533"/>
                </a:cubicBezTo>
                <a:cubicBezTo>
                  <a:pt x="15716" y="8668"/>
                  <a:pt x="15612" y="8711"/>
                  <a:pt x="15478" y="8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11920" y="2874960"/>
            <a:ext cx="366480" cy="287280"/>
          </a:xfrm>
          <a:custGeom>
            <a:avLst/>
            <a:gdLst/>
            <a:ahLst/>
            <a:rect l="l" t="t" r="r" b="b"/>
            <a:pathLst>
              <a:path w="1018" h="795">
                <a:moveTo>
                  <a:pt x="16446" y="7987"/>
                </a:moveTo>
                <a:cubicBezTo>
                  <a:pt x="16429" y="8218"/>
                  <a:pt x="16361" y="8469"/>
                  <a:pt x="16495" y="8682"/>
                </a:cubicBezTo>
                <a:cubicBezTo>
                  <a:pt x="16637" y="8796"/>
                  <a:pt x="16701" y="8823"/>
                  <a:pt x="16842" y="8731"/>
                </a:cubicBezTo>
              </a:path>
              <a:path w="1018" h="795">
                <a:moveTo>
                  <a:pt x="16966" y="8334"/>
                </a:moveTo>
                <a:cubicBezTo>
                  <a:pt x="17002" y="8245"/>
                  <a:pt x="17161" y="8166"/>
                  <a:pt x="17264" y="8186"/>
                </a:cubicBezTo>
                <a:cubicBezTo>
                  <a:pt x="17381" y="8209"/>
                  <a:pt x="17128" y="8449"/>
                  <a:pt x="17115" y="8458"/>
                </a:cubicBezTo>
                <a:cubicBezTo>
                  <a:pt x="17288" y="8352"/>
                  <a:pt x="17323" y="8373"/>
                  <a:pt x="17438" y="8508"/>
                </a:cubicBezTo>
                <a:cubicBezTo>
                  <a:pt x="17375" y="8593"/>
                  <a:pt x="17137" y="8841"/>
                  <a:pt x="17041" y="8607"/>
                </a:cubicBezTo>
                <a:cubicBezTo>
                  <a:pt x="17049" y="8574"/>
                  <a:pt x="17058" y="8541"/>
                  <a:pt x="17066" y="85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6240" y="2955960"/>
            <a:ext cx="135000" cy="152280"/>
          </a:xfrm>
          <a:custGeom>
            <a:avLst/>
            <a:gdLst/>
            <a:ahLst/>
            <a:rect l="l" t="t" r="r" b="b"/>
            <a:pathLst>
              <a:path w="373" h="423">
                <a:moveTo>
                  <a:pt x="17934" y="8210"/>
                </a:moveTo>
                <a:cubicBezTo>
                  <a:pt x="17940" y="8299"/>
                  <a:pt x="17928" y="8586"/>
                  <a:pt x="18033" y="8632"/>
                </a:cubicBezTo>
                <a:cubicBezTo>
                  <a:pt x="18197" y="8704"/>
                  <a:pt x="18282" y="8526"/>
                  <a:pt x="18306" y="8409"/>
                </a:cubicBezTo>
                <a:cubicBezTo>
                  <a:pt x="18179" y="8493"/>
                  <a:pt x="18017" y="8581"/>
                  <a:pt x="18207" y="86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59720" y="2911320"/>
            <a:ext cx="152280" cy="177840"/>
          </a:xfrm>
          <a:custGeom>
            <a:avLst/>
            <a:gdLst/>
            <a:ahLst/>
            <a:rect l="l" t="t" r="r" b="b"/>
            <a:pathLst>
              <a:path w="423" h="497">
                <a:moveTo>
                  <a:pt x="19174" y="8186"/>
                </a:moveTo>
                <a:cubicBezTo>
                  <a:pt x="19029" y="8056"/>
                  <a:pt x="18945" y="8066"/>
                  <a:pt x="18802" y="8210"/>
                </a:cubicBezTo>
                <a:cubicBezTo>
                  <a:pt x="18794" y="8227"/>
                  <a:pt x="18785" y="8243"/>
                  <a:pt x="18777" y="8260"/>
                </a:cubicBezTo>
                <a:cubicBezTo>
                  <a:pt x="18915" y="8348"/>
                  <a:pt x="18981" y="8371"/>
                  <a:pt x="19100" y="8235"/>
                </a:cubicBezTo>
                <a:cubicBezTo>
                  <a:pt x="19120" y="8337"/>
                  <a:pt x="19135" y="8459"/>
                  <a:pt x="19174" y="8558"/>
                </a:cubicBezTo>
                <a:cubicBezTo>
                  <a:pt x="19182" y="8566"/>
                  <a:pt x="19191" y="8574"/>
                  <a:pt x="19199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42120" y="3705120"/>
            <a:ext cx="142920" cy="9720"/>
          </a:xfrm>
          <a:custGeom>
            <a:avLst/>
            <a:gdLst/>
            <a:ahLst/>
            <a:rect l="l" t="t" r="r" b="b"/>
            <a:pathLst>
              <a:path w="397" h="26">
                <a:moveTo>
                  <a:pt x="20117" y="10319"/>
                </a:moveTo>
                <a:cubicBezTo>
                  <a:pt x="20316" y="10319"/>
                  <a:pt x="20382" y="10319"/>
                  <a:pt x="20513" y="10294"/>
                </a:cubicBezTo>
              </a:path>
              <a:path w="397" h="26">
                <a:moveTo>
                  <a:pt x="20513" y="10294"/>
                </a:moveTo>
                <a:lnTo>
                  <a:pt x="20513" y="1029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83160" y="3697200"/>
            <a:ext cx="384120" cy="204840"/>
          </a:xfrm>
          <a:custGeom>
            <a:avLst/>
            <a:gdLst/>
            <a:ahLst/>
            <a:rect l="l" t="t" r="r" b="b"/>
            <a:pathLst>
              <a:path w="1068" h="572">
                <a:moveTo>
                  <a:pt x="15453" y="10269"/>
                </a:moveTo>
                <a:cubicBezTo>
                  <a:pt x="15453" y="10461"/>
                  <a:pt x="15441" y="10654"/>
                  <a:pt x="15478" y="10840"/>
                </a:cubicBezTo>
              </a:path>
              <a:path w="1068" h="572">
                <a:moveTo>
                  <a:pt x="15230" y="10492"/>
                </a:moveTo>
                <a:cubicBezTo>
                  <a:pt x="15389" y="10504"/>
                  <a:pt x="15571" y="10558"/>
                  <a:pt x="15677" y="10393"/>
                </a:cubicBezTo>
                <a:cubicBezTo>
                  <a:pt x="15695" y="10366"/>
                  <a:pt x="15701" y="10197"/>
                  <a:pt x="15701" y="10319"/>
                </a:cubicBezTo>
                <a:cubicBezTo>
                  <a:pt x="15692" y="10494"/>
                  <a:pt x="15677" y="10665"/>
                  <a:pt x="15677" y="10840"/>
                </a:cubicBezTo>
                <a:cubicBezTo>
                  <a:pt x="15684" y="10788"/>
                  <a:pt x="15755" y="10418"/>
                  <a:pt x="15776" y="10468"/>
                </a:cubicBezTo>
                <a:cubicBezTo>
                  <a:pt x="15824" y="10585"/>
                  <a:pt x="15954" y="10958"/>
                  <a:pt x="16148" y="10716"/>
                </a:cubicBezTo>
                <a:cubicBezTo>
                  <a:pt x="16227" y="10618"/>
                  <a:pt x="16246" y="10459"/>
                  <a:pt x="16197" y="10443"/>
                </a:cubicBezTo>
                <a:cubicBezTo>
                  <a:pt x="16151" y="10694"/>
                  <a:pt x="16121" y="10674"/>
                  <a:pt x="16297" y="108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54840" y="3697200"/>
            <a:ext cx="588960" cy="196920"/>
          </a:xfrm>
          <a:custGeom>
            <a:avLst/>
            <a:gdLst/>
            <a:ahLst/>
            <a:rect l="l" t="t" r="r" b="b"/>
            <a:pathLst>
              <a:path w="1638" h="547">
                <a:moveTo>
                  <a:pt x="17016" y="10269"/>
                </a:moveTo>
                <a:cubicBezTo>
                  <a:pt x="16873" y="10371"/>
                  <a:pt x="17015" y="10423"/>
                  <a:pt x="17115" y="10517"/>
                </a:cubicBezTo>
                <a:cubicBezTo>
                  <a:pt x="17140" y="10542"/>
                  <a:pt x="17165" y="10567"/>
                  <a:pt x="17190" y="10592"/>
                </a:cubicBezTo>
                <a:cubicBezTo>
                  <a:pt x="17039" y="10756"/>
                  <a:pt x="16976" y="10729"/>
                  <a:pt x="16818" y="10592"/>
                </a:cubicBezTo>
              </a:path>
              <a:path w="1638" h="547">
                <a:moveTo>
                  <a:pt x="17264" y="10368"/>
                </a:moveTo>
                <a:cubicBezTo>
                  <a:pt x="17267" y="10383"/>
                  <a:pt x="17353" y="10806"/>
                  <a:pt x="17388" y="10765"/>
                </a:cubicBezTo>
                <a:cubicBezTo>
                  <a:pt x="17466" y="10635"/>
                  <a:pt x="17494" y="10587"/>
                  <a:pt x="17537" y="10492"/>
                </a:cubicBezTo>
                <a:cubicBezTo>
                  <a:pt x="17537" y="10484"/>
                  <a:pt x="17537" y="10476"/>
                  <a:pt x="17537" y="10468"/>
                </a:cubicBezTo>
                <a:cubicBezTo>
                  <a:pt x="17492" y="10708"/>
                  <a:pt x="17458" y="10808"/>
                  <a:pt x="17686" y="10740"/>
                </a:cubicBezTo>
              </a:path>
              <a:path w="1638" h="547">
                <a:moveTo>
                  <a:pt x="17859" y="10492"/>
                </a:moveTo>
                <a:cubicBezTo>
                  <a:pt x="17815" y="10648"/>
                  <a:pt x="17799" y="10687"/>
                  <a:pt x="17810" y="10790"/>
                </a:cubicBezTo>
                <a:cubicBezTo>
                  <a:pt x="17814" y="10776"/>
                  <a:pt x="17939" y="10372"/>
                  <a:pt x="18008" y="10418"/>
                </a:cubicBezTo>
                <a:cubicBezTo>
                  <a:pt x="18122" y="10494"/>
                  <a:pt x="18100" y="10677"/>
                  <a:pt x="18107" y="10790"/>
                </a:cubicBezTo>
                <a:cubicBezTo>
                  <a:pt x="18116" y="10711"/>
                  <a:pt x="18178" y="10352"/>
                  <a:pt x="18306" y="10368"/>
                </a:cubicBezTo>
                <a:cubicBezTo>
                  <a:pt x="18484" y="10390"/>
                  <a:pt x="18460" y="10713"/>
                  <a:pt x="18405" y="107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62840" y="3616200"/>
            <a:ext cx="233280" cy="258840"/>
          </a:xfrm>
          <a:custGeom>
            <a:avLst/>
            <a:gdLst/>
            <a:ahLst/>
            <a:rect l="l" t="t" r="r" b="b"/>
            <a:pathLst>
              <a:path w="645" h="720">
                <a:moveTo>
                  <a:pt x="19844" y="10319"/>
                </a:moveTo>
                <a:cubicBezTo>
                  <a:pt x="19730" y="10455"/>
                  <a:pt x="19674" y="10548"/>
                  <a:pt x="19621" y="10716"/>
                </a:cubicBezTo>
                <a:cubicBezTo>
                  <a:pt x="19774" y="10750"/>
                  <a:pt x="20123" y="10645"/>
                  <a:pt x="19918" y="10393"/>
                </a:cubicBezTo>
                <a:cubicBezTo>
                  <a:pt x="19794" y="10352"/>
                  <a:pt x="19769" y="10328"/>
                  <a:pt x="19695" y="10368"/>
                </a:cubicBezTo>
              </a:path>
              <a:path w="645" h="720">
                <a:moveTo>
                  <a:pt x="20166" y="10046"/>
                </a:moveTo>
                <a:cubicBezTo>
                  <a:pt x="20147" y="10179"/>
                  <a:pt x="20308" y="10706"/>
                  <a:pt x="20265" y="10765"/>
                </a:cubicBezTo>
                <a:cubicBezTo>
                  <a:pt x="20232" y="10757"/>
                  <a:pt x="20199" y="10748"/>
                  <a:pt x="20166" y="107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7000" y="3911760"/>
            <a:ext cx="1973160" cy="285480"/>
          </a:xfrm>
          <a:custGeom>
            <a:avLst/>
            <a:gdLst/>
            <a:ahLst/>
            <a:rect l="l" t="t" r="r" b="b"/>
            <a:pathLst>
              <a:path w="5483" h="795">
                <a:moveTo>
                  <a:pt x="6573" y="10864"/>
                </a:moveTo>
                <a:cubicBezTo>
                  <a:pt x="6651" y="11098"/>
                  <a:pt x="6734" y="11351"/>
                  <a:pt x="6821" y="11584"/>
                </a:cubicBezTo>
                <a:cubicBezTo>
                  <a:pt x="6829" y="11592"/>
                  <a:pt x="6838" y="11601"/>
                  <a:pt x="6846" y="11609"/>
                </a:cubicBezTo>
              </a:path>
              <a:path w="5483" h="795">
                <a:moveTo>
                  <a:pt x="6846" y="11609"/>
                </a:moveTo>
                <a:lnTo>
                  <a:pt x="6846" y="11609"/>
                </a:lnTo>
              </a:path>
              <a:path w="5483" h="795">
                <a:moveTo>
                  <a:pt x="6970" y="11361"/>
                </a:moveTo>
                <a:cubicBezTo>
                  <a:pt x="7007" y="11507"/>
                  <a:pt x="6986" y="11690"/>
                  <a:pt x="7069" y="11584"/>
                </a:cubicBezTo>
              </a:path>
              <a:path w="5483" h="795">
                <a:moveTo>
                  <a:pt x="6896" y="11013"/>
                </a:moveTo>
                <a:cubicBezTo>
                  <a:pt x="6921" y="11021"/>
                  <a:pt x="6945" y="11030"/>
                  <a:pt x="6970" y="11038"/>
                </a:cubicBezTo>
              </a:path>
              <a:path w="5483" h="795">
                <a:moveTo>
                  <a:pt x="6970" y="11038"/>
                </a:moveTo>
                <a:lnTo>
                  <a:pt x="6970" y="11038"/>
                </a:lnTo>
              </a:path>
              <a:path w="5483" h="795">
                <a:moveTo>
                  <a:pt x="7640" y="11063"/>
                </a:moveTo>
                <a:lnTo>
                  <a:pt x="7640" y="11063"/>
                </a:lnTo>
                <a:lnTo>
                  <a:pt x="7640" y="11063"/>
                </a:lnTo>
              </a:path>
              <a:path w="5483" h="795">
                <a:moveTo>
                  <a:pt x="7640" y="11063"/>
                </a:moveTo>
                <a:lnTo>
                  <a:pt x="7640" y="11063"/>
                </a:lnTo>
              </a:path>
              <a:path w="5483" h="795">
                <a:moveTo>
                  <a:pt x="7938" y="11187"/>
                </a:moveTo>
                <a:cubicBezTo>
                  <a:pt x="8118" y="11135"/>
                  <a:pt x="8182" y="11118"/>
                  <a:pt x="8310" y="11112"/>
                </a:cubicBezTo>
              </a:path>
              <a:path w="5483" h="795">
                <a:moveTo>
                  <a:pt x="9054" y="11112"/>
                </a:moveTo>
                <a:lnTo>
                  <a:pt x="9054" y="11112"/>
                </a:lnTo>
                <a:lnTo>
                  <a:pt x="9054" y="11112"/>
                </a:lnTo>
              </a:path>
              <a:path w="5483" h="795">
                <a:moveTo>
                  <a:pt x="9054" y="11112"/>
                </a:moveTo>
                <a:lnTo>
                  <a:pt x="9054" y="11112"/>
                </a:lnTo>
              </a:path>
              <a:path w="5483" h="795">
                <a:moveTo>
                  <a:pt x="10567" y="10914"/>
                </a:moveTo>
                <a:cubicBezTo>
                  <a:pt x="10608" y="11120"/>
                  <a:pt x="10645" y="11314"/>
                  <a:pt x="10716" y="11509"/>
                </a:cubicBezTo>
              </a:path>
              <a:path w="5483" h="795">
                <a:moveTo>
                  <a:pt x="10840" y="11187"/>
                </a:moveTo>
                <a:cubicBezTo>
                  <a:pt x="10856" y="11295"/>
                  <a:pt x="10839" y="11363"/>
                  <a:pt x="10889" y="11460"/>
                </a:cubicBezTo>
              </a:path>
              <a:path w="5483" h="795">
                <a:moveTo>
                  <a:pt x="10840" y="11013"/>
                </a:moveTo>
                <a:lnTo>
                  <a:pt x="10840" y="11013"/>
                </a:lnTo>
                <a:lnTo>
                  <a:pt x="10840" y="11013"/>
                </a:lnTo>
              </a:path>
              <a:path w="5483" h="795">
                <a:moveTo>
                  <a:pt x="10840" y="11013"/>
                </a:moveTo>
                <a:lnTo>
                  <a:pt x="10840" y="11013"/>
                </a:lnTo>
              </a:path>
              <a:path w="5483" h="795">
                <a:moveTo>
                  <a:pt x="11435" y="11286"/>
                </a:moveTo>
                <a:cubicBezTo>
                  <a:pt x="11452" y="11394"/>
                  <a:pt x="11435" y="11462"/>
                  <a:pt x="11485" y="11559"/>
                </a:cubicBezTo>
              </a:path>
              <a:path w="5483" h="795">
                <a:moveTo>
                  <a:pt x="11410" y="11038"/>
                </a:moveTo>
                <a:lnTo>
                  <a:pt x="11410" y="11038"/>
                </a:lnTo>
                <a:lnTo>
                  <a:pt x="11410" y="11038"/>
                </a:lnTo>
              </a:path>
              <a:path w="5483" h="795">
                <a:moveTo>
                  <a:pt x="11410" y="11038"/>
                </a:moveTo>
                <a:lnTo>
                  <a:pt x="11410" y="11038"/>
                </a:lnTo>
              </a:path>
              <a:path w="5483" h="795">
                <a:moveTo>
                  <a:pt x="12005" y="11509"/>
                </a:moveTo>
                <a:cubicBezTo>
                  <a:pt x="12024" y="11584"/>
                  <a:pt x="12006" y="11617"/>
                  <a:pt x="12055" y="11609"/>
                </a:cubicBezTo>
              </a:path>
              <a:path w="5483" h="795">
                <a:moveTo>
                  <a:pt x="12055" y="11609"/>
                </a:moveTo>
                <a:lnTo>
                  <a:pt x="12055" y="11609"/>
                </a:lnTo>
              </a:path>
              <a:path w="5483" h="795">
                <a:moveTo>
                  <a:pt x="11956" y="11038"/>
                </a:moveTo>
                <a:lnTo>
                  <a:pt x="11956" y="1103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87680" y="3956040"/>
            <a:ext cx="401400" cy="250920"/>
          </a:xfrm>
          <a:custGeom>
            <a:avLst/>
            <a:gdLst/>
            <a:ahLst/>
            <a:rect l="l" t="t" r="r" b="b"/>
            <a:pathLst>
              <a:path w="1117" h="696">
                <a:moveTo>
                  <a:pt x="5011" y="10988"/>
                </a:moveTo>
                <a:cubicBezTo>
                  <a:pt x="5022" y="11188"/>
                  <a:pt x="5126" y="11493"/>
                  <a:pt x="5085" y="11683"/>
                </a:cubicBezTo>
                <a:cubicBezTo>
                  <a:pt x="5068" y="11683"/>
                  <a:pt x="5052" y="11683"/>
                  <a:pt x="5035" y="11683"/>
                </a:cubicBezTo>
              </a:path>
              <a:path w="1117" h="696">
                <a:moveTo>
                  <a:pt x="4688" y="11485"/>
                </a:moveTo>
                <a:cubicBezTo>
                  <a:pt x="4999" y="11484"/>
                  <a:pt x="5161" y="11410"/>
                  <a:pt x="5259" y="11088"/>
                </a:cubicBezTo>
                <a:cubicBezTo>
                  <a:pt x="5259" y="11063"/>
                  <a:pt x="5259" y="11038"/>
                  <a:pt x="5259" y="11013"/>
                </a:cubicBezTo>
                <a:cubicBezTo>
                  <a:pt x="5237" y="11227"/>
                  <a:pt x="5240" y="11419"/>
                  <a:pt x="5259" y="11633"/>
                </a:cubicBezTo>
                <a:cubicBezTo>
                  <a:pt x="5338" y="11634"/>
                  <a:pt x="5255" y="11343"/>
                  <a:pt x="5308" y="11237"/>
                </a:cubicBezTo>
                <a:cubicBezTo>
                  <a:pt x="5386" y="11081"/>
                  <a:pt x="5502" y="11668"/>
                  <a:pt x="5655" y="11584"/>
                </a:cubicBezTo>
                <a:cubicBezTo>
                  <a:pt x="5768" y="11522"/>
                  <a:pt x="5772" y="11334"/>
                  <a:pt x="5804" y="11237"/>
                </a:cubicBezTo>
                <a:cubicBezTo>
                  <a:pt x="5745" y="11379"/>
                  <a:pt x="5682" y="11447"/>
                  <a:pt x="5755" y="115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68360" y="4017960"/>
            <a:ext cx="142920" cy="214200"/>
          </a:xfrm>
          <a:custGeom>
            <a:avLst/>
            <a:gdLst/>
            <a:ahLst/>
            <a:rect l="l" t="t" r="r" b="b"/>
            <a:pathLst>
              <a:path w="398" h="596">
                <a:moveTo>
                  <a:pt x="6648" y="11212"/>
                </a:moveTo>
                <a:cubicBezTo>
                  <a:pt x="6648" y="11244"/>
                  <a:pt x="6559" y="11095"/>
                  <a:pt x="6449" y="11187"/>
                </a:cubicBezTo>
                <a:cubicBezTo>
                  <a:pt x="6221" y="11379"/>
                  <a:pt x="6317" y="11548"/>
                  <a:pt x="6400" y="11757"/>
                </a:cubicBezTo>
                <a:cubicBezTo>
                  <a:pt x="6732" y="11591"/>
                  <a:pt x="6651" y="11549"/>
                  <a:pt x="6697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89120" y="3902040"/>
            <a:ext cx="536760" cy="447840"/>
          </a:xfrm>
          <a:custGeom>
            <a:avLst/>
            <a:gdLst/>
            <a:ahLst/>
            <a:rect l="l" t="t" r="r" b="b"/>
            <a:pathLst>
              <a:path w="1490" h="1241">
                <a:moveTo>
                  <a:pt x="7367" y="11162"/>
                </a:moveTo>
                <a:cubicBezTo>
                  <a:pt x="7310" y="11202"/>
                  <a:pt x="7026" y="11569"/>
                  <a:pt x="7268" y="11633"/>
                </a:cubicBezTo>
                <a:cubicBezTo>
                  <a:pt x="7507" y="11696"/>
                  <a:pt x="7479" y="11350"/>
                  <a:pt x="7491" y="11237"/>
                </a:cubicBezTo>
                <a:cubicBezTo>
                  <a:pt x="7483" y="11229"/>
                  <a:pt x="7474" y="11220"/>
                  <a:pt x="7466" y="11212"/>
                </a:cubicBezTo>
                <a:cubicBezTo>
                  <a:pt x="7543" y="11456"/>
                  <a:pt x="7678" y="11727"/>
                  <a:pt x="7565" y="11981"/>
                </a:cubicBezTo>
                <a:cubicBezTo>
                  <a:pt x="7436" y="12273"/>
                  <a:pt x="7278" y="11941"/>
                  <a:pt x="7218" y="11857"/>
                </a:cubicBezTo>
              </a:path>
              <a:path w="1490" h="1241">
                <a:moveTo>
                  <a:pt x="7714" y="11336"/>
                </a:moveTo>
                <a:cubicBezTo>
                  <a:pt x="7736" y="11435"/>
                  <a:pt x="7764" y="11584"/>
                  <a:pt x="7764" y="11584"/>
                </a:cubicBezTo>
              </a:path>
              <a:path w="1490" h="1241">
                <a:moveTo>
                  <a:pt x="7913" y="10840"/>
                </a:moveTo>
                <a:cubicBezTo>
                  <a:pt x="7967" y="11071"/>
                  <a:pt x="8004" y="11306"/>
                  <a:pt x="8062" y="11534"/>
                </a:cubicBezTo>
                <a:cubicBezTo>
                  <a:pt x="8242" y="11498"/>
                  <a:pt x="8258" y="11425"/>
                  <a:pt x="8310" y="11261"/>
                </a:cubicBezTo>
              </a:path>
              <a:path w="1490" h="1241">
                <a:moveTo>
                  <a:pt x="8483" y="11112"/>
                </a:moveTo>
                <a:cubicBezTo>
                  <a:pt x="8367" y="11277"/>
                  <a:pt x="8689" y="11115"/>
                  <a:pt x="8682" y="11385"/>
                </a:cubicBezTo>
                <a:cubicBezTo>
                  <a:pt x="8676" y="11617"/>
                  <a:pt x="8426" y="11485"/>
                  <a:pt x="8334" y="114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86080" y="4044960"/>
            <a:ext cx="214200" cy="179280"/>
          </a:xfrm>
          <a:custGeom>
            <a:avLst/>
            <a:gdLst/>
            <a:ahLst/>
            <a:rect l="l" t="t" r="r" b="b"/>
            <a:pathLst>
              <a:path w="596" h="497">
                <a:moveTo>
                  <a:pt x="9128" y="11311"/>
                </a:moveTo>
                <a:cubicBezTo>
                  <a:pt x="9158" y="11462"/>
                  <a:pt x="9227" y="11708"/>
                  <a:pt x="9227" y="11708"/>
                </a:cubicBezTo>
              </a:path>
              <a:path w="596" h="497">
                <a:moveTo>
                  <a:pt x="9451" y="11237"/>
                </a:moveTo>
                <a:cubicBezTo>
                  <a:pt x="9418" y="11253"/>
                  <a:pt x="9384" y="11270"/>
                  <a:pt x="9351" y="11286"/>
                </a:cubicBezTo>
                <a:cubicBezTo>
                  <a:pt x="9465" y="11381"/>
                  <a:pt x="9611" y="11389"/>
                  <a:pt x="9723" y="11509"/>
                </a:cubicBezTo>
                <a:cubicBezTo>
                  <a:pt x="9604" y="11619"/>
                  <a:pt x="9608" y="11606"/>
                  <a:pt x="9451" y="115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14840" y="4000680"/>
            <a:ext cx="322200" cy="179280"/>
          </a:xfrm>
          <a:custGeom>
            <a:avLst/>
            <a:gdLst/>
            <a:ahLst/>
            <a:rect l="l" t="t" r="r" b="b"/>
            <a:pathLst>
              <a:path w="894" h="498">
                <a:moveTo>
                  <a:pt x="10666" y="11212"/>
                </a:moveTo>
                <a:cubicBezTo>
                  <a:pt x="10640" y="11107"/>
                  <a:pt x="10510" y="11074"/>
                  <a:pt x="10418" y="11162"/>
                </a:cubicBezTo>
                <a:cubicBezTo>
                  <a:pt x="10195" y="11375"/>
                  <a:pt x="10474" y="11799"/>
                  <a:pt x="10691" y="11534"/>
                </a:cubicBezTo>
                <a:cubicBezTo>
                  <a:pt x="10724" y="11443"/>
                  <a:pt x="10757" y="11352"/>
                  <a:pt x="10790" y="11261"/>
                </a:cubicBezTo>
              </a:path>
              <a:path w="894" h="498">
                <a:moveTo>
                  <a:pt x="11038" y="11212"/>
                </a:moveTo>
                <a:cubicBezTo>
                  <a:pt x="11080" y="11343"/>
                  <a:pt x="11132" y="11457"/>
                  <a:pt x="11187" y="11584"/>
                </a:cubicBezTo>
                <a:cubicBezTo>
                  <a:pt x="11247" y="11524"/>
                  <a:pt x="11212" y="11295"/>
                  <a:pt x="11212" y="11187"/>
                </a:cubicBezTo>
                <a:cubicBezTo>
                  <a:pt x="11212" y="11179"/>
                  <a:pt x="11212" y="11170"/>
                  <a:pt x="11212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79960" y="3956040"/>
            <a:ext cx="517320" cy="241200"/>
          </a:xfrm>
          <a:custGeom>
            <a:avLst/>
            <a:gdLst/>
            <a:ahLst/>
            <a:rect l="l" t="t" r="r" b="b"/>
            <a:pathLst>
              <a:path w="1439" h="671">
                <a:moveTo>
                  <a:pt x="11658" y="11162"/>
                </a:moveTo>
                <a:cubicBezTo>
                  <a:pt x="11658" y="11346"/>
                  <a:pt x="11792" y="11309"/>
                  <a:pt x="11906" y="11435"/>
                </a:cubicBezTo>
                <a:cubicBezTo>
                  <a:pt x="12066" y="11612"/>
                  <a:pt x="11661" y="11574"/>
                  <a:pt x="11609" y="11559"/>
                </a:cubicBezTo>
              </a:path>
              <a:path w="1439" h="671">
                <a:moveTo>
                  <a:pt x="12129" y="10988"/>
                </a:moveTo>
                <a:cubicBezTo>
                  <a:pt x="12206" y="11190"/>
                  <a:pt x="12254" y="11393"/>
                  <a:pt x="12278" y="11609"/>
                </a:cubicBezTo>
                <a:cubicBezTo>
                  <a:pt x="12335" y="11515"/>
                  <a:pt x="12306" y="11326"/>
                  <a:pt x="12427" y="11261"/>
                </a:cubicBezTo>
                <a:cubicBezTo>
                  <a:pt x="12636" y="11149"/>
                  <a:pt x="12607" y="11557"/>
                  <a:pt x="12576" y="11633"/>
                </a:cubicBezTo>
                <a:cubicBezTo>
                  <a:pt x="12333" y="11597"/>
                  <a:pt x="12377" y="11621"/>
                  <a:pt x="12328" y="11385"/>
                </a:cubicBezTo>
              </a:path>
              <a:path w="1439" h="671">
                <a:moveTo>
                  <a:pt x="12675" y="11038"/>
                </a:moveTo>
                <a:cubicBezTo>
                  <a:pt x="12714" y="11235"/>
                  <a:pt x="12720" y="11481"/>
                  <a:pt x="12799" y="11658"/>
                </a:cubicBezTo>
              </a:path>
              <a:path w="1439" h="671">
                <a:moveTo>
                  <a:pt x="12849" y="11385"/>
                </a:moveTo>
                <a:cubicBezTo>
                  <a:pt x="12943" y="11341"/>
                  <a:pt x="13032" y="11339"/>
                  <a:pt x="13047" y="11237"/>
                </a:cubicBezTo>
                <a:cubicBezTo>
                  <a:pt x="12926" y="11273"/>
                  <a:pt x="12752" y="11433"/>
                  <a:pt x="12874" y="11584"/>
                </a:cubicBezTo>
                <a:cubicBezTo>
                  <a:pt x="12907" y="11592"/>
                  <a:pt x="12940" y="11601"/>
                  <a:pt x="12973" y="116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37120" y="3973680"/>
            <a:ext cx="276120" cy="376200"/>
          </a:xfrm>
          <a:custGeom>
            <a:avLst/>
            <a:gdLst/>
            <a:ahLst/>
            <a:rect l="l" t="t" r="r" b="b"/>
            <a:pathLst>
              <a:path w="770" h="1043">
                <a:moveTo>
                  <a:pt x="14015" y="11038"/>
                </a:moveTo>
                <a:cubicBezTo>
                  <a:pt x="14057" y="11220"/>
                  <a:pt x="14091" y="11399"/>
                  <a:pt x="14114" y="11584"/>
                </a:cubicBezTo>
                <a:cubicBezTo>
                  <a:pt x="14116" y="11556"/>
                  <a:pt x="14154" y="11140"/>
                  <a:pt x="14288" y="11286"/>
                </a:cubicBezTo>
                <a:cubicBezTo>
                  <a:pt x="14485" y="11500"/>
                  <a:pt x="14241" y="11608"/>
                  <a:pt x="14089" y="11609"/>
                </a:cubicBezTo>
                <a:cubicBezTo>
                  <a:pt x="13969" y="11549"/>
                  <a:pt x="13943" y="11509"/>
                  <a:pt x="14039" y="11385"/>
                </a:cubicBezTo>
              </a:path>
              <a:path w="770" h="1043">
                <a:moveTo>
                  <a:pt x="14387" y="11460"/>
                </a:moveTo>
                <a:cubicBezTo>
                  <a:pt x="14418" y="11572"/>
                  <a:pt x="14525" y="11890"/>
                  <a:pt x="14684" y="11633"/>
                </a:cubicBezTo>
                <a:cubicBezTo>
                  <a:pt x="14706" y="11526"/>
                  <a:pt x="14714" y="11502"/>
                  <a:pt x="14709" y="11435"/>
                </a:cubicBezTo>
                <a:cubicBezTo>
                  <a:pt x="14709" y="11606"/>
                  <a:pt x="14834" y="11852"/>
                  <a:pt x="14759" y="12005"/>
                </a:cubicBezTo>
                <a:cubicBezTo>
                  <a:pt x="14657" y="12214"/>
                  <a:pt x="14398" y="11982"/>
                  <a:pt x="14312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45080" y="3973680"/>
            <a:ext cx="135000" cy="250560"/>
          </a:xfrm>
          <a:custGeom>
            <a:avLst/>
            <a:gdLst/>
            <a:ahLst/>
            <a:rect l="l" t="t" r="r" b="b"/>
            <a:pathLst>
              <a:path w="373" h="696">
                <a:moveTo>
                  <a:pt x="15677" y="11212"/>
                </a:moveTo>
                <a:cubicBezTo>
                  <a:pt x="15726" y="11143"/>
                  <a:pt x="15656" y="11061"/>
                  <a:pt x="15577" y="11038"/>
                </a:cubicBezTo>
                <a:cubicBezTo>
                  <a:pt x="15427" y="10994"/>
                  <a:pt x="15307" y="11211"/>
                  <a:pt x="15478" y="11261"/>
                </a:cubicBezTo>
                <a:cubicBezTo>
                  <a:pt x="15614" y="11301"/>
                  <a:pt x="15644" y="11219"/>
                  <a:pt x="15726" y="11137"/>
                </a:cubicBezTo>
                <a:cubicBezTo>
                  <a:pt x="15739" y="11328"/>
                  <a:pt x="15753" y="11520"/>
                  <a:pt x="15776" y="11708"/>
                </a:cubicBezTo>
                <a:cubicBezTo>
                  <a:pt x="15776" y="11716"/>
                  <a:pt x="15776" y="11725"/>
                  <a:pt x="15776" y="117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97760" y="3946680"/>
            <a:ext cx="285480" cy="322200"/>
          </a:xfrm>
          <a:custGeom>
            <a:avLst/>
            <a:gdLst/>
            <a:ahLst/>
            <a:rect l="l" t="t" r="r" b="b"/>
            <a:pathLst>
              <a:path w="795" h="894">
                <a:moveTo>
                  <a:pt x="17338" y="11137"/>
                </a:moveTo>
                <a:cubicBezTo>
                  <a:pt x="17348" y="11106"/>
                  <a:pt x="17379" y="11104"/>
                  <a:pt x="17388" y="11063"/>
                </a:cubicBezTo>
                <a:cubicBezTo>
                  <a:pt x="17388" y="11046"/>
                  <a:pt x="17388" y="11030"/>
                  <a:pt x="17388" y="11013"/>
                </a:cubicBezTo>
                <a:cubicBezTo>
                  <a:pt x="17292" y="11243"/>
                  <a:pt x="17133" y="11470"/>
                  <a:pt x="17264" y="11733"/>
                </a:cubicBezTo>
                <a:cubicBezTo>
                  <a:pt x="17292" y="11790"/>
                  <a:pt x="17477" y="11832"/>
                  <a:pt x="17438" y="11832"/>
                </a:cubicBezTo>
              </a:path>
              <a:path w="795" h="894">
                <a:moveTo>
                  <a:pt x="17735" y="11212"/>
                </a:moveTo>
                <a:cubicBezTo>
                  <a:pt x="17735" y="11144"/>
                  <a:pt x="17718" y="11081"/>
                  <a:pt x="17636" y="11088"/>
                </a:cubicBezTo>
                <a:cubicBezTo>
                  <a:pt x="17509" y="11098"/>
                  <a:pt x="17382" y="11339"/>
                  <a:pt x="17562" y="11361"/>
                </a:cubicBezTo>
                <a:cubicBezTo>
                  <a:pt x="17640" y="11335"/>
                  <a:pt x="17667" y="11323"/>
                  <a:pt x="17686" y="11261"/>
                </a:cubicBezTo>
                <a:cubicBezTo>
                  <a:pt x="17694" y="11253"/>
                  <a:pt x="17703" y="11245"/>
                  <a:pt x="17711" y="11237"/>
                </a:cubicBezTo>
                <a:cubicBezTo>
                  <a:pt x="17728" y="11380"/>
                  <a:pt x="17735" y="11514"/>
                  <a:pt x="17735" y="11658"/>
                </a:cubicBezTo>
              </a:path>
              <a:path w="795" h="894">
                <a:moveTo>
                  <a:pt x="17785" y="10964"/>
                </a:moveTo>
                <a:cubicBezTo>
                  <a:pt x="17936" y="11024"/>
                  <a:pt x="17998" y="11171"/>
                  <a:pt x="18008" y="11336"/>
                </a:cubicBezTo>
                <a:cubicBezTo>
                  <a:pt x="18021" y="11551"/>
                  <a:pt x="17917" y="11653"/>
                  <a:pt x="17884" y="11832"/>
                </a:cubicBezTo>
                <a:cubicBezTo>
                  <a:pt x="17884" y="11840"/>
                  <a:pt x="17884" y="11849"/>
                  <a:pt x="17884" y="11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18080" y="4687920"/>
            <a:ext cx="2152800" cy="295200"/>
          </a:xfrm>
          <a:custGeom>
            <a:avLst/>
            <a:gdLst/>
            <a:ahLst/>
            <a:rect l="l" t="t" r="r" b="b"/>
            <a:pathLst>
              <a:path w="5979" h="820">
                <a:moveTo>
                  <a:pt x="15329" y="13072"/>
                </a:moveTo>
                <a:cubicBezTo>
                  <a:pt x="15337" y="13072"/>
                  <a:pt x="15346" y="13072"/>
                  <a:pt x="15354" y="13072"/>
                </a:cubicBezTo>
              </a:path>
              <a:path w="5979" h="820">
                <a:moveTo>
                  <a:pt x="15354" y="13072"/>
                </a:moveTo>
                <a:lnTo>
                  <a:pt x="15354" y="13072"/>
                </a:lnTo>
              </a:path>
              <a:path w="5979" h="820">
                <a:moveTo>
                  <a:pt x="16818" y="13072"/>
                </a:moveTo>
                <a:cubicBezTo>
                  <a:pt x="16826" y="13072"/>
                  <a:pt x="16834" y="13072"/>
                  <a:pt x="16842" y="13072"/>
                </a:cubicBezTo>
              </a:path>
              <a:path w="5979" h="820">
                <a:moveTo>
                  <a:pt x="16842" y="13072"/>
                </a:moveTo>
                <a:lnTo>
                  <a:pt x="16842" y="13072"/>
                </a:lnTo>
              </a:path>
              <a:path w="5979" h="820">
                <a:moveTo>
                  <a:pt x="18728" y="13618"/>
                </a:moveTo>
                <a:cubicBezTo>
                  <a:pt x="18652" y="13455"/>
                  <a:pt x="18500" y="13305"/>
                  <a:pt x="18355" y="13543"/>
                </a:cubicBezTo>
                <a:cubicBezTo>
                  <a:pt x="18118" y="13933"/>
                  <a:pt x="18499" y="13806"/>
                  <a:pt x="18678" y="13717"/>
                </a:cubicBezTo>
              </a:path>
              <a:path w="5979" h="820">
                <a:moveTo>
                  <a:pt x="18628" y="13047"/>
                </a:moveTo>
                <a:cubicBezTo>
                  <a:pt x="18673" y="13269"/>
                  <a:pt x="18729" y="13488"/>
                  <a:pt x="18752" y="13717"/>
                </a:cubicBezTo>
                <a:cubicBezTo>
                  <a:pt x="18752" y="13742"/>
                  <a:pt x="18752" y="13766"/>
                  <a:pt x="18752" y="13791"/>
                </a:cubicBezTo>
              </a:path>
              <a:path w="5979" h="820">
                <a:moveTo>
                  <a:pt x="18951" y="13146"/>
                </a:moveTo>
                <a:lnTo>
                  <a:pt x="18951" y="13146"/>
                </a:lnTo>
                <a:lnTo>
                  <a:pt x="18951" y="13146"/>
                </a:lnTo>
              </a:path>
              <a:path w="5979" h="820">
                <a:moveTo>
                  <a:pt x="18951" y="13146"/>
                </a:moveTo>
                <a:lnTo>
                  <a:pt x="18951" y="13146"/>
                </a:lnTo>
              </a:path>
              <a:path w="5979" h="820">
                <a:moveTo>
                  <a:pt x="19695" y="13494"/>
                </a:moveTo>
                <a:cubicBezTo>
                  <a:pt x="19713" y="13602"/>
                  <a:pt x="19763" y="13651"/>
                  <a:pt x="19695" y="13643"/>
                </a:cubicBezTo>
              </a:path>
              <a:path w="5979" h="820">
                <a:moveTo>
                  <a:pt x="19745" y="13072"/>
                </a:moveTo>
                <a:lnTo>
                  <a:pt x="19745" y="13072"/>
                </a:lnTo>
                <a:lnTo>
                  <a:pt x="19745" y="13072"/>
                </a:lnTo>
              </a:path>
              <a:path w="5979" h="820">
                <a:moveTo>
                  <a:pt x="19745" y="13072"/>
                </a:moveTo>
                <a:lnTo>
                  <a:pt x="19745" y="13072"/>
                </a:lnTo>
              </a:path>
              <a:path w="5979" h="820">
                <a:moveTo>
                  <a:pt x="20315" y="13022"/>
                </a:moveTo>
                <a:cubicBezTo>
                  <a:pt x="20323" y="13022"/>
                  <a:pt x="20332" y="13022"/>
                  <a:pt x="20340" y="13022"/>
                </a:cubicBezTo>
              </a:path>
              <a:path w="5979" h="820">
                <a:moveTo>
                  <a:pt x="20340" y="13022"/>
                </a:moveTo>
                <a:lnTo>
                  <a:pt x="20340" y="13022"/>
                </a:lnTo>
              </a:path>
              <a:path w="5979" h="820">
                <a:moveTo>
                  <a:pt x="21183" y="13072"/>
                </a:moveTo>
                <a:cubicBezTo>
                  <a:pt x="21219" y="13254"/>
                  <a:pt x="21245" y="13420"/>
                  <a:pt x="21307" y="13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45080" y="4680000"/>
            <a:ext cx="250920" cy="303120"/>
          </a:xfrm>
          <a:custGeom>
            <a:avLst/>
            <a:gdLst/>
            <a:ahLst/>
            <a:rect l="l" t="t" r="r" b="b"/>
            <a:pathLst>
              <a:path w="695" h="844">
                <a:moveTo>
                  <a:pt x="15453" y="13395"/>
                </a:moveTo>
                <a:cubicBezTo>
                  <a:pt x="15397" y="13414"/>
                  <a:pt x="15429" y="13616"/>
                  <a:pt x="15429" y="13667"/>
                </a:cubicBezTo>
                <a:cubicBezTo>
                  <a:pt x="15429" y="13725"/>
                  <a:pt x="15429" y="13783"/>
                  <a:pt x="15429" y="13841"/>
                </a:cubicBezTo>
                <a:cubicBezTo>
                  <a:pt x="15392" y="13695"/>
                  <a:pt x="15384" y="13613"/>
                  <a:pt x="15404" y="13494"/>
                </a:cubicBezTo>
              </a:path>
              <a:path w="695" h="844">
                <a:moveTo>
                  <a:pt x="15751" y="12998"/>
                </a:moveTo>
                <a:cubicBezTo>
                  <a:pt x="15758" y="13247"/>
                  <a:pt x="15776" y="13493"/>
                  <a:pt x="15776" y="13742"/>
                </a:cubicBezTo>
              </a:path>
              <a:path w="695" h="844">
                <a:moveTo>
                  <a:pt x="15553" y="13395"/>
                </a:moveTo>
                <a:cubicBezTo>
                  <a:pt x="15741" y="13368"/>
                  <a:pt x="15925" y="13360"/>
                  <a:pt x="16098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54840" y="4741920"/>
            <a:ext cx="214200" cy="187200"/>
          </a:xfrm>
          <a:custGeom>
            <a:avLst/>
            <a:gdLst/>
            <a:ahLst/>
            <a:rect l="l" t="t" r="r" b="b"/>
            <a:pathLst>
              <a:path w="596" h="522">
                <a:moveTo>
                  <a:pt x="16818" y="13295"/>
                </a:moveTo>
                <a:cubicBezTo>
                  <a:pt x="16818" y="13428"/>
                  <a:pt x="16807" y="13820"/>
                  <a:pt x="16842" y="13692"/>
                </a:cubicBezTo>
                <a:cubicBezTo>
                  <a:pt x="16850" y="13642"/>
                  <a:pt x="16859" y="13593"/>
                  <a:pt x="16867" y="13543"/>
                </a:cubicBezTo>
              </a:path>
              <a:path w="596" h="522">
                <a:moveTo>
                  <a:pt x="17165" y="13171"/>
                </a:moveTo>
                <a:cubicBezTo>
                  <a:pt x="17079" y="13286"/>
                  <a:pt x="17306" y="13362"/>
                  <a:pt x="17363" y="13419"/>
                </a:cubicBezTo>
                <a:cubicBezTo>
                  <a:pt x="17533" y="13589"/>
                  <a:pt x="17186" y="13550"/>
                  <a:pt x="17115" y="135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13720" y="4759200"/>
            <a:ext cx="204480" cy="179640"/>
          </a:xfrm>
          <a:custGeom>
            <a:avLst/>
            <a:gdLst/>
            <a:ahLst/>
            <a:rect l="l" t="t" r="r" b="b"/>
            <a:pathLst>
              <a:path w="571" h="497">
                <a:moveTo>
                  <a:pt x="18926" y="13444"/>
                </a:moveTo>
                <a:cubicBezTo>
                  <a:pt x="18937" y="13535"/>
                  <a:pt x="18951" y="13759"/>
                  <a:pt x="18951" y="13667"/>
                </a:cubicBezTo>
              </a:path>
              <a:path w="571" h="497">
                <a:moveTo>
                  <a:pt x="19174" y="13271"/>
                </a:moveTo>
                <a:cubicBezTo>
                  <a:pt x="19255" y="13422"/>
                  <a:pt x="19321" y="13554"/>
                  <a:pt x="19372" y="13717"/>
                </a:cubicBezTo>
                <a:cubicBezTo>
                  <a:pt x="19441" y="13562"/>
                  <a:pt x="19479" y="13413"/>
                  <a:pt x="19496" y="13246"/>
                </a:cubicBezTo>
                <a:cubicBezTo>
                  <a:pt x="19496" y="13238"/>
                  <a:pt x="19496" y="13229"/>
                  <a:pt x="19496" y="132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34120" y="4653000"/>
            <a:ext cx="447840" cy="285840"/>
          </a:xfrm>
          <a:custGeom>
            <a:avLst/>
            <a:gdLst/>
            <a:ahLst/>
            <a:rect l="l" t="t" r="r" b="b"/>
            <a:pathLst>
              <a:path w="1241" h="795">
                <a:moveTo>
                  <a:pt x="20141" y="13196"/>
                </a:moveTo>
                <a:cubicBezTo>
                  <a:pt x="20091" y="13119"/>
                  <a:pt x="19927" y="13239"/>
                  <a:pt x="19869" y="13295"/>
                </a:cubicBezTo>
                <a:cubicBezTo>
                  <a:pt x="19852" y="13320"/>
                  <a:pt x="19836" y="13345"/>
                  <a:pt x="19819" y="13370"/>
                </a:cubicBezTo>
                <a:cubicBezTo>
                  <a:pt x="19938" y="13375"/>
                  <a:pt x="20357" y="13360"/>
                  <a:pt x="20166" y="13593"/>
                </a:cubicBezTo>
                <a:cubicBezTo>
                  <a:pt x="20035" y="13753"/>
                  <a:pt x="19951" y="13658"/>
                  <a:pt x="19869" y="13568"/>
                </a:cubicBezTo>
              </a:path>
              <a:path w="1241" h="795">
                <a:moveTo>
                  <a:pt x="20389" y="13246"/>
                </a:moveTo>
                <a:cubicBezTo>
                  <a:pt x="20400" y="13288"/>
                  <a:pt x="20464" y="13736"/>
                  <a:pt x="20464" y="13543"/>
                </a:cubicBezTo>
              </a:path>
              <a:path w="1241" h="795">
                <a:moveTo>
                  <a:pt x="20588" y="12923"/>
                </a:moveTo>
                <a:cubicBezTo>
                  <a:pt x="20633" y="13157"/>
                  <a:pt x="20673" y="13389"/>
                  <a:pt x="20737" y="13618"/>
                </a:cubicBezTo>
                <a:cubicBezTo>
                  <a:pt x="20758" y="13495"/>
                  <a:pt x="20817" y="13395"/>
                  <a:pt x="20886" y="13295"/>
                </a:cubicBezTo>
                <a:cubicBezTo>
                  <a:pt x="20965" y="13374"/>
                  <a:pt x="21223" y="13766"/>
                  <a:pt x="20886" y="13717"/>
                </a:cubicBezTo>
                <a:cubicBezTo>
                  <a:pt x="20704" y="13627"/>
                  <a:pt x="20647" y="13565"/>
                  <a:pt x="20687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724880" y="4741920"/>
            <a:ext cx="160200" cy="133200"/>
          </a:xfrm>
          <a:custGeom>
            <a:avLst/>
            <a:gdLst/>
            <a:ahLst/>
            <a:rect l="l" t="t" r="r" b="b"/>
            <a:pathLst>
              <a:path w="448" h="373">
                <a:moveTo>
                  <a:pt x="21456" y="13295"/>
                </a:moveTo>
                <a:cubicBezTo>
                  <a:pt x="21510" y="13281"/>
                  <a:pt x="21692" y="13255"/>
                  <a:pt x="21704" y="13221"/>
                </a:cubicBezTo>
                <a:cubicBezTo>
                  <a:pt x="21704" y="13196"/>
                  <a:pt x="21704" y="13188"/>
                  <a:pt x="21704" y="13171"/>
                </a:cubicBezTo>
                <a:cubicBezTo>
                  <a:pt x="21605" y="13204"/>
                  <a:pt x="21334" y="13419"/>
                  <a:pt x="21555" y="13543"/>
                </a:cubicBezTo>
                <a:cubicBezTo>
                  <a:pt x="21716" y="13543"/>
                  <a:pt x="21793" y="13531"/>
                  <a:pt x="21903" y="13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89160" y="4919760"/>
            <a:ext cx="527040" cy="590400"/>
          </a:xfrm>
          <a:custGeom>
            <a:avLst/>
            <a:gdLst/>
            <a:ahLst/>
            <a:rect l="l" t="t" r="r" b="b"/>
            <a:pathLst>
              <a:path w="1465" h="1638">
                <a:moveTo>
                  <a:pt x="8582" y="14213"/>
                </a:moveTo>
                <a:cubicBezTo>
                  <a:pt x="8811" y="14205"/>
                  <a:pt x="8846" y="14226"/>
                  <a:pt x="9004" y="14089"/>
                </a:cubicBezTo>
              </a:path>
              <a:path w="1465" h="1638">
                <a:moveTo>
                  <a:pt x="8954" y="13965"/>
                </a:moveTo>
                <a:cubicBezTo>
                  <a:pt x="9005" y="14138"/>
                  <a:pt x="9043" y="14259"/>
                  <a:pt x="9054" y="14436"/>
                </a:cubicBezTo>
              </a:path>
              <a:path w="1465" h="1638">
                <a:moveTo>
                  <a:pt x="9426" y="13667"/>
                </a:moveTo>
                <a:cubicBezTo>
                  <a:pt x="9664" y="13786"/>
                  <a:pt x="10290" y="14043"/>
                  <a:pt x="9947" y="14412"/>
                </a:cubicBezTo>
                <a:cubicBezTo>
                  <a:pt x="9737" y="14505"/>
                  <a:pt x="9677" y="14540"/>
                  <a:pt x="9525" y="14486"/>
                </a:cubicBezTo>
              </a:path>
              <a:path w="1465" h="1638">
                <a:moveTo>
                  <a:pt x="8880" y="14759"/>
                </a:moveTo>
                <a:cubicBezTo>
                  <a:pt x="9172" y="14740"/>
                  <a:pt x="9506" y="14666"/>
                  <a:pt x="9723" y="14784"/>
                </a:cubicBezTo>
              </a:path>
              <a:path w="1465" h="1638">
                <a:moveTo>
                  <a:pt x="8731" y="15304"/>
                </a:moveTo>
                <a:cubicBezTo>
                  <a:pt x="9073" y="15252"/>
                  <a:pt x="9408" y="15189"/>
                  <a:pt x="9748" y="15131"/>
                </a:cubicBezTo>
              </a:path>
              <a:path w="1465" h="1638">
                <a:moveTo>
                  <a:pt x="9748" y="15131"/>
                </a:moveTo>
                <a:lnTo>
                  <a:pt x="9748" y="1513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58960" y="4938840"/>
            <a:ext cx="330120" cy="500040"/>
          </a:xfrm>
          <a:custGeom>
            <a:avLst/>
            <a:gdLst/>
            <a:ahLst/>
            <a:rect l="l" t="t" r="r" b="b"/>
            <a:pathLst>
              <a:path w="918" h="1390">
                <a:moveTo>
                  <a:pt x="5135" y="13891"/>
                </a:moveTo>
                <a:cubicBezTo>
                  <a:pt x="5120" y="13824"/>
                  <a:pt x="5127" y="13789"/>
                  <a:pt x="5135" y="13717"/>
                </a:cubicBezTo>
                <a:cubicBezTo>
                  <a:pt x="5124" y="13883"/>
                  <a:pt x="5104" y="14048"/>
                  <a:pt x="5085" y="14213"/>
                </a:cubicBezTo>
                <a:cubicBezTo>
                  <a:pt x="5085" y="14466"/>
                  <a:pt x="5115" y="14057"/>
                  <a:pt x="5184" y="13990"/>
                </a:cubicBezTo>
                <a:cubicBezTo>
                  <a:pt x="5322" y="13856"/>
                  <a:pt x="5463" y="14236"/>
                  <a:pt x="5308" y="14337"/>
                </a:cubicBezTo>
                <a:cubicBezTo>
                  <a:pt x="5064" y="14496"/>
                  <a:pt x="4841" y="14322"/>
                  <a:pt x="5035" y="14114"/>
                </a:cubicBezTo>
              </a:path>
              <a:path w="918" h="1390">
                <a:moveTo>
                  <a:pt x="5383" y="14139"/>
                </a:moveTo>
                <a:cubicBezTo>
                  <a:pt x="5438" y="14255"/>
                  <a:pt x="5512" y="14501"/>
                  <a:pt x="5680" y="14362"/>
                </a:cubicBezTo>
                <a:cubicBezTo>
                  <a:pt x="5767" y="14253"/>
                  <a:pt x="5796" y="14230"/>
                  <a:pt x="5804" y="14139"/>
                </a:cubicBezTo>
                <a:cubicBezTo>
                  <a:pt x="5785" y="14415"/>
                  <a:pt x="5809" y="14738"/>
                  <a:pt x="5655" y="14982"/>
                </a:cubicBezTo>
                <a:cubicBezTo>
                  <a:pt x="5490" y="15120"/>
                  <a:pt x="5420" y="15155"/>
                  <a:pt x="5259" y="150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54200" y="4991040"/>
            <a:ext cx="214560" cy="206280"/>
          </a:xfrm>
          <a:custGeom>
            <a:avLst/>
            <a:gdLst/>
            <a:ahLst/>
            <a:rect l="l" t="t" r="r" b="b"/>
            <a:pathLst>
              <a:path w="596" h="571">
                <a:moveTo>
                  <a:pt x="7293" y="13866"/>
                </a:moveTo>
                <a:cubicBezTo>
                  <a:pt x="7488" y="13898"/>
                  <a:pt x="7699" y="13969"/>
                  <a:pt x="7565" y="14213"/>
                </a:cubicBezTo>
                <a:cubicBezTo>
                  <a:pt x="7416" y="14363"/>
                  <a:pt x="7366" y="14412"/>
                  <a:pt x="7218" y="14436"/>
                </a:cubicBezTo>
                <a:cubicBezTo>
                  <a:pt x="7177" y="14420"/>
                  <a:pt x="7135" y="14403"/>
                  <a:pt x="7094" y="14387"/>
                </a:cubicBezTo>
                <a:cubicBezTo>
                  <a:pt x="7244" y="14138"/>
                  <a:pt x="7397" y="14147"/>
                  <a:pt x="7640" y="14362"/>
                </a:cubicBezTo>
                <a:cubicBezTo>
                  <a:pt x="7656" y="14387"/>
                  <a:pt x="7673" y="14411"/>
                  <a:pt x="7689" y="144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54240" y="4956120"/>
            <a:ext cx="473040" cy="455760"/>
          </a:xfrm>
          <a:custGeom>
            <a:avLst/>
            <a:gdLst/>
            <a:ahLst/>
            <a:rect l="l" t="t" r="r" b="b"/>
            <a:pathLst>
              <a:path w="1316" h="1266">
                <a:moveTo>
                  <a:pt x="8558" y="13891"/>
                </a:moveTo>
                <a:cubicBezTo>
                  <a:pt x="8519" y="14077"/>
                  <a:pt x="8492" y="14246"/>
                  <a:pt x="8483" y="14436"/>
                </a:cubicBezTo>
                <a:cubicBezTo>
                  <a:pt x="8505" y="14216"/>
                  <a:pt x="8554" y="14005"/>
                  <a:pt x="8607" y="13791"/>
                </a:cubicBezTo>
                <a:cubicBezTo>
                  <a:pt x="8810" y="13852"/>
                  <a:pt x="8894" y="14236"/>
                  <a:pt x="8930" y="14461"/>
                </a:cubicBezTo>
                <a:cubicBezTo>
                  <a:pt x="8930" y="14569"/>
                  <a:pt x="8930" y="14660"/>
                  <a:pt x="8930" y="14585"/>
                </a:cubicBezTo>
              </a:path>
              <a:path w="1316" h="1266">
                <a:moveTo>
                  <a:pt x="8954" y="13841"/>
                </a:moveTo>
                <a:cubicBezTo>
                  <a:pt x="9049" y="14037"/>
                  <a:pt x="9143" y="14225"/>
                  <a:pt x="9252" y="14412"/>
                </a:cubicBezTo>
                <a:cubicBezTo>
                  <a:pt x="9353" y="14210"/>
                  <a:pt x="9324" y="14056"/>
                  <a:pt x="9252" y="13841"/>
                </a:cubicBezTo>
              </a:path>
              <a:path w="1316" h="1266">
                <a:moveTo>
                  <a:pt x="9550" y="13965"/>
                </a:moveTo>
                <a:cubicBezTo>
                  <a:pt x="9554" y="14012"/>
                  <a:pt x="9580" y="14322"/>
                  <a:pt x="9599" y="14362"/>
                </a:cubicBezTo>
              </a:path>
              <a:path w="1316" h="1266">
                <a:moveTo>
                  <a:pt x="8582" y="15032"/>
                </a:moveTo>
                <a:cubicBezTo>
                  <a:pt x="8834" y="15010"/>
                  <a:pt x="10022" y="14770"/>
                  <a:pt x="9599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76760" y="4991040"/>
            <a:ext cx="196920" cy="196920"/>
          </a:xfrm>
          <a:custGeom>
            <a:avLst/>
            <a:gdLst/>
            <a:ahLst/>
            <a:rect l="l" t="t" r="r" b="b"/>
            <a:pathLst>
              <a:path w="547" h="547">
                <a:moveTo>
                  <a:pt x="10492" y="13915"/>
                </a:moveTo>
                <a:cubicBezTo>
                  <a:pt x="10597" y="13890"/>
                  <a:pt x="10719" y="13839"/>
                  <a:pt x="10840" y="13866"/>
                </a:cubicBezTo>
                <a:cubicBezTo>
                  <a:pt x="11071" y="13919"/>
                  <a:pt x="10739" y="14074"/>
                  <a:pt x="10716" y="14089"/>
                </a:cubicBezTo>
                <a:cubicBezTo>
                  <a:pt x="10683" y="14097"/>
                  <a:pt x="10649" y="14106"/>
                  <a:pt x="10616" y="14114"/>
                </a:cubicBezTo>
                <a:cubicBezTo>
                  <a:pt x="10846" y="14093"/>
                  <a:pt x="10895" y="14075"/>
                  <a:pt x="11038" y="14238"/>
                </a:cubicBezTo>
                <a:cubicBezTo>
                  <a:pt x="10971" y="14288"/>
                  <a:pt x="10568" y="14581"/>
                  <a:pt x="10492" y="14387"/>
                </a:cubicBezTo>
                <a:cubicBezTo>
                  <a:pt x="10500" y="14354"/>
                  <a:pt x="10509" y="14321"/>
                  <a:pt x="10517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848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jective:  Students will be able to use divisibility rules to quickly identify the factors of a given numb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9480" y="2438280"/>
          <a:ext cx="7391520" cy="3657600"/>
        </p:xfrm>
        <a:graphic>
          <a:graphicData uri="http://schemas.openxmlformats.org/drawingml/2006/table">
            <a:tbl>
              <a:tblPr/>
              <a:tblGrid>
                <a:gridCol w="1800360"/>
                <a:gridCol w="1326960"/>
                <a:gridCol w="757440"/>
                <a:gridCol w="758520"/>
                <a:gridCol w="757440"/>
                <a:gridCol w="663480"/>
                <a:gridCol w="663480"/>
                <a:gridCol w="6638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4+2=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5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9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1535040" y="4160880"/>
            <a:ext cx="179640" cy="54000"/>
          </a:xfrm>
          <a:custGeom>
            <a:avLst/>
            <a:gdLst/>
            <a:ahLst/>
            <a:rect l="l" t="t" r="r" b="b"/>
            <a:pathLst>
              <a:path w="497" h="150">
                <a:moveTo>
                  <a:pt x="4291" y="11584"/>
                </a:moveTo>
                <a:cubicBezTo>
                  <a:pt x="4377" y="11567"/>
                  <a:pt x="4445" y="11559"/>
                  <a:pt x="4539" y="11559"/>
                </a:cubicBezTo>
                <a:cubicBezTo>
                  <a:pt x="4606" y="11559"/>
                  <a:pt x="4709" y="11541"/>
                  <a:pt x="4738" y="11584"/>
                </a:cubicBezTo>
                <a:cubicBezTo>
                  <a:pt x="4639" y="11584"/>
                  <a:pt x="4586" y="11605"/>
                  <a:pt x="4490" y="11584"/>
                </a:cubicBezTo>
                <a:cubicBezTo>
                  <a:pt x="4440" y="11573"/>
                  <a:pt x="4289" y="11559"/>
                  <a:pt x="4341" y="11559"/>
                </a:cubicBezTo>
                <a:cubicBezTo>
                  <a:pt x="4408" y="11559"/>
                  <a:pt x="4523" y="11592"/>
                  <a:pt x="4589" y="11609"/>
                </a:cubicBezTo>
                <a:cubicBezTo>
                  <a:pt x="4745" y="11649"/>
                  <a:pt x="4416" y="11612"/>
                  <a:pt x="4390" y="11609"/>
                </a:cubicBezTo>
                <a:cubicBezTo>
                  <a:pt x="4344" y="11604"/>
                  <a:pt x="4283" y="11617"/>
                  <a:pt x="4316" y="11584"/>
                </a:cubicBezTo>
                <a:cubicBezTo>
                  <a:pt x="4420" y="11632"/>
                  <a:pt x="4518" y="11650"/>
                  <a:pt x="4638" y="11658"/>
                </a:cubicBezTo>
                <a:cubicBezTo>
                  <a:pt x="4730" y="11664"/>
                  <a:pt x="4507" y="11640"/>
                  <a:pt x="4415" y="11633"/>
                </a:cubicBezTo>
                <a:cubicBezTo>
                  <a:pt x="4366" y="11629"/>
                  <a:pt x="4218" y="11600"/>
                  <a:pt x="4316" y="11633"/>
                </a:cubicBezTo>
                <a:cubicBezTo>
                  <a:pt x="4333" y="11641"/>
                  <a:pt x="4349" y="11650"/>
                  <a:pt x="4366" y="11658"/>
                </a:cubicBezTo>
                <a:cubicBezTo>
                  <a:pt x="4426" y="11658"/>
                  <a:pt x="4692" y="11616"/>
                  <a:pt x="4713" y="11683"/>
                </a:cubicBezTo>
                <a:cubicBezTo>
                  <a:pt x="4715" y="11689"/>
                  <a:pt x="4368" y="11662"/>
                  <a:pt x="4341" y="11658"/>
                </a:cubicBezTo>
                <a:cubicBezTo>
                  <a:pt x="4245" y="11644"/>
                  <a:pt x="4272" y="11653"/>
                  <a:pt x="4341" y="11683"/>
                </a:cubicBezTo>
                <a:cubicBezTo>
                  <a:pt x="4414" y="11692"/>
                  <a:pt x="4639" y="11733"/>
                  <a:pt x="4688" y="11658"/>
                </a:cubicBezTo>
                <a:cubicBezTo>
                  <a:pt x="4734" y="11587"/>
                  <a:pt x="4525" y="11683"/>
                  <a:pt x="4440" y="11683"/>
                </a:cubicBezTo>
                <a:cubicBezTo>
                  <a:pt x="4373" y="11683"/>
                  <a:pt x="4524" y="11683"/>
                  <a:pt x="4539" y="11683"/>
                </a:cubicBezTo>
              </a:path>
              <a:path w="497" h="150">
                <a:moveTo>
                  <a:pt x="4366" y="11708"/>
                </a:moveTo>
                <a:cubicBezTo>
                  <a:pt x="4323" y="11643"/>
                  <a:pt x="4485" y="11659"/>
                  <a:pt x="4539" y="11658"/>
                </a:cubicBezTo>
                <a:cubicBezTo>
                  <a:pt x="4597" y="11657"/>
                  <a:pt x="4655" y="11658"/>
                  <a:pt x="4713" y="11658"/>
                </a:cubicBezTo>
              </a:path>
              <a:path w="497" h="150">
                <a:moveTo>
                  <a:pt x="4291" y="11683"/>
                </a:moveTo>
                <a:cubicBezTo>
                  <a:pt x="4181" y="11683"/>
                  <a:pt x="4457" y="11655"/>
                  <a:pt x="4564" y="11633"/>
                </a:cubicBezTo>
                <a:cubicBezTo>
                  <a:pt x="4685" y="11609"/>
                  <a:pt x="4681" y="11582"/>
                  <a:pt x="4663" y="11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33680" y="4768920"/>
            <a:ext cx="125280" cy="54000"/>
          </a:xfrm>
          <a:custGeom>
            <a:avLst/>
            <a:gdLst/>
            <a:ahLst/>
            <a:rect l="l" t="t" r="r" b="b"/>
            <a:pathLst>
              <a:path w="349" h="150">
                <a:moveTo>
                  <a:pt x="4663" y="13295"/>
                </a:moveTo>
                <a:cubicBezTo>
                  <a:pt x="4595" y="13295"/>
                  <a:pt x="4808" y="13295"/>
                  <a:pt x="4837" y="13295"/>
                </a:cubicBezTo>
                <a:cubicBezTo>
                  <a:pt x="4937" y="13295"/>
                  <a:pt x="4638" y="13295"/>
                  <a:pt x="4738" y="13295"/>
                </a:cubicBezTo>
                <a:cubicBezTo>
                  <a:pt x="4822" y="13295"/>
                  <a:pt x="4842" y="13301"/>
                  <a:pt x="4887" y="13271"/>
                </a:cubicBezTo>
                <a:cubicBezTo>
                  <a:pt x="4816" y="13271"/>
                  <a:pt x="4591" y="13271"/>
                  <a:pt x="4614" y="13271"/>
                </a:cubicBezTo>
                <a:cubicBezTo>
                  <a:pt x="4637" y="13271"/>
                  <a:pt x="4894" y="13253"/>
                  <a:pt x="4812" y="13246"/>
                </a:cubicBezTo>
                <a:cubicBezTo>
                  <a:pt x="4769" y="13242"/>
                  <a:pt x="4568" y="13246"/>
                  <a:pt x="4614" y="13246"/>
                </a:cubicBezTo>
                <a:cubicBezTo>
                  <a:pt x="4697" y="13246"/>
                  <a:pt x="4779" y="13246"/>
                  <a:pt x="4862" y="13246"/>
                </a:cubicBezTo>
                <a:cubicBezTo>
                  <a:pt x="4791" y="13255"/>
                  <a:pt x="4612" y="13248"/>
                  <a:pt x="4564" y="13295"/>
                </a:cubicBezTo>
                <a:cubicBezTo>
                  <a:pt x="4498" y="13359"/>
                  <a:pt x="4795" y="13189"/>
                  <a:pt x="4837" y="13271"/>
                </a:cubicBezTo>
                <a:cubicBezTo>
                  <a:pt x="4842" y="13280"/>
                  <a:pt x="4616" y="13327"/>
                  <a:pt x="4589" y="13345"/>
                </a:cubicBezTo>
                <a:cubicBezTo>
                  <a:pt x="4510" y="13399"/>
                  <a:pt x="4769" y="13340"/>
                  <a:pt x="4862" y="13320"/>
                </a:cubicBezTo>
                <a:cubicBezTo>
                  <a:pt x="4963" y="13299"/>
                  <a:pt x="4715" y="13377"/>
                  <a:pt x="4614" y="13395"/>
                </a:cubicBezTo>
                <a:cubicBezTo>
                  <a:pt x="4589" y="13395"/>
                  <a:pt x="4564" y="13395"/>
                  <a:pt x="4539" y="13395"/>
                </a:cubicBezTo>
                <a:cubicBezTo>
                  <a:pt x="4650" y="13395"/>
                  <a:pt x="4758" y="13391"/>
                  <a:pt x="4862" y="13345"/>
                </a:cubicBezTo>
                <a:cubicBezTo>
                  <a:pt x="4949" y="13306"/>
                  <a:pt x="4641" y="13315"/>
                  <a:pt x="4589" y="13395"/>
                </a:cubicBezTo>
                <a:cubicBezTo>
                  <a:pt x="4533" y="13480"/>
                  <a:pt x="4796" y="13391"/>
                  <a:pt x="4887" y="13345"/>
                </a:cubicBezTo>
                <a:cubicBezTo>
                  <a:pt x="4955" y="13311"/>
                  <a:pt x="4662" y="13293"/>
                  <a:pt x="4663" y="13370"/>
                </a:cubicBezTo>
                <a:cubicBezTo>
                  <a:pt x="4680" y="13378"/>
                  <a:pt x="4696" y="13387"/>
                  <a:pt x="4713" y="133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08960" y="2027160"/>
            <a:ext cx="241200" cy="285840"/>
          </a:xfrm>
          <a:custGeom>
            <a:avLst/>
            <a:gdLst/>
            <a:ahLst/>
            <a:rect l="l" t="t" r="r" b="b"/>
            <a:pathLst>
              <a:path w="670" h="794">
                <a:moveTo>
                  <a:pt x="21456" y="5631"/>
                </a:moveTo>
                <a:cubicBezTo>
                  <a:pt x="21440" y="5869"/>
                  <a:pt x="21444" y="6114"/>
                  <a:pt x="21406" y="6350"/>
                </a:cubicBezTo>
                <a:cubicBezTo>
                  <a:pt x="21383" y="6422"/>
                  <a:pt x="21377" y="6448"/>
                  <a:pt x="21332" y="6375"/>
                </a:cubicBezTo>
              </a:path>
              <a:path w="670" h="794">
                <a:moveTo>
                  <a:pt x="21134" y="6102"/>
                </a:moveTo>
                <a:cubicBezTo>
                  <a:pt x="21360" y="6074"/>
                  <a:pt x="21593" y="6072"/>
                  <a:pt x="21803" y="6003"/>
                </a:cubicBezTo>
              </a:path>
              <a:path w="670" h="794">
                <a:moveTo>
                  <a:pt x="21307" y="5854"/>
                </a:moveTo>
                <a:cubicBezTo>
                  <a:pt x="21402" y="6056"/>
                  <a:pt x="21554" y="6135"/>
                  <a:pt x="21729" y="6276"/>
                </a:cubicBezTo>
                <a:cubicBezTo>
                  <a:pt x="21737" y="6284"/>
                  <a:pt x="21746" y="6292"/>
                  <a:pt x="21754" y="63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44800"/>
            <a:ext cx="2268360" cy="2473200"/>
          </a:xfrm>
          <a:custGeom>
            <a:avLst/>
            <a:gdLst/>
            <a:ahLst/>
            <a:rect l="l" t="t" r="r" b="b"/>
            <a:pathLst>
              <a:path w="6302" h="6872">
                <a:moveTo>
                  <a:pt x="21754" y="5854"/>
                </a:moveTo>
                <a:cubicBezTo>
                  <a:pt x="21611" y="5960"/>
                  <a:pt x="21472" y="6067"/>
                  <a:pt x="21332" y="6176"/>
                </a:cubicBezTo>
              </a:path>
              <a:path w="6302" h="6872">
                <a:moveTo>
                  <a:pt x="15776" y="5680"/>
                </a:moveTo>
                <a:cubicBezTo>
                  <a:pt x="15668" y="5762"/>
                  <a:pt x="15562" y="5853"/>
                  <a:pt x="15453" y="5928"/>
                </a:cubicBezTo>
              </a:path>
              <a:path w="6302" h="6872">
                <a:moveTo>
                  <a:pt x="21729" y="12551"/>
                </a:moveTo>
                <a:lnTo>
                  <a:pt x="21729" y="12551"/>
                </a:lnTo>
              </a:path>
              <a:path w="6302" h="6872">
                <a:moveTo>
                  <a:pt x="21729" y="12526"/>
                </a:moveTo>
                <a:lnTo>
                  <a:pt x="21729" y="1252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37160" y="1990800"/>
            <a:ext cx="169920" cy="241200"/>
          </a:xfrm>
          <a:custGeom>
            <a:avLst/>
            <a:gdLst/>
            <a:ahLst/>
            <a:rect l="l" t="t" r="r" b="b"/>
            <a:pathLst>
              <a:path w="472" h="671">
                <a:moveTo>
                  <a:pt x="15677" y="5531"/>
                </a:moveTo>
                <a:cubicBezTo>
                  <a:pt x="15662" y="5738"/>
                  <a:pt x="15633" y="5944"/>
                  <a:pt x="15627" y="6152"/>
                </a:cubicBezTo>
                <a:cubicBezTo>
                  <a:pt x="15627" y="6208"/>
                  <a:pt x="15622" y="6219"/>
                  <a:pt x="15577" y="6152"/>
                </a:cubicBezTo>
              </a:path>
              <a:path w="472" h="671">
                <a:moveTo>
                  <a:pt x="15379" y="5854"/>
                </a:moveTo>
                <a:cubicBezTo>
                  <a:pt x="15528" y="5833"/>
                  <a:pt x="15715" y="5771"/>
                  <a:pt x="15850" y="5829"/>
                </a:cubicBezTo>
              </a:path>
              <a:path w="472" h="671">
                <a:moveTo>
                  <a:pt x="15478" y="5631"/>
                </a:moveTo>
                <a:cubicBezTo>
                  <a:pt x="15584" y="5732"/>
                  <a:pt x="15764" y="5841"/>
                  <a:pt x="15825" y="5978"/>
                </a:cubicBezTo>
                <a:cubicBezTo>
                  <a:pt x="15825" y="5986"/>
                  <a:pt x="15825" y="5995"/>
                  <a:pt x="15825" y="60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00680" y="2009880"/>
            <a:ext cx="223560" cy="276120"/>
          </a:xfrm>
          <a:custGeom>
            <a:avLst/>
            <a:gdLst/>
            <a:ahLst/>
            <a:rect l="l" t="t" r="r" b="b"/>
            <a:pathLst>
              <a:path w="622" h="770">
                <a:moveTo>
                  <a:pt x="11410" y="5581"/>
                </a:moveTo>
                <a:cubicBezTo>
                  <a:pt x="11366" y="5798"/>
                  <a:pt x="11375" y="6049"/>
                  <a:pt x="11361" y="6276"/>
                </a:cubicBezTo>
                <a:cubicBezTo>
                  <a:pt x="11361" y="6342"/>
                  <a:pt x="11361" y="6375"/>
                  <a:pt x="11361" y="6300"/>
                </a:cubicBezTo>
              </a:path>
              <a:path w="622" h="770">
                <a:moveTo>
                  <a:pt x="11112" y="6003"/>
                </a:moveTo>
                <a:cubicBezTo>
                  <a:pt x="11297" y="5987"/>
                  <a:pt x="11473" y="5978"/>
                  <a:pt x="11658" y="5978"/>
                </a:cubicBezTo>
              </a:path>
              <a:path w="622" h="770">
                <a:moveTo>
                  <a:pt x="11658" y="5606"/>
                </a:moveTo>
                <a:cubicBezTo>
                  <a:pt x="11509" y="5798"/>
                  <a:pt x="11315" y="6006"/>
                  <a:pt x="11212" y="6226"/>
                </a:cubicBezTo>
                <a:cubicBezTo>
                  <a:pt x="11212" y="6234"/>
                  <a:pt x="11212" y="6243"/>
                  <a:pt x="11212" y="6251"/>
                </a:cubicBezTo>
              </a:path>
              <a:path w="622" h="770">
                <a:moveTo>
                  <a:pt x="11336" y="5680"/>
                </a:moveTo>
                <a:cubicBezTo>
                  <a:pt x="11454" y="5860"/>
                  <a:pt x="11633" y="6039"/>
                  <a:pt x="11733" y="6226"/>
                </a:cubicBezTo>
                <a:cubicBezTo>
                  <a:pt x="11733" y="6234"/>
                  <a:pt x="11733" y="6243"/>
                  <a:pt x="11733" y="62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0000" y="3973680"/>
            <a:ext cx="7920" cy="9360"/>
          </a:xfrm>
          <a:custGeom>
            <a:avLst/>
            <a:gdLst/>
            <a:ahLst/>
            <a:rect l="l" t="t" r="r" b="b"/>
            <a:pathLst>
              <a:path w="25" h="26">
                <a:moveTo>
                  <a:pt x="12998" y="11038"/>
                </a:moveTo>
                <a:cubicBezTo>
                  <a:pt x="13022" y="11038"/>
                  <a:pt x="13030" y="11038"/>
                  <a:pt x="13022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44840" y="4017960"/>
            <a:ext cx="669960" cy="223920"/>
          </a:xfrm>
          <a:custGeom>
            <a:avLst/>
            <a:gdLst/>
            <a:ahLst/>
            <a:rect l="l" t="t" r="r" b="b"/>
            <a:pathLst>
              <a:path w="1862" h="621">
                <a:moveTo>
                  <a:pt x="7193" y="11286"/>
                </a:moveTo>
                <a:cubicBezTo>
                  <a:pt x="7176" y="11430"/>
                  <a:pt x="7145" y="11597"/>
                  <a:pt x="7094" y="11733"/>
                </a:cubicBezTo>
                <a:cubicBezTo>
                  <a:pt x="7081" y="11768"/>
                  <a:pt x="7075" y="11815"/>
                  <a:pt x="7094" y="11757"/>
                </a:cubicBezTo>
              </a:path>
              <a:path w="1862" h="621">
                <a:moveTo>
                  <a:pt x="7392" y="11460"/>
                </a:moveTo>
                <a:cubicBezTo>
                  <a:pt x="7392" y="11532"/>
                  <a:pt x="7373" y="11589"/>
                  <a:pt x="7367" y="11658"/>
                </a:cubicBezTo>
                <a:cubicBezTo>
                  <a:pt x="7367" y="11666"/>
                  <a:pt x="7367" y="11675"/>
                  <a:pt x="7367" y="11683"/>
                </a:cubicBezTo>
              </a:path>
              <a:path w="1862" h="621">
                <a:moveTo>
                  <a:pt x="7268" y="11633"/>
                </a:moveTo>
                <a:cubicBezTo>
                  <a:pt x="7335" y="11596"/>
                  <a:pt x="7413" y="11572"/>
                  <a:pt x="7491" y="11559"/>
                </a:cubicBezTo>
              </a:path>
              <a:path w="1862" h="621">
                <a:moveTo>
                  <a:pt x="7640" y="11385"/>
                </a:moveTo>
                <a:cubicBezTo>
                  <a:pt x="7704" y="11348"/>
                  <a:pt x="7777" y="11370"/>
                  <a:pt x="7813" y="11460"/>
                </a:cubicBezTo>
                <a:cubicBezTo>
                  <a:pt x="7871" y="11605"/>
                  <a:pt x="7699" y="11675"/>
                  <a:pt x="7615" y="11733"/>
                </a:cubicBezTo>
                <a:cubicBezTo>
                  <a:pt x="7607" y="11741"/>
                  <a:pt x="7598" y="11749"/>
                  <a:pt x="7590" y="11757"/>
                </a:cubicBezTo>
                <a:cubicBezTo>
                  <a:pt x="7590" y="11726"/>
                  <a:pt x="7569" y="11648"/>
                  <a:pt x="7615" y="11658"/>
                </a:cubicBezTo>
                <a:cubicBezTo>
                  <a:pt x="7677" y="11672"/>
                  <a:pt x="7717" y="11696"/>
                  <a:pt x="7764" y="11733"/>
                </a:cubicBezTo>
              </a:path>
              <a:path w="1862" h="621">
                <a:moveTo>
                  <a:pt x="8012" y="11509"/>
                </a:moveTo>
                <a:cubicBezTo>
                  <a:pt x="8078" y="11509"/>
                  <a:pt x="8144" y="11509"/>
                  <a:pt x="8210" y="11509"/>
                </a:cubicBezTo>
              </a:path>
              <a:path w="1862" h="621">
                <a:moveTo>
                  <a:pt x="7987" y="11658"/>
                </a:moveTo>
                <a:cubicBezTo>
                  <a:pt x="8045" y="11658"/>
                  <a:pt x="8103" y="11658"/>
                  <a:pt x="8161" y="11658"/>
                </a:cubicBezTo>
              </a:path>
              <a:path w="1862" h="621">
                <a:moveTo>
                  <a:pt x="8582" y="11237"/>
                </a:moveTo>
                <a:cubicBezTo>
                  <a:pt x="8651" y="11182"/>
                  <a:pt x="8738" y="11121"/>
                  <a:pt x="8806" y="11212"/>
                </a:cubicBezTo>
                <a:cubicBezTo>
                  <a:pt x="8865" y="11291"/>
                  <a:pt x="8800" y="11348"/>
                  <a:pt x="8756" y="11410"/>
                </a:cubicBezTo>
                <a:cubicBezTo>
                  <a:pt x="8697" y="11410"/>
                  <a:pt x="8835" y="11366"/>
                  <a:pt x="8855" y="11410"/>
                </a:cubicBezTo>
                <a:cubicBezTo>
                  <a:pt x="8911" y="11530"/>
                  <a:pt x="8758" y="11571"/>
                  <a:pt x="8682" y="11584"/>
                </a:cubicBezTo>
                <a:cubicBezTo>
                  <a:pt x="8665" y="11584"/>
                  <a:pt x="8649" y="11584"/>
                  <a:pt x="8632" y="11584"/>
                </a:cubicBezTo>
              </a:path>
              <a:path w="1862" h="621">
                <a:moveTo>
                  <a:pt x="8533" y="11708"/>
                </a:moveTo>
                <a:cubicBezTo>
                  <a:pt x="8659" y="11696"/>
                  <a:pt x="8778" y="11683"/>
                  <a:pt x="8905" y="11683"/>
                </a:cubicBezTo>
                <a:cubicBezTo>
                  <a:pt x="8913" y="11683"/>
                  <a:pt x="8922" y="11683"/>
                  <a:pt x="8930" y="11683"/>
                </a:cubicBezTo>
              </a:path>
              <a:path w="1862" h="621">
                <a:moveTo>
                  <a:pt x="8508" y="11782"/>
                </a:moveTo>
                <a:cubicBezTo>
                  <a:pt x="8624" y="11782"/>
                  <a:pt x="8739" y="11782"/>
                  <a:pt x="8855" y="117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83040" y="3875040"/>
            <a:ext cx="204840" cy="260280"/>
          </a:xfrm>
          <a:custGeom>
            <a:avLst/>
            <a:gdLst/>
            <a:ahLst/>
            <a:rect l="l" t="t" r="r" b="b"/>
            <a:pathLst>
              <a:path w="571" h="721">
                <a:moveTo>
                  <a:pt x="11063" y="10864"/>
                </a:moveTo>
                <a:cubicBezTo>
                  <a:pt x="11158" y="10890"/>
                  <a:pt x="11382" y="11142"/>
                  <a:pt x="11485" y="11261"/>
                </a:cubicBezTo>
                <a:cubicBezTo>
                  <a:pt x="11539" y="11323"/>
                  <a:pt x="11578" y="11379"/>
                  <a:pt x="11633" y="11435"/>
                </a:cubicBezTo>
              </a:path>
              <a:path w="571" h="721">
                <a:moveTo>
                  <a:pt x="11584" y="10765"/>
                </a:moveTo>
                <a:cubicBezTo>
                  <a:pt x="11448" y="10855"/>
                  <a:pt x="11290" y="11122"/>
                  <a:pt x="11187" y="11261"/>
                </a:cubicBezTo>
                <a:cubicBezTo>
                  <a:pt x="11129" y="11339"/>
                  <a:pt x="11080" y="11398"/>
                  <a:pt x="11063" y="114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49840" y="3894120"/>
            <a:ext cx="277920" cy="293760"/>
          </a:xfrm>
          <a:custGeom>
            <a:avLst/>
            <a:gdLst/>
            <a:ahLst/>
            <a:rect l="l" t="t" r="r" b="b"/>
            <a:pathLst>
              <a:path w="770" h="819">
                <a:moveTo>
                  <a:pt x="13196" y="11361"/>
                </a:moveTo>
                <a:cubicBezTo>
                  <a:pt x="13196" y="11341"/>
                  <a:pt x="13275" y="11483"/>
                  <a:pt x="13320" y="11534"/>
                </a:cubicBezTo>
                <a:cubicBezTo>
                  <a:pt x="13363" y="11582"/>
                  <a:pt x="13383" y="11621"/>
                  <a:pt x="13419" y="11633"/>
                </a:cubicBezTo>
                <a:cubicBezTo>
                  <a:pt x="13554" y="11378"/>
                  <a:pt x="13679" y="11135"/>
                  <a:pt x="13866" y="10914"/>
                </a:cubicBezTo>
                <a:cubicBezTo>
                  <a:pt x="13908" y="10864"/>
                  <a:pt x="13978" y="10815"/>
                  <a:pt x="13940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27800" y="3884760"/>
            <a:ext cx="223560" cy="295200"/>
          </a:xfrm>
          <a:custGeom>
            <a:avLst/>
            <a:gdLst/>
            <a:ahLst/>
            <a:rect l="l" t="t" r="r" b="b"/>
            <a:pathLst>
              <a:path w="621" h="820">
                <a:moveTo>
                  <a:pt x="15354" y="11286"/>
                </a:moveTo>
                <a:cubicBezTo>
                  <a:pt x="15418" y="11286"/>
                  <a:pt x="15470" y="11489"/>
                  <a:pt x="15528" y="11584"/>
                </a:cubicBezTo>
                <a:cubicBezTo>
                  <a:pt x="15536" y="11592"/>
                  <a:pt x="15545" y="11601"/>
                  <a:pt x="15553" y="11609"/>
                </a:cubicBezTo>
                <a:cubicBezTo>
                  <a:pt x="15656" y="11325"/>
                  <a:pt x="15838" y="11087"/>
                  <a:pt x="15949" y="10815"/>
                </a:cubicBezTo>
                <a:cubicBezTo>
                  <a:pt x="15949" y="10790"/>
                  <a:pt x="15949" y="10782"/>
                  <a:pt x="15974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35880" y="3919680"/>
            <a:ext cx="250920" cy="250560"/>
          </a:xfrm>
          <a:custGeom>
            <a:avLst/>
            <a:gdLst/>
            <a:ahLst/>
            <a:rect l="l" t="t" r="r" b="b"/>
            <a:pathLst>
              <a:path w="696" h="696">
                <a:moveTo>
                  <a:pt x="21084" y="11013"/>
                </a:moveTo>
                <a:cubicBezTo>
                  <a:pt x="21120" y="10940"/>
                  <a:pt x="21338" y="11335"/>
                  <a:pt x="21357" y="11361"/>
                </a:cubicBezTo>
                <a:cubicBezTo>
                  <a:pt x="21411" y="11435"/>
                  <a:pt x="21431" y="11532"/>
                  <a:pt x="21506" y="11584"/>
                </a:cubicBezTo>
                <a:cubicBezTo>
                  <a:pt x="21514" y="11584"/>
                  <a:pt x="21522" y="11584"/>
                  <a:pt x="21530" y="11584"/>
                </a:cubicBezTo>
              </a:path>
              <a:path w="696" h="696">
                <a:moveTo>
                  <a:pt x="21605" y="10939"/>
                </a:moveTo>
                <a:cubicBezTo>
                  <a:pt x="21613" y="10931"/>
                  <a:pt x="21622" y="10922"/>
                  <a:pt x="21630" y="10914"/>
                </a:cubicBezTo>
                <a:cubicBezTo>
                  <a:pt x="21586" y="10782"/>
                  <a:pt x="21429" y="11037"/>
                  <a:pt x="21332" y="11137"/>
                </a:cubicBezTo>
                <a:cubicBezTo>
                  <a:pt x="21268" y="11202"/>
                  <a:pt x="20989" y="11464"/>
                  <a:pt x="20935" y="11559"/>
                </a:cubicBezTo>
                <a:cubicBezTo>
                  <a:pt x="20935" y="11567"/>
                  <a:pt x="20935" y="11576"/>
                  <a:pt x="20935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31000" y="3902040"/>
            <a:ext cx="304920" cy="349200"/>
          </a:xfrm>
          <a:custGeom>
            <a:avLst/>
            <a:gdLst/>
            <a:ahLst/>
            <a:rect l="l" t="t" r="r" b="b"/>
            <a:pathLst>
              <a:path w="844" h="968">
                <a:moveTo>
                  <a:pt x="19100" y="10988"/>
                </a:moveTo>
                <a:cubicBezTo>
                  <a:pt x="19100" y="10960"/>
                  <a:pt x="19097" y="10950"/>
                  <a:pt x="19075" y="10939"/>
                </a:cubicBezTo>
                <a:cubicBezTo>
                  <a:pt x="19163" y="10974"/>
                  <a:pt x="19251" y="11067"/>
                  <a:pt x="19323" y="11137"/>
                </a:cubicBezTo>
                <a:cubicBezTo>
                  <a:pt x="19440" y="11251"/>
                  <a:pt x="19530" y="11401"/>
                  <a:pt x="19645" y="11509"/>
                </a:cubicBezTo>
                <a:cubicBezTo>
                  <a:pt x="19675" y="11537"/>
                  <a:pt x="19727" y="11592"/>
                  <a:pt x="19769" y="11609"/>
                </a:cubicBezTo>
                <a:cubicBezTo>
                  <a:pt x="19806" y="11624"/>
                  <a:pt x="19781" y="11621"/>
                  <a:pt x="19819" y="11633"/>
                </a:cubicBezTo>
              </a:path>
              <a:path w="844" h="968">
                <a:moveTo>
                  <a:pt x="19645" y="10840"/>
                </a:moveTo>
                <a:cubicBezTo>
                  <a:pt x="19519" y="11004"/>
                  <a:pt x="19391" y="11163"/>
                  <a:pt x="19273" y="11336"/>
                </a:cubicBezTo>
                <a:cubicBezTo>
                  <a:pt x="19181" y="11471"/>
                  <a:pt x="19115" y="11623"/>
                  <a:pt x="19025" y="11757"/>
                </a:cubicBezTo>
                <a:cubicBezTo>
                  <a:pt x="19000" y="11782"/>
                  <a:pt x="18992" y="11790"/>
                  <a:pt x="18976" y="118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97760" y="3867120"/>
            <a:ext cx="303120" cy="330120"/>
          </a:xfrm>
          <a:custGeom>
            <a:avLst/>
            <a:gdLst/>
            <a:ahLst/>
            <a:rect l="l" t="t" r="r" b="b"/>
            <a:pathLst>
              <a:path w="845" h="919">
                <a:moveTo>
                  <a:pt x="17239" y="10914"/>
                </a:moveTo>
                <a:cubicBezTo>
                  <a:pt x="17239" y="10886"/>
                  <a:pt x="17237" y="10875"/>
                  <a:pt x="17214" y="10864"/>
                </a:cubicBezTo>
                <a:cubicBezTo>
                  <a:pt x="17292" y="10895"/>
                  <a:pt x="17392" y="10978"/>
                  <a:pt x="17462" y="11038"/>
                </a:cubicBezTo>
                <a:cubicBezTo>
                  <a:pt x="17553" y="11115"/>
                  <a:pt x="17660" y="11192"/>
                  <a:pt x="17735" y="11286"/>
                </a:cubicBezTo>
                <a:cubicBezTo>
                  <a:pt x="17795" y="11362"/>
                  <a:pt x="17877" y="11431"/>
                  <a:pt x="17934" y="11509"/>
                </a:cubicBezTo>
                <a:cubicBezTo>
                  <a:pt x="17968" y="11556"/>
                  <a:pt x="18044" y="11582"/>
                  <a:pt x="18058" y="11609"/>
                </a:cubicBezTo>
                <a:cubicBezTo>
                  <a:pt x="18058" y="11617"/>
                  <a:pt x="18058" y="11625"/>
                  <a:pt x="18058" y="11633"/>
                </a:cubicBezTo>
              </a:path>
              <a:path w="845" h="919">
                <a:moveTo>
                  <a:pt x="17934" y="10740"/>
                </a:moveTo>
                <a:cubicBezTo>
                  <a:pt x="17851" y="10740"/>
                  <a:pt x="17831" y="10798"/>
                  <a:pt x="17785" y="10864"/>
                </a:cubicBezTo>
                <a:cubicBezTo>
                  <a:pt x="17702" y="10984"/>
                  <a:pt x="17625" y="11124"/>
                  <a:pt x="17537" y="11237"/>
                </a:cubicBezTo>
                <a:cubicBezTo>
                  <a:pt x="17462" y="11333"/>
                  <a:pt x="17395" y="11424"/>
                  <a:pt x="17338" y="11534"/>
                </a:cubicBezTo>
                <a:cubicBezTo>
                  <a:pt x="17321" y="11568"/>
                  <a:pt x="17270" y="11621"/>
                  <a:pt x="17264" y="11633"/>
                </a:cubicBezTo>
                <a:cubicBezTo>
                  <a:pt x="17264" y="11641"/>
                  <a:pt x="17264" y="11650"/>
                  <a:pt x="17264" y="116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90840" y="4375080"/>
            <a:ext cx="804960" cy="233280"/>
          </a:xfrm>
          <a:custGeom>
            <a:avLst/>
            <a:gdLst/>
            <a:ahLst/>
            <a:rect l="l" t="t" r="r" b="b"/>
            <a:pathLst>
              <a:path w="2233" h="646">
                <a:moveTo>
                  <a:pt x="7144" y="12229"/>
                </a:moveTo>
                <a:cubicBezTo>
                  <a:pt x="7094" y="12237"/>
                  <a:pt x="6949" y="12255"/>
                  <a:pt x="6945" y="12303"/>
                </a:cubicBezTo>
                <a:cubicBezTo>
                  <a:pt x="6940" y="12370"/>
                  <a:pt x="6927" y="12435"/>
                  <a:pt x="6921" y="12502"/>
                </a:cubicBezTo>
                <a:cubicBezTo>
                  <a:pt x="6988" y="12502"/>
                  <a:pt x="7089" y="12447"/>
                  <a:pt x="7144" y="12502"/>
                </a:cubicBezTo>
                <a:cubicBezTo>
                  <a:pt x="7240" y="12598"/>
                  <a:pt x="7100" y="12701"/>
                  <a:pt x="7020" y="12725"/>
                </a:cubicBezTo>
                <a:cubicBezTo>
                  <a:pt x="6924" y="12753"/>
                  <a:pt x="6966" y="12716"/>
                  <a:pt x="6921" y="12700"/>
                </a:cubicBezTo>
              </a:path>
              <a:path w="2233" h="646">
                <a:moveTo>
                  <a:pt x="7317" y="12328"/>
                </a:moveTo>
                <a:cubicBezTo>
                  <a:pt x="7294" y="12387"/>
                  <a:pt x="7317" y="12493"/>
                  <a:pt x="7317" y="12576"/>
                </a:cubicBezTo>
                <a:cubicBezTo>
                  <a:pt x="7317" y="12584"/>
                  <a:pt x="7317" y="12593"/>
                  <a:pt x="7317" y="12601"/>
                </a:cubicBezTo>
              </a:path>
              <a:path w="2233" h="646">
                <a:moveTo>
                  <a:pt x="7243" y="12502"/>
                </a:moveTo>
                <a:cubicBezTo>
                  <a:pt x="7277" y="12491"/>
                  <a:pt x="7438" y="12416"/>
                  <a:pt x="7466" y="12452"/>
                </a:cubicBezTo>
                <a:cubicBezTo>
                  <a:pt x="7466" y="12480"/>
                  <a:pt x="7468" y="12486"/>
                  <a:pt x="7491" y="12452"/>
                </a:cubicBezTo>
              </a:path>
              <a:path w="2233" h="646">
                <a:moveTo>
                  <a:pt x="7565" y="12229"/>
                </a:moveTo>
                <a:cubicBezTo>
                  <a:pt x="7565" y="12312"/>
                  <a:pt x="7550" y="12375"/>
                  <a:pt x="7541" y="12452"/>
                </a:cubicBezTo>
                <a:cubicBezTo>
                  <a:pt x="7598" y="12452"/>
                  <a:pt x="7636" y="12432"/>
                  <a:pt x="7689" y="12427"/>
                </a:cubicBezTo>
                <a:cubicBezTo>
                  <a:pt x="7697" y="12427"/>
                  <a:pt x="7706" y="12427"/>
                  <a:pt x="7714" y="12427"/>
                </a:cubicBezTo>
              </a:path>
              <a:path w="2233" h="646">
                <a:moveTo>
                  <a:pt x="7714" y="12179"/>
                </a:moveTo>
                <a:cubicBezTo>
                  <a:pt x="7714" y="12298"/>
                  <a:pt x="7692" y="12408"/>
                  <a:pt x="7689" y="12526"/>
                </a:cubicBezTo>
                <a:cubicBezTo>
                  <a:pt x="7687" y="12584"/>
                  <a:pt x="7689" y="12642"/>
                  <a:pt x="7689" y="12700"/>
                </a:cubicBezTo>
              </a:path>
              <a:path w="2233" h="646">
                <a:moveTo>
                  <a:pt x="7838" y="12303"/>
                </a:moveTo>
                <a:cubicBezTo>
                  <a:pt x="7838" y="12392"/>
                  <a:pt x="7849" y="12466"/>
                  <a:pt x="7863" y="12551"/>
                </a:cubicBezTo>
              </a:path>
              <a:path w="2233" h="646">
                <a:moveTo>
                  <a:pt x="7789" y="12452"/>
                </a:moveTo>
                <a:cubicBezTo>
                  <a:pt x="7847" y="12467"/>
                  <a:pt x="7869" y="12464"/>
                  <a:pt x="7938" y="12452"/>
                </a:cubicBezTo>
              </a:path>
              <a:path w="2233" h="646">
                <a:moveTo>
                  <a:pt x="8161" y="12229"/>
                </a:moveTo>
                <a:cubicBezTo>
                  <a:pt x="8078" y="12229"/>
                  <a:pt x="8062" y="12276"/>
                  <a:pt x="8037" y="12353"/>
                </a:cubicBezTo>
                <a:cubicBezTo>
                  <a:pt x="8005" y="12452"/>
                  <a:pt x="8012" y="12547"/>
                  <a:pt x="8012" y="12650"/>
                </a:cubicBezTo>
                <a:cubicBezTo>
                  <a:pt x="8107" y="12650"/>
                  <a:pt x="8191" y="12626"/>
                  <a:pt x="8260" y="12551"/>
                </a:cubicBezTo>
                <a:cubicBezTo>
                  <a:pt x="8309" y="12497"/>
                  <a:pt x="8344" y="12371"/>
                  <a:pt x="8285" y="12303"/>
                </a:cubicBezTo>
                <a:cubicBezTo>
                  <a:pt x="8251" y="12264"/>
                  <a:pt x="8176" y="12259"/>
                  <a:pt x="8136" y="12229"/>
                </a:cubicBezTo>
              </a:path>
              <a:path w="2233" h="646">
                <a:moveTo>
                  <a:pt x="8359" y="12353"/>
                </a:moveTo>
                <a:cubicBezTo>
                  <a:pt x="8419" y="12353"/>
                  <a:pt x="8546" y="12350"/>
                  <a:pt x="8558" y="12353"/>
                </a:cubicBezTo>
                <a:cubicBezTo>
                  <a:pt x="8566" y="12353"/>
                  <a:pt x="8574" y="12353"/>
                  <a:pt x="8582" y="12353"/>
                </a:cubicBezTo>
              </a:path>
              <a:path w="2233" h="646">
                <a:moveTo>
                  <a:pt x="8434" y="12502"/>
                </a:moveTo>
                <a:cubicBezTo>
                  <a:pt x="8509" y="12502"/>
                  <a:pt x="8541" y="12494"/>
                  <a:pt x="8607" y="12477"/>
                </a:cubicBezTo>
                <a:cubicBezTo>
                  <a:pt x="8615" y="12477"/>
                  <a:pt x="8624" y="12477"/>
                  <a:pt x="8632" y="12477"/>
                </a:cubicBezTo>
              </a:path>
              <a:path w="2233" h="646">
                <a:moveTo>
                  <a:pt x="9079" y="12229"/>
                </a:moveTo>
                <a:cubicBezTo>
                  <a:pt x="9019" y="12229"/>
                  <a:pt x="8992" y="12154"/>
                  <a:pt x="8954" y="12154"/>
                </a:cubicBezTo>
                <a:cubicBezTo>
                  <a:pt x="8854" y="12154"/>
                  <a:pt x="8760" y="12253"/>
                  <a:pt x="8781" y="12353"/>
                </a:cubicBezTo>
                <a:cubicBezTo>
                  <a:pt x="8804" y="12461"/>
                  <a:pt x="8885" y="12482"/>
                  <a:pt x="8979" y="12427"/>
                </a:cubicBezTo>
                <a:cubicBezTo>
                  <a:pt x="9059" y="12380"/>
                  <a:pt x="9054" y="12308"/>
                  <a:pt x="9054" y="12229"/>
                </a:cubicBezTo>
                <a:cubicBezTo>
                  <a:pt x="9054" y="12369"/>
                  <a:pt x="9054" y="12510"/>
                  <a:pt x="9054" y="12650"/>
                </a:cubicBezTo>
              </a:path>
              <a:path w="2233" h="646">
                <a:moveTo>
                  <a:pt x="8781" y="12750"/>
                </a:moveTo>
                <a:cubicBezTo>
                  <a:pt x="8863" y="12715"/>
                  <a:pt x="8983" y="12716"/>
                  <a:pt x="9079" y="12700"/>
                </a:cubicBezTo>
                <a:cubicBezTo>
                  <a:pt x="9103" y="12700"/>
                  <a:pt x="9112" y="12700"/>
                  <a:pt x="9128" y="12700"/>
                </a:cubicBezTo>
              </a:path>
              <a:path w="2233" h="646">
                <a:moveTo>
                  <a:pt x="8855" y="12799"/>
                </a:moveTo>
                <a:cubicBezTo>
                  <a:pt x="8958" y="12799"/>
                  <a:pt x="9052" y="12784"/>
                  <a:pt x="9153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27320" y="4456080"/>
            <a:ext cx="223920" cy="268200"/>
          </a:xfrm>
          <a:custGeom>
            <a:avLst/>
            <a:gdLst/>
            <a:ahLst/>
            <a:rect l="l" t="t" r="r" b="b"/>
            <a:pathLst>
              <a:path w="621" h="745">
                <a:moveTo>
                  <a:pt x="11187" y="12774"/>
                </a:moveTo>
                <a:cubicBezTo>
                  <a:pt x="11228" y="12897"/>
                  <a:pt x="11298" y="13007"/>
                  <a:pt x="11361" y="13122"/>
                </a:cubicBezTo>
                <a:cubicBezTo>
                  <a:pt x="11469" y="12927"/>
                  <a:pt x="11559" y="12744"/>
                  <a:pt x="11683" y="12551"/>
                </a:cubicBezTo>
                <a:cubicBezTo>
                  <a:pt x="11755" y="12442"/>
                  <a:pt x="11754" y="12426"/>
                  <a:pt x="11807" y="123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59200" y="4438800"/>
            <a:ext cx="214560" cy="285480"/>
          </a:xfrm>
          <a:custGeom>
            <a:avLst/>
            <a:gdLst/>
            <a:ahLst/>
            <a:rect l="l" t="t" r="r" b="b"/>
            <a:pathLst>
              <a:path w="596" h="795">
                <a:moveTo>
                  <a:pt x="13221" y="12874"/>
                </a:moveTo>
                <a:cubicBezTo>
                  <a:pt x="13249" y="12791"/>
                  <a:pt x="13393" y="13064"/>
                  <a:pt x="13419" y="13097"/>
                </a:cubicBezTo>
                <a:cubicBezTo>
                  <a:pt x="13427" y="13105"/>
                  <a:pt x="13436" y="13114"/>
                  <a:pt x="13444" y="13122"/>
                </a:cubicBezTo>
                <a:cubicBezTo>
                  <a:pt x="13483" y="12889"/>
                  <a:pt x="13588" y="12712"/>
                  <a:pt x="13692" y="12502"/>
                </a:cubicBezTo>
                <a:cubicBezTo>
                  <a:pt x="13743" y="12398"/>
                  <a:pt x="13753" y="12349"/>
                  <a:pt x="13816" y="123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37160" y="4554360"/>
            <a:ext cx="204840" cy="231840"/>
          </a:xfrm>
          <a:custGeom>
            <a:avLst/>
            <a:gdLst/>
            <a:ahLst/>
            <a:rect l="l" t="t" r="r" b="b"/>
            <a:pathLst>
              <a:path w="571" h="646">
                <a:moveTo>
                  <a:pt x="15379" y="12998"/>
                </a:moveTo>
                <a:cubicBezTo>
                  <a:pt x="15379" y="12973"/>
                  <a:pt x="15379" y="12965"/>
                  <a:pt x="15379" y="12948"/>
                </a:cubicBezTo>
                <a:cubicBezTo>
                  <a:pt x="15437" y="13041"/>
                  <a:pt x="15494" y="13163"/>
                  <a:pt x="15528" y="13271"/>
                </a:cubicBezTo>
                <a:cubicBezTo>
                  <a:pt x="15528" y="13279"/>
                  <a:pt x="15528" y="13287"/>
                  <a:pt x="15528" y="13295"/>
                </a:cubicBezTo>
                <a:cubicBezTo>
                  <a:pt x="15617" y="13041"/>
                  <a:pt x="15743" y="12872"/>
                  <a:pt x="15925" y="12675"/>
                </a:cubicBezTo>
                <a:cubicBezTo>
                  <a:pt x="15933" y="12667"/>
                  <a:pt x="15941" y="12658"/>
                  <a:pt x="15949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42040" y="4473720"/>
            <a:ext cx="268200" cy="250560"/>
          </a:xfrm>
          <a:custGeom>
            <a:avLst/>
            <a:gdLst/>
            <a:ahLst/>
            <a:rect l="l" t="t" r="r" b="b"/>
            <a:pathLst>
              <a:path w="746" h="696">
                <a:moveTo>
                  <a:pt x="17338" y="12898"/>
                </a:moveTo>
                <a:cubicBezTo>
                  <a:pt x="17381" y="12949"/>
                  <a:pt x="17445" y="13066"/>
                  <a:pt x="17487" y="13097"/>
                </a:cubicBezTo>
                <a:cubicBezTo>
                  <a:pt x="17509" y="13113"/>
                  <a:pt x="17509" y="13113"/>
                  <a:pt x="17537" y="13122"/>
                </a:cubicBezTo>
                <a:cubicBezTo>
                  <a:pt x="17575" y="13109"/>
                  <a:pt x="17647" y="13012"/>
                  <a:pt x="17686" y="12973"/>
                </a:cubicBezTo>
                <a:cubicBezTo>
                  <a:pt x="17804" y="12854"/>
                  <a:pt x="17856" y="12705"/>
                  <a:pt x="17959" y="12576"/>
                </a:cubicBezTo>
                <a:cubicBezTo>
                  <a:pt x="18017" y="12504"/>
                  <a:pt x="18065" y="12498"/>
                  <a:pt x="18083" y="124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02280" y="4491000"/>
            <a:ext cx="214560" cy="241200"/>
          </a:xfrm>
          <a:custGeom>
            <a:avLst/>
            <a:gdLst/>
            <a:ahLst/>
            <a:rect l="l" t="t" r="r" b="b"/>
            <a:pathLst>
              <a:path w="596" h="670">
                <a:moveTo>
                  <a:pt x="19199" y="12898"/>
                </a:moveTo>
                <a:cubicBezTo>
                  <a:pt x="19122" y="12924"/>
                  <a:pt x="19301" y="13050"/>
                  <a:pt x="19323" y="13072"/>
                </a:cubicBezTo>
                <a:cubicBezTo>
                  <a:pt x="19371" y="13120"/>
                  <a:pt x="19357" y="13133"/>
                  <a:pt x="19397" y="13146"/>
                </a:cubicBezTo>
                <a:cubicBezTo>
                  <a:pt x="19489" y="12925"/>
                  <a:pt x="19609" y="12723"/>
                  <a:pt x="19745" y="12526"/>
                </a:cubicBezTo>
                <a:cubicBezTo>
                  <a:pt x="19767" y="12504"/>
                  <a:pt x="19775" y="12499"/>
                  <a:pt x="19769" y="12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55880" y="4500720"/>
            <a:ext cx="5153040" cy="1465200"/>
          </a:xfrm>
          <a:custGeom>
            <a:avLst/>
            <a:gdLst/>
            <a:ahLst/>
            <a:rect l="l" t="t" r="r" b="b"/>
            <a:pathLst>
              <a:path w="14314" h="4069">
                <a:moveTo>
                  <a:pt x="19745" y="12502"/>
                </a:moveTo>
                <a:lnTo>
                  <a:pt x="19745" y="12502"/>
                </a:lnTo>
              </a:path>
              <a:path w="14314" h="4069">
                <a:moveTo>
                  <a:pt x="5432" y="14858"/>
                </a:moveTo>
                <a:lnTo>
                  <a:pt x="5432" y="14858"/>
                </a:lnTo>
              </a:path>
              <a:path w="14314" h="4069">
                <a:moveTo>
                  <a:pt x="5432" y="14833"/>
                </a:moveTo>
                <a:lnTo>
                  <a:pt x="5432" y="14833"/>
                </a:lnTo>
              </a:path>
              <a:path w="14314" h="4069">
                <a:moveTo>
                  <a:pt x="8434" y="15205"/>
                </a:moveTo>
                <a:cubicBezTo>
                  <a:pt x="8496" y="15153"/>
                  <a:pt x="8560" y="15099"/>
                  <a:pt x="8607" y="15131"/>
                </a:cubicBezTo>
              </a:path>
              <a:path w="14314" h="4069">
                <a:moveTo>
                  <a:pt x="15825" y="15875"/>
                </a:moveTo>
                <a:cubicBezTo>
                  <a:pt x="15763" y="16020"/>
                  <a:pt x="15597" y="16585"/>
                  <a:pt x="15553" y="16495"/>
                </a:cubicBezTo>
              </a:path>
              <a:path w="14314" h="4069">
                <a:moveTo>
                  <a:pt x="7020" y="15478"/>
                </a:moveTo>
                <a:cubicBezTo>
                  <a:pt x="7032" y="15552"/>
                  <a:pt x="7058" y="15625"/>
                  <a:pt x="7069" y="15701"/>
                </a:cubicBezTo>
              </a:path>
              <a:path w="14314" h="4069">
                <a:moveTo>
                  <a:pt x="7590" y="15553"/>
                </a:moveTo>
                <a:cubicBezTo>
                  <a:pt x="7708" y="15493"/>
                  <a:pt x="7763" y="15474"/>
                  <a:pt x="7863" y="15478"/>
                </a:cubicBezTo>
              </a:path>
              <a:path w="14314" h="4069">
                <a:moveTo>
                  <a:pt x="7863" y="15478"/>
                </a:moveTo>
                <a:lnTo>
                  <a:pt x="7863" y="15478"/>
                </a:lnTo>
              </a:path>
              <a:path w="14314" h="4069">
                <a:moveTo>
                  <a:pt x="8359" y="15404"/>
                </a:moveTo>
                <a:cubicBezTo>
                  <a:pt x="8377" y="15468"/>
                  <a:pt x="8409" y="15537"/>
                  <a:pt x="8434" y="15602"/>
                </a:cubicBezTo>
              </a:path>
              <a:path w="14314" h="4069">
                <a:moveTo>
                  <a:pt x="8310" y="15553"/>
                </a:moveTo>
                <a:cubicBezTo>
                  <a:pt x="8399" y="15523"/>
                  <a:pt x="8440" y="15511"/>
                  <a:pt x="8508" y="15503"/>
                </a:cubicBezTo>
              </a:path>
              <a:path w="14314" h="4069">
                <a:moveTo>
                  <a:pt x="9054" y="15379"/>
                </a:moveTo>
                <a:cubicBezTo>
                  <a:pt x="9054" y="15455"/>
                  <a:pt x="9055" y="15481"/>
                  <a:pt x="9079" y="15528"/>
                </a:cubicBezTo>
              </a:path>
              <a:path w="14314" h="4069">
                <a:moveTo>
                  <a:pt x="8954" y="15528"/>
                </a:moveTo>
                <a:cubicBezTo>
                  <a:pt x="9052" y="15493"/>
                  <a:pt x="9137" y="15455"/>
                  <a:pt x="9227" y="15404"/>
                </a:cubicBezTo>
              </a:path>
              <a:path w="14314" h="4069">
                <a:moveTo>
                  <a:pt x="9798" y="15577"/>
                </a:moveTo>
                <a:cubicBezTo>
                  <a:pt x="9890" y="15577"/>
                  <a:pt x="9916" y="15579"/>
                  <a:pt x="9971" y="15553"/>
                </a:cubicBezTo>
              </a:path>
              <a:path w="14314" h="4069">
                <a:moveTo>
                  <a:pt x="9971" y="15553"/>
                </a:moveTo>
                <a:lnTo>
                  <a:pt x="9971" y="15553"/>
                </a:lnTo>
              </a:path>
              <a:path w="14314" h="4069">
                <a:moveTo>
                  <a:pt x="19248" y="15875"/>
                </a:moveTo>
                <a:cubicBezTo>
                  <a:pt x="19176" y="15994"/>
                  <a:pt x="19101" y="16132"/>
                  <a:pt x="19025" y="162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11240" y="5348160"/>
            <a:ext cx="125640" cy="63720"/>
          </a:xfrm>
          <a:custGeom>
            <a:avLst/>
            <a:gdLst/>
            <a:ahLst/>
            <a:rect l="l" t="t" r="r" b="b"/>
            <a:pathLst>
              <a:path w="348" h="175">
                <a:moveTo>
                  <a:pt x="5383" y="15032"/>
                </a:moveTo>
                <a:cubicBezTo>
                  <a:pt x="5348" y="14985"/>
                  <a:pt x="5360" y="14967"/>
                  <a:pt x="5432" y="14957"/>
                </a:cubicBezTo>
                <a:cubicBezTo>
                  <a:pt x="5592" y="14935"/>
                  <a:pt x="5467" y="14944"/>
                  <a:pt x="5407" y="14932"/>
                </a:cubicBezTo>
                <a:cubicBezTo>
                  <a:pt x="5382" y="14924"/>
                  <a:pt x="5358" y="14916"/>
                  <a:pt x="5333" y="14908"/>
                </a:cubicBezTo>
                <a:cubicBezTo>
                  <a:pt x="5396" y="14908"/>
                  <a:pt x="5476" y="14907"/>
                  <a:pt x="5531" y="14932"/>
                </a:cubicBezTo>
                <a:cubicBezTo>
                  <a:pt x="5600" y="14964"/>
                  <a:pt x="5232" y="14957"/>
                  <a:pt x="5308" y="14957"/>
                </a:cubicBezTo>
                <a:cubicBezTo>
                  <a:pt x="5356" y="14957"/>
                  <a:pt x="5604" y="14957"/>
                  <a:pt x="5556" y="14957"/>
                </a:cubicBezTo>
                <a:cubicBezTo>
                  <a:pt x="5510" y="14957"/>
                  <a:pt x="5338" y="14968"/>
                  <a:pt x="5383" y="14957"/>
                </a:cubicBezTo>
                <a:cubicBezTo>
                  <a:pt x="5426" y="14947"/>
                  <a:pt x="5654" y="14898"/>
                  <a:pt x="5606" y="14932"/>
                </a:cubicBezTo>
                <a:cubicBezTo>
                  <a:pt x="5543" y="14977"/>
                  <a:pt x="5305" y="14957"/>
                  <a:pt x="5383" y="14957"/>
                </a:cubicBezTo>
                <a:cubicBezTo>
                  <a:pt x="5442" y="14957"/>
                  <a:pt x="5615" y="14903"/>
                  <a:pt x="5631" y="14908"/>
                </a:cubicBezTo>
                <a:cubicBezTo>
                  <a:pt x="5722" y="14936"/>
                  <a:pt x="5453" y="14950"/>
                  <a:pt x="5358" y="14957"/>
                </a:cubicBezTo>
                <a:cubicBezTo>
                  <a:pt x="5409" y="14952"/>
                  <a:pt x="5593" y="14898"/>
                  <a:pt x="5556" y="14908"/>
                </a:cubicBezTo>
                <a:cubicBezTo>
                  <a:pt x="5541" y="14912"/>
                  <a:pt x="5361" y="14998"/>
                  <a:pt x="5482" y="14957"/>
                </a:cubicBezTo>
                <a:cubicBezTo>
                  <a:pt x="5528" y="14942"/>
                  <a:pt x="5685" y="14836"/>
                  <a:pt x="5631" y="14858"/>
                </a:cubicBezTo>
                <a:cubicBezTo>
                  <a:pt x="5564" y="14886"/>
                  <a:pt x="5360" y="14932"/>
                  <a:pt x="5432" y="14932"/>
                </a:cubicBezTo>
                <a:cubicBezTo>
                  <a:pt x="5509" y="14932"/>
                  <a:pt x="5592" y="14895"/>
                  <a:pt x="5655" y="14858"/>
                </a:cubicBezTo>
                <a:cubicBezTo>
                  <a:pt x="5571" y="14875"/>
                  <a:pt x="5497" y="14903"/>
                  <a:pt x="5407" y="14908"/>
                </a:cubicBezTo>
                <a:cubicBezTo>
                  <a:pt x="5332" y="14912"/>
                  <a:pt x="5507" y="14894"/>
                  <a:pt x="5581" y="14883"/>
                </a:cubicBezTo>
                <a:cubicBezTo>
                  <a:pt x="5660" y="14872"/>
                  <a:pt x="5477" y="14919"/>
                  <a:pt x="5407" y="14957"/>
                </a:cubicBezTo>
                <a:cubicBezTo>
                  <a:pt x="5321" y="15004"/>
                  <a:pt x="5556" y="14883"/>
                  <a:pt x="5556" y="14883"/>
                </a:cubicBezTo>
                <a:cubicBezTo>
                  <a:pt x="5556" y="14891"/>
                  <a:pt x="5556" y="14900"/>
                  <a:pt x="5556" y="14908"/>
                </a:cubicBezTo>
              </a:path>
              <a:path w="348" h="175">
                <a:moveTo>
                  <a:pt x="5308" y="14932"/>
                </a:moveTo>
                <a:cubicBezTo>
                  <a:pt x="5365" y="14891"/>
                  <a:pt x="5383" y="14923"/>
                  <a:pt x="5457" y="14908"/>
                </a:cubicBezTo>
                <a:cubicBezTo>
                  <a:pt x="5547" y="14890"/>
                  <a:pt x="5577" y="14888"/>
                  <a:pt x="5655" y="14908"/>
                </a:cubicBezTo>
                <a:cubicBezTo>
                  <a:pt x="5609" y="14888"/>
                  <a:pt x="5466" y="14912"/>
                  <a:pt x="5432" y="14883"/>
                </a:cubicBezTo>
                <a:cubicBezTo>
                  <a:pt x="5432" y="14875"/>
                  <a:pt x="5432" y="14866"/>
                  <a:pt x="5432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9200" y="5180040"/>
            <a:ext cx="1170000" cy="687240"/>
          </a:xfrm>
          <a:custGeom>
            <a:avLst/>
            <a:gdLst/>
            <a:ahLst/>
            <a:rect l="l" t="t" r="r" b="b"/>
            <a:pathLst>
              <a:path w="3250" h="1911">
                <a:moveTo>
                  <a:pt x="7045" y="14511"/>
                </a:moveTo>
                <a:cubicBezTo>
                  <a:pt x="7045" y="14452"/>
                  <a:pt x="6946" y="14855"/>
                  <a:pt x="6945" y="14858"/>
                </a:cubicBezTo>
                <a:cubicBezTo>
                  <a:pt x="6929" y="14923"/>
                  <a:pt x="6921" y="15074"/>
                  <a:pt x="6921" y="15007"/>
                </a:cubicBezTo>
              </a:path>
              <a:path w="3250" h="1911">
                <a:moveTo>
                  <a:pt x="7615" y="14412"/>
                </a:moveTo>
                <a:cubicBezTo>
                  <a:pt x="7528" y="14383"/>
                  <a:pt x="7447" y="14450"/>
                  <a:pt x="7367" y="14511"/>
                </a:cubicBezTo>
                <a:cubicBezTo>
                  <a:pt x="7359" y="14519"/>
                  <a:pt x="7350" y="14528"/>
                  <a:pt x="7342" y="14536"/>
                </a:cubicBezTo>
                <a:cubicBezTo>
                  <a:pt x="7371" y="14632"/>
                  <a:pt x="7544" y="14756"/>
                  <a:pt x="7541" y="14858"/>
                </a:cubicBezTo>
                <a:cubicBezTo>
                  <a:pt x="7497" y="14945"/>
                  <a:pt x="7490" y="14969"/>
                  <a:pt x="7441" y="15007"/>
                </a:cubicBezTo>
                <a:cubicBezTo>
                  <a:pt x="7364" y="14951"/>
                  <a:pt x="7341" y="14903"/>
                  <a:pt x="7392" y="14808"/>
                </a:cubicBezTo>
                <a:cubicBezTo>
                  <a:pt x="7449" y="14703"/>
                  <a:pt x="7542" y="14547"/>
                  <a:pt x="7615" y="14461"/>
                </a:cubicBezTo>
                <a:cubicBezTo>
                  <a:pt x="7635" y="14437"/>
                  <a:pt x="7633" y="14490"/>
                  <a:pt x="7615" y="14436"/>
                </a:cubicBezTo>
              </a:path>
              <a:path w="3250" h="1911">
                <a:moveTo>
                  <a:pt x="7218" y="14709"/>
                </a:moveTo>
                <a:cubicBezTo>
                  <a:pt x="7218" y="14758"/>
                  <a:pt x="7217" y="14817"/>
                  <a:pt x="7193" y="14858"/>
                </a:cubicBezTo>
                <a:cubicBezTo>
                  <a:pt x="7185" y="14866"/>
                  <a:pt x="7177" y="14875"/>
                  <a:pt x="7169" y="14883"/>
                </a:cubicBezTo>
              </a:path>
              <a:path w="3250" h="1911">
                <a:moveTo>
                  <a:pt x="7144" y="14808"/>
                </a:moveTo>
                <a:cubicBezTo>
                  <a:pt x="7196" y="14808"/>
                  <a:pt x="7242" y="14792"/>
                  <a:pt x="7293" y="14784"/>
                </a:cubicBezTo>
              </a:path>
              <a:path w="3250" h="1911">
                <a:moveTo>
                  <a:pt x="7838" y="14684"/>
                </a:moveTo>
                <a:cubicBezTo>
                  <a:pt x="7838" y="14647"/>
                  <a:pt x="7947" y="14642"/>
                  <a:pt x="7987" y="14635"/>
                </a:cubicBezTo>
              </a:path>
              <a:path w="3250" h="1911">
                <a:moveTo>
                  <a:pt x="7789" y="14784"/>
                </a:moveTo>
                <a:cubicBezTo>
                  <a:pt x="7871" y="14784"/>
                  <a:pt x="7943" y="14789"/>
                  <a:pt x="8012" y="14759"/>
                </a:cubicBezTo>
              </a:path>
              <a:path w="3250" h="1911">
                <a:moveTo>
                  <a:pt x="8558" y="14660"/>
                </a:moveTo>
                <a:cubicBezTo>
                  <a:pt x="8558" y="14611"/>
                  <a:pt x="8553" y="14567"/>
                  <a:pt x="8508" y="14536"/>
                </a:cubicBezTo>
                <a:cubicBezTo>
                  <a:pt x="8444" y="14491"/>
                  <a:pt x="8347" y="14509"/>
                  <a:pt x="8310" y="14585"/>
                </a:cubicBezTo>
                <a:cubicBezTo>
                  <a:pt x="8260" y="14688"/>
                  <a:pt x="8283" y="14774"/>
                  <a:pt x="8409" y="14759"/>
                </a:cubicBezTo>
                <a:cubicBezTo>
                  <a:pt x="8492" y="14731"/>
                  <a:pt x="8523" y="14716"/>
                  <a:pt x="8558" y="14660"/>
                </a:cubicBezTo>
              </a:path>
              <a:path w="3250" h="1911">
                <a:moveTo>
                  <a:pt x="8582" y="14560"/>
                </a:moveTo>
                <a:cubicBezTo>
                  <a:pt x="8535" y="14704"/>
                  <a:pt x="8510" y="14849"/>
                  <a:pt x="8483" y="15007"/>
                </a:cubicBezTo>
                <a:cubicBezTo>
                  <a:pt x="8465" y="15098"/>
                  <a:pt x="8456" y="15105"/>
                  <a:pt x="8458" y="15156"/>
                </a:cubicBezTo>
              </a:path>
              <a:path w="3250" h="1911">
                <a:moveTo>
                  <a:pt x="8334" y="15131"/>
                </a:moveTo>
                <a:cubicBezTo>
                  <a:pt x="8411" y="15109"/>
                  <a:pt x="8636" y="15075"/>
                  <a:pt x="8558" y="15056"/>
                </a:cubicBezTo>
                <a:cubicBezTo>
                  <a:pt x="8541" y="15056"/>
                  <a:pt x="8525" y="15056"/>
                  <a:pt x="8508" y="15056"/>
                </a:cubicBezTo>
                <a:cubicBezTo>
                  <a:pt x="8442" y="15102"/>
                  <a:pt x="8387" y="15125"/>
                  <a:pt x="8310" y="15156"/>
                </a:cubicBezTo>
                <a:cubicBezTo>
                  <a:pt x="8405" y="15156"/>
                  <a:pt x="8489" y="15102"/>
                  <a:pt x="8582" y="15081"/>
                </a:cubicBezTo>
                <a:cubicBezTo>
                  <a:pt x="8590" y="15081"/>
                  <a:pt x="8599" y="15081"/>
                  <a:pt x="8607" y="15081"/>
                </a:cubicBezTo>
              </a:path>
              <a:path w="3250" h="1911">
                <a:moveTo>
                  <a:pt x="8533" y="15131"/>
                </a:moveTo>
                <a:cubicBezTo>
                  <a:pt x="8448" y="15131"/>
                  <a:pt x="8393" y="15140"/>
                  <a:pt x="8310" y="15156"/>
                </a:cubicBezTo>
                <a:cubicBezTo>
                  <a:pt x="8264" y="15223"/>
                  <a:pt x="8447" y="15145"/>
                  <a:pt x="8508" y="15156"/>
                </a:cubicBezTo>
                <a:cubicBezTo>
                  <a:pt x="8596" y="15172"/>
                  <a:pt x="8389" y="15205"/>
                  <a:pt x="8384" y="15205"/>
                </a:cubicBezTo>
                <a:cubicBezTo>
                  <a:pt x="8316" y="15209"/>
                  <a:pt x="8467" y="15176"/>
                  <a:pt x="8533" y="15156"/>
                </a:cubicBezTo>
                <a:cubicBezTo>
                  <a:pt x="8599" y="15156"/>
                  <a:pt x="8418" y="15178"/>
                  <a:pt x="8409" y="15180"/>
                </a:cubicBezTo>
                <a:cubicBezTo>
                  <a:pt x="8401" y="15180"/>
                  <a:pt x="8392" y="15180"/>
                  <a:pt x="8384" y="15180"/>
                </a:cubicBezTo>
              </a:path>
              <a:path w="3250" h="1911">
                <a:moveTo>
                  <a:pt x="6772" y="15304"/>
                </a:moveTo>
                <a:cubicBezTo>
                  <a:pt x="6754" y="15401"/>
                  <a:pt x="6728" y="15505"/>
                  <a:pt x="6722" y="15602"/>
                </a:cubicBezTo>
                <a:cubicBezTo>
                  <a:pt x="6718" y="15673"/>
                  <a:pt x="6707" y="15788"/>
                  <a:pt x="6821" y="15751"/>
                </a:cubicBezTo>
                <a:cubicBezTo>
                  <a:pt x="6913" y="15722"/>
                  <a:pt x="6928" y="15653"/>
                  <a:pt x="6945" y="15577"/>
                </a:cubicBezTo>
                <a:cubicBezTo>
                  <a:pt x="6845" y="15623"/>
                  <a:pt x="6790" y="15640"/>
                  <a:pt x="6846" y="15751"/>
                </a:cubicBezTo>
              </a:path>
              <a:path w="3250" h="1911">
                <a:moveTo>
                  <a:pt x="6970" y="15602"/>
                </a:moveTo>
                <a:cubicBezTo>
                  <a:pt x="7079" y="15558"/>
                  <a:pt x="7178" y="15530"/>
                  <a:pt x="7293" y="15503"/>
                </a:cubicBezTo>
              </a:path>
              <a:path w="3250" h="1911">
                <a:moveTo>
                  <a:pt x="7317" y="15404"/>
                </a:moveTo>
                <a:cubicBezTo>
                  <a:pt x="7344" y="15392"/>
                  <a:pt x="7469" y="15355"/>
                  <a:pt x="7417" y="15453"/>
                </a:cubicBezTo>
                <a:cubicBezTo>
                  <a:pt x="7400" y="15470"/>
                  <a:pt x="7384" y="15486"/>
                  <a:pt x="7367" y="15503"/>
                </a:cubicBezTo>
                <a:cubicBezTo>
                  <a:pt x="7359" y="15511"/>
                  <a:pt x="7350" y="15520"/>
                  <a:pt x="7342" y="15528"/>
                </a:cubicBezTo>
                <a:cubicBezTo>
                  <a:pt x="7379" y="15542"/>
                  <a:pt x="7510" y="15615"/>
                  <a:pt x="7417" y="15677"/>
                </a:cubicBezTo>
                <a:cubicBezTo>
                  <a:pt x="7351" y="15698"/>
                  <a:pt x="7336" y="15706"/>
                  <a:pt x="7293" y="15701"/>
                </a:cubicBezTo>
              </a:path>
              <a:path w="3250" h="1911">
                <a:moveTo>
                  <a:pt x="7615" y="15429"/>
                </a:moveTo>
                <a:cubicBezTo>
                  <a:pt x="7626" y="15496"/>
                  <a:pt x="7654" y="15560"/>
                  <a:pt x="7665" y="15627"/>
                </a:cubicBezTo>
              </a:path>
              <a:path w="3250" h="1911">
                <a:moveTo>
                  <a:pt x="8062" y="15379"/>
                </a:moveTo>
                <a:cubicBezTo>
                  <a:pt x="7976" y="15336"/>
                  <a:pt x="7959" y="15348"/>
                  <a:pt x="7913" y="15429"/>
                </a:cubicBezTo>
                <a:cubicBezTo>
                  <a:pt x="8001" y="15429"/>
                  <a:pt x="7993" y="15426"/>
                  <a:pt x="8062" y="15379"/>
                </a:cubicBezTo>
                <a:cubicBezTo>
                  <a:pt x="8099" y="15431"/>
                  <a:pt x="8119" y="15512"/>
                  <a:pt x="8136" y="15577"/>
                </a:cubicBezTo>
                <a:cubicBezTo>
                  <a:pt x="8136" y="15585"/>
                  <a:pt x="8136" y="15594"/>
                  <a:pt x="8136" y="15602"/>
                </a:cubicBezTo>
              </a:path>
              <a:path w="3250" h="1911">
                <a:moveTo>
                  <a:pt x="8806" y="15379"/>
                </a:moveTo>
                <a:cubicBezTo>
                  <a:pt x="8689" y="15314"/>
                  <a:pt x="8661" y="15362"/>
                  <a:pt x="8582" y="15478"/>
                </a:cubicBezTo>
                <a:cubicBezTo>
                  <a:pt x="8704" y="15519"/>
                  <a:pt x="8714" y="15430"/>
                  <a:pt x="8806" y="15429"/>
                </a:cubicBezTo>
                <a:cubicBezTo>
                  <a:pt x="8819" y="15429"/>
                  <a:pt x="8869" y="15599"/>
                  <a:pt x="8880" y="15627"/>
                </a:cubicBezTo>
              </a:path>
              <a:path w="3250" h="1911">
                <a:moveTo>
                  <a:pt x="9302" y="15329"/>
                </a:moveTo>
                <a:cubicBezTo>
                  <a:pt x="9371" y="15319"/>
                  <a:pt x="9434" y="15293"/>
                  <a:pt x="9500" y="15280"/>
                </a:cubicBezTo>
                <a:cubicBezTo>
                  <a:pt x="9517" y="15398"/>
                  <a:pt x="9525" y="15506"/>
                  <a:pt x="9525" y="15627"/>
                </a:cubicBezTo>
                <a:cubicBezTo>
                  <a:pt x="9525" y="15686"/>
                  <a:pt x="9534" y="15700"/>
                  <a:pt x="9599" y="15652"/>
                </a:cubicBezTo>
              </a:path>
              <a:path w="3250" h="1911">
                <a:moveTo>
                  <a:pt x="9823" y="15453"/>
                </a:moveTo>
                <a:cubicBezTo>
                  <a:pt x="9881" y="15453"/>
                  <a:pt x="9902" y="15444"/>
                  <a:pt x="9971" y="15429"/>
                </a:cubicBezTo>
              </a:path>
              <a:path w="3250" h="1911">
                <a:moveTo>
                  <a:pt x="8756" y="15949"/>
                </a:moveTo>
                <a:cubicBezTo>
                  <a:pt x="8815" y="15991"/>
                  <a:pt x="8862" y="16010"/>
                  <a:pt x="8930" y="16024"/>
                </a:cubicBezTo>
                <a:cubicBezTo>
                  <a:pt x="8930" y="16093"/>
                  <a:pt x="8959" y="16258"/>
                  <a:pt x="8880" y="16297"/>
                </a:cubicBezTo>
                <a:cubicBezTo>
                  <a:pt x="8880" y="16289"/>
                  <a:pt x="8880" y="16280"/>
                  <a:pt x="8880" y="16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63960" y="5018040"/>
            <a:ext cx="223920" cy="339840"/>
          </a:xfrm>
          <a:custGeom>
            <a:avLst/>
            <a:gdLst/>
            <a:ahLst/>
            <a:rect l="l" t="t" r="r" b="b"/>
            <a:pathLst>
              <a:path w="621" h="944">
                <a:moveTo>
                  <a:pt x="11013" y="14114"/>
                </a:moveTo>
                <a:cubicBezTo>
                  <a:pt x="11170" y="14203"/>
                  <a:pt x="11313" y="14369"/>
                  <a:pt x="11435" y="14511"/>
                </a:cubicBezTo>
                <a:cubicBezTo>
                  <a:pt x="11493" y="14579"/>
                  <a:pt x="11564" y="14748"/>
                  <a:pt x="11633" y="14784"/>
                </a:cubicBezTo>
              </a:path>
              <a:path w="621" h="944">
                <a:moveTo>
                  <a:pt x="11584" y="13940"/>
                </a:moveTo>
                <a:cubicBezTo>
                  <a:pt x="11492" y="14154"/>
                  <a:pt x="11339" y="14406"/>
                  <a:pt x="11212" y="14610"/>
                </a:cubicBezTo>
                <a:cubicBezTo>
                  <a:pt x="11155" y="14703"/>
                  <a:pt x="11072" y="14783"/>
                  <a:pt x="11038" y="148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68920" y="5072040"/>
            <a:ext cx="204840" cy="250920"/>
          </a:xfrm>
          <a:custGeom>
            <a:avLst/>
            <a:gdLst/>
            <a:ahLst/>
            <a:rect l="l" t="t" r="r" b="b"/>
            <a:pathLst>
              <a:path w="571" h="696">
                <a:moveTo>
                  <a:pt x="13271" y="14560"/>
                </a:moveTo>
                <a:cubicBezTo>
                  <a:pt x="13209" y="14470"/>
                  <a:pt x="13356" y="14670"/>
                  <a:pt x="13419" y="14759"/>
                </a:cubicBezTo>
                <a:cubicBezTo>
                  <a:pt x="13427" y="14767"/>
                  <a:pt x="13436" y="14776"/>
                  <a:pt x="13444" y="14784"/>
                </a:cubicBezTo>
                <a:cubicBezTo>
                  <a:pt x="13530" y="14755"/>
                  <a:pt x="13583" y="14456"/>
                  <a:pt x="13618" y="14387"/>
                </a:cubicBezTo>
                <a:cubicBezTo>
                  <a:pt x="13625" y="14373"/>
                  <a:pt x="13767" y="14105"/>
                  <a:pt x="13816" y="140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10160" y="5027760"/>
            <a:ext cx="249120" cy="339480"/>
          </a:xfrm>
          <a:custGeom>
            <a:avLst/>
            <a:gdLst/>
            <a:ahLst/>
            <a:rect l="l" t="t" r="r" b="b"/>
            <a:pathLst>
              <a:path w="696" h="944">
                <a:moveTo>
                  <a:pt x="15304" y="14188"/>
                </a:moveTo>
                <a:cubicBezTo>
                  <a:pt x="15304" y="14172"/>
                  <a:pt x="15304" y="14155"/>
                  <a:pt x="15304" y="14139"/>
                </a:cubicBezTo>
                <a:cubicBezTo>
                  <a:pt x="15402" y="14283"/>
                  <a:pt x="15597" y="14454"/>
                  <a:pt x="15726" y="14585"/>
                </a:cubicBezTo>
                <a:cubicBezTo>
                  <a:pt x="15802" y="14662"/>
                  <a:pt x="15949" y="14781"/>
                  <a:pt x="15999" y="14883"/>
                </a:cubicBezTo>
                <a:cubicBezTo>
                  <a:pt x="15999" y="14891"/>
                  <a:pt x="15999" y="14900"/>
                  <a:pt x="15999" y="14908"/>
                </a:cubicBezTo>
              </a:path>
              <a:path w="696" h="944">
                <a:moveTo>
                  <a:pt x="15974" y="13990"/>
                </a:moveTo>
                <a:cubicBezTo>
                  <a:pt x="15974" y="13809"/>
                  <a:pt x="15829" y="14263"/>
                  <a:pt x="15726" y="14412"/>
                </a:cubicBezTo>
                <a:cubicBezTo>
                  <a:pt x="15623" y="14560"/>
                  <a:pt x="15304" y="14728"/>
                  <a:pt x="15429" y="14858"/>
                </a:cubicBezTo>
                <a:cubicBezTo>
                  <a:pt x="15437" y="14858"/>
                  <a:pt x="15445" y="14858"/>
                  <a:pt x="15453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80120" y="5062680"/>
            <a:ext cx="258840" cy="339480"/>
          </a:xfrm>
          <a:custGeom>
            <a:avLst/>
            <a:gdLst/>
            <a:ahLst/>
            <a:rect l="l" t="t" r="r" b="b"/>
            <a:pathLst>
              <a:path w="720" h="944">
                <a:moveTo>
                  <a:pt x="17363" y="14163"/>
                </a:moveTo>
                <a:cubicBezTo>
                  <a:pt x="17417" y="14407"/>
                  <a:pt x="17591" y="14560"/>
                  <a:pt x="17735" y="14759"/>
                </a:cubicBezTo>
                <a:cubicBezTo>
                  <a:pt x="17777" y="14816"/>
                  <a:pt x="17824" y="14927"/>
                  <a:pt x="17884" y="14957"/>
                </a:cubicBezTo>
              </a:path>
              <a:path w="720" h="944">
                <a:moveTo>
                  <a:pt x="17884" y="14064"/>
                </a:moveTo>
                <a:cubicBezTo>
                  <a:pt x="17654" y="14278"/>
                  <a:pt x="17473" y="14573"/>
                  <a:pt x="17289" y="14833"/>
                </a:cubicBezTo>
                <a:cubicBezTo>
                  <a:pt x="17235" y="14909"/>
                  <a:pt x="17157" y="15007"/>
                  <a:pt x="17190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48640" y="5089680"/>
            <a:ext cx="260280" cy="741240"/>
          </a:xfrm>
          <a:custGeom>
            <a:avLst/>
            <a:gdLst/>
            <a:ahLst/>
            <a:rect l="l" t="t" r="r" b="b"/>
            <a:pathLst>
              <a:path w="721" h="2059">
                <a:moveTo>
                  <a:pt x="19149" y="14585"/>
                </a:moveTo>
                <a:cubicBezTo>
                  <a:pt x="19162" y="14594"/>
                  <a:pt x="19311" y="14808"/>
                  <a:pt x="19372" y="14883"/>
                </a:cubicBezTo>
                <a:cubicBezTo>
                  <a:pt x="19421" y="14737"/>
                  <a:pt x="19525" y="14551"/>
                  <a:pt x="19596" y="14412"/>
                </a:cubicBezTo>
                <a:cubicBezTo>
                  <a:pt x="19638" y="14331"/>
                  <a:pt x="19715" y="14227"/>
                  <a:pt x="19745" y="14139"/>
                </a:cubicBezTo>
              </a:path>
              <a:path w="721" h="2059">
                <a:moveTo>
                  <a:pt x="19199" y="15825"/>
                </a:moveTo>
                <a:cubicBezTo>
                  <a:pt x="19251" y="15906"/>
                  <a:pt x="19397" y="16196"/>
                  <a:pt x="19447" y="16173"/>
                </a:cubicBezTo>
              </a:path>
              <a:path w="721" h="2059">
                <a:moveTo>
                  <a:pt x="19348" y="15850"/>
                </a:moveTo>
                <a:cubicBezTo>
                  <a:pt x="19384" y="15837"/>
                  <a:pt x="19376" y="15826"/>
                  <a:pt x="19397" y="15801"/>
                </a:cubicBezTo>
                <a:cubicBezTo>
                  <a:pt x="19436" y="15762"/>
                  <a:pt x="19453" y="15760"/>
                  <a:pt x="19447" y="15726"/>
                </a:cubicBezTo>
                <a:cubicBezTo>
                  <a:pt x="19371" y="15745"/>
                  <a:pt x="19306" y="15820"/>
                  <a:pt x="19248" y="15875"/>
                </a:cubicBezTo>
                <a:cubicBezTo>
                  <a:pt x="19219" y="15902"/>
                  <a:pt x="19208" y="15914"/>
                  <a:pt x="19199" y="15949"/>
                </a:cubicBezTo>
              </a:path>
              <a:path w="721" h="2059">
                <a:moveTo>
                  <a:pt x="19050" y="15701"/>
                </a:moveTo>
                <a:cubicBezTo>
                  <a:pt x="19025" y="15701"/>
                  <a:pt x="19017" y="15701"/>
                  <a:pt x="19025" y="15677"/>
                </a:cubicBezTo>
                <a:cubicBezTo>
                  <a:pt x="19060" y="15746"/>
                  <a:pt x="19145" y="15833"/>
                  <a:pt x="19199" y="15900"/>
                </a:cubicBezTo>
                <a:cubicBezTo>
                  <a:pt x="19230" y="15938"/>
                  <a:pt x="19261" y="15936"/>
                  <a:pt x="19273" y="159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89880" y="4518000"/>
            <a:ext cx="250920" cy="1349280"/>
          </a:xfrm>
          <a:custGeom>
            <a:avLst/>
            <a:gdLst/>
            <a:ahLst/>
            <a:rect l="l" t="t" r="r" b="b"/>
            <a:pathLst>
              <a:path w="696" h="3747">
                <a:moveTo>
                  <a:pt x="21084" y="12973"/>
                </a:moveTo>
                <a:cubicBezTo>
                  <a:pt x="21084" y="12948"/>
                  <a:pt x="21084" y="12940"/>
                  <a:pt x="21084" y="12923"/>
                </a:cubicBezTo>
                <a:cubicBezTo>
                  <a:pt x="21144" y="12995"/>
                  <a:pt x="21203" y="13080"/>
                  <a:pt x="21233" y="13171"/>
                </a:cubicBezTo>
                <a:cubicBezTo>
                  <a:pt x="21233" y="13196"/>
                  <a:pt x="21233" y="13204"/>
                  <a:pt x="21258" y="13196"/>
                </a:cubicBezTo>
                <a:cubicBezTo>
                  <a:pt x="21258" y="13089"/>
                  <a:pt x="21365" y="12981"/>
                  <a:pt x="21431" y="12898"/>
                </a:cubicBezTo>
                <a:cubicBezTo>
                  <a:pt x="21521" y="12786"/>
                  <a:pt x="21603" y="12652"/>
                  <a:pt x="21704" y="12551"/>
                </a:cubicBezTo>
              </a:path>
              <a:path w="696" h="3747">
                <a:moveTo>
                  <a:pt x="21134" y="14114"/>
                </a:moveTo>
                <a:cubicBezTo>
                  <a:pt x="21280" y="14297"/>
                  <a:pt x="21436" y="14453"/>
                  <a:pt x="21630" y="14585"/>
                </a:cubicBezTo>
                <a:cubicBezTo>
                  <a:pt x="21651" y="14599"/>
                  <a:pt x="21744" y="14646"/>
                  <a:pt x="21754" y="14660"/>
                </a:cubicBezTo>
                <a:cubicBezTo>
                  <a:pt x="21754" y="14684"/>
                  <a:pt x="21754" y="14692"/>
                  <a:pt x="21779" y="14684"/>
                </a:cubicBezTo>
              </a:path>
              <a:path w="696" h="3747">
                <a:moveTo>
                  <a:pt x="21779" y="14089"/>
                </a:moveTo>
                <a:cubicBezTo>
                  <a:pt x="21779" y="14064"/>
                  <a:pt x="21779" y="14056"/>
                  <a:pt x="21779" y="14039"/>
                </a:cubicBezTo>
                <a:cubicBezTo>
                  <a:pt x="21615" y="14137"/>
                  <a:pt x="21448" y="14342"/>
                  <a:pt x="21307" y="14486"/>
                </a:cubicBezTo>
                <a:cubicBezTo>
                  <a:pt x="21280" y="14513"/>
                  <a:pt x="21150" y="14671"/>
                  <a:pt x="21109" y="14684"/>
                </a:cubicBezTo>
              </a:path>
              <a:path w="696" h="3747">
                <a:moveTo>
                  <a:pt x="21183" y="15801"/>
                </a:moveTo>
                <a:cubicBezTo>
                  <a:pt x="21317" y="15915"/>
                  <a:pt x="21484" y="16067"/>
                  <a:pt x="21630" y="16197"/>
                </a:cubicBezTo>
                <a:cubicBezTo>
                  <a:pt x="21756" y="16310"/>
                  <a:pt x="21740" y="16391"/>
                  <a:pt x="21654" y="16098"/>
                </a:cubicBezTo>
              </a:path>
              <a:path w="696" h="3747">
                <a:moveTo>
                  <a:pt x="21555" y="15726"/>
                </a:moveTo>
                <a:cubicBezTo>
                  <a:pt x="21506" y="15825"/>
                  <a:pt x="21359" y="16223"/>
                  <a:pt x="21282" y="161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17880" y="5000760"/>
            <a:ext cx="554040" cy="27000"/>
          </a:xfrm>
          <a:custGeom>
            <a:avLst/>
            <a:gdLst/>
            <a:ahLst/>
            <a:rect l="l" t="t" r="r" b="b"/>
            <a:pathLst>
              <a:path w="1539" h="75">
                <a:moveTo>
                  <a:pt x="8384" y="13965"/>
                </a:moveTo>
                <a:cubicBezTo>
                  <a:pt x="8482" y="13955"/>
                  <a:pt x="8541" y="13930"/>
                  <a:pt x="8632" y="13891"/>
                </a:cubicBezTo>
              </a:path>
              <a:path w="1539" h="75">
                <a:moveTo>
                  <a:pt x="9773" y="13915"/>
                </a:moveTo>
                <a:cubicBezTo>
                  <a:pt x="9828" y="13904"/>
                  <a:pt x="9862" y="13896"/>
                  <a:pt x="9922" y="13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28920" y="4938840"/>
            <a:ext cx="625320" cy="169560"/>
          </a:xfrm>
          <a:custGeom>
            <a:avLst/>
            <a:gdLst/>
            <a:ahLst/>
            <a:rect l="l" t="t" r="r" b="b"/>
            <a:pathLst>
              <a:path w="1737" h="472">
                <a:moveTo>
                  <a:pt x="6871" y="13767"/>
                </a:moveTo>
                <a:cubicBezTo>
                  <a:pt x="6931" y="13715"/>
                  <a:pt x="6908" y="13717"/>
                  <a:pt x="6970" y="13717"/>
                </a:cubicBezTo>
                <a:cubicBezTo>
                  <a:pt x="6938" y="13897"/>
                  <a:pt x="6838" y="14024"/>
                  <a:pt x="6747" y="14188"/>
                </a:cubicBezTo>
                <a:cubicBezTo>
                  <a:pt x="6843" y="14150"/>
                  <a:pt x="6916" y="14139"/>
                  <a:pt x="7020" y="14139"/>
                </a:cubicBezTo>
                <a:cubicBezTo>
                  <a:pt x="7028" y="14139"/>
                  <a:pt x="7037" y="14139"/>
                  <a:pt x="7045" y="14139"/>
                </a:cubicBezTo>
              </a:path>
              <a:path w="1737" h="472">
                <a:moveTo>
                  <a:pt x="7218" y="13816"/>
                </a:moveTo>
                <a:cubicBezTo>
                  <a:pt x="7218" y="13860"/>
                  <a:pt x="7211" y="14151"/>
                  <a:pt x="7193" y="14139"/>
                </a:cubicBezTo>
                <a:cubicBezTo>
                  <a:pt x="7193" y="14122"/>
                  <a:pt x="7193" y="14106"/>
                  <a:pt x="7193" y="14089"/>
                </a:cubicBezTo>
              </a:path>
              <a:path w="1737" h="472">
                <a:moveTo>
                  <a:pt x="7119" y="13990"/>
                </a:moveTo>
                <a:cubicBezTo>
                  <a:pt x="7202" y="13990"/>
                  <a:pt x="7284" y="13990"/>
                  <a:pt x="7367" y="13990"/>
                </a:cubicBezTo>
              </a:path>
              <a:path w="1737" h="472">
                <a:moveTo>
                  <a:pt x="7516" y="13742"/>
                </a:moveTo>
                <a:cubicBezTo>
                  <a:pt x="7494" y="13893"/>
                  <a:pt x="7423" y="14007"/>
                  <a:pt x="7466" y="14163"/>
                </a:cubicBezTo>
                <a:cubicBezTo>
                  <a:pt x="7474" y="14163"/>
                  <a:pt x="7483" y="14163"/>
                  <a:pt x="7491" y="14163"/>
                </a:cubicBezTo>
                <a:cubicBezTo>
                  <a:pt x="7624" y="14141"/>
                  <a:pt x="7665" y="14122"/>
                  <a:pt x="7689" y="13965"/>
                </a:cubicBezTo>
                <a:cubicBezTo>
                  <a:pt x="7689" y="13957"/>
                  <a:pt x="7689" y="13948"/>
                  <a:pt x="7689" y="13940"/>
                </a:cubicBezTo>
                <a:cubicBezTo>
                  <a:pt x="7599" y="13985"/>
                  <a:pt x="7560" y="14060"/>
                  <a:pt x="7590" y="14163"/>
                </a:cubicBezTo>
              </a:path>
              <a:path w="1737" h="472">
                <a:moveTo>
                  <a:pt x="7913" y="13717"/>
                </a:moveTo>
                <a:cubicBezTo>
                  <a:pt x="7884" y="13824"/>
                  <a:pt x="7895" y="13933"/>
                  <a:pt x="7863" y="14039"/>
                </a:cubicBezTo>
              </a:path>
              <a:path w="1737" h="472">
                <a:moveTo>
                  <a:pt x="7813" y="13940"/>
                </a:moveTo>
                <a:cubicBezTo>
                  <a:pt x="7871" y="13940"/>
                  <a:pt x="7929" y="13940"/>
                  <a:pt x="7987" y="13940"/>
                </a:cubicBezTo>
              </a:path>
              <a:path w="1737" h="472">
                <a:moveTo>
                  <a:pt x="8260" y="13717"/>
                </a:moveTo>
                <a:cubicBezTo>
                  <a:pt x="8240" y="13724"/>
                  <a:pt x="8122" y="13754"/>
                  <a:pt x="8111" y="13767"/>
                </a:cubicBezTo>
                <a:cubicBezTo>
                  <a:pt x="8079" y="13806"/>
                  <a:pt x="8086" y="13891"/>
                  <a:pt x="8086" y="13940"/>
                </a:cubicBezTo>
                <a:cubicBezTo>
                  <a:pt x="8179" y="13899"/>
                  <a:pt x="8265" y="13850"/>
                  <a:pt x="8260" y="14015"/>
                </a:cubicBezTo>
                <a:cubicBezTo>
                  <a:pt x="8256" y="14139"/>
                  <a:pt x="8148" y="14181"/>
                  <a:pt x="8037" y="14163"/>
                </a:cubicBezTo>
                <a:cubicBezTo>
                  <a:pt x="8020" y="14155"/>
                  <a:pt x="8004" y="14147"/>
                  <a:pt x="7987" y="14139"/>
                </a:cubicBezTo>
              </a:path>
              <a:path w="1737" h="472">
                <a:moveTo>
                  <a:pt x="8458" y="13866"/>
                </a:moveTo>
                <a:cubicBezTo>
                  <a:pt x="8458" y="13938"/>
                  <a:pt x="8471" y="13994"/>
                  <a:pt x="8483" y="14064"/>
                </a:cubicBezTo>
                <a:cubicBezTo>
                  <a:pt x="8483" y="14072"/>
                  <a:pt x="8483" y="14081"/>
                  <a:pt x="8483" y="140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43160" y="4938840"/>
            <a:ext cx="428760" cy="160200"/>
          </a:xfrm>
          <a:custGeom>
            <a:avLst/>
            <a:gdLst/>
            <a:ahLst/>
            <a:rect l="l" t="t" r="r" b="b"/>
            <a:pathLst>
              <a:path w="1192" h="447">
                <a:moveTo>
                  <a:pt x="8830" y="13717"/>
                </a:moveTo>
                <a:cubicBezTo>
                  <a:pt x="8888" y="13818"/>
                  <a:pt x="8896" y="13920"/>
                  <a:pt x="8806" y="14015"/>
                </a:cubicBezTo>
                <a:cubicBezTo>
                  <a:pt x="8734" y="14091"/>
                  <a:pt x="8731" y="14013"/>
                  <a:pt x="8731" y="13965"/>
                </a:cubicBezTo>
                <a:cubicBezTo>
                  <a:pt x="8731" y="13957"/>
                  <a:pt x="8731" y="13948"/>
                  <a:pt x="8731" y="13940"/>
                </a:cubicBezTo>
                <a:cubicBezTo>
                  <a:pt x="8784" y="13961"/>
                  <a:pt x="8856" y="13998"/>
                  <a:pt x="8880" y="14039"/>
                </a:cubicBezTo>
                <a:cubicBezTo>
                  <a:pt x="8880" y="14047"/>
                  <a:pt x="8880" y="14056"/>
                  <a:pt x="8880" y="14064"/>
                </a:cubicBezTo>
              </a:path>
              <a:path w="1192" h="447">
                <a:moveTo>
                  <a:pt x="9103" y="13791"/>
                </a:moveTo>
                <a:cubicBezTo>
                  <a:pt x="9103" y="13748"/>
                  <a:pt x="9146" y="13928"/>
                  <a:pt x="9153" y="13965"/>
                </a:cubicBezTo>
                <a:cubicBezTo>
                  <a:pt x="9153" y="13982"/>
                  <a:pt x="9153" y="13998"/>
                  <a:pt x="9153" y="14015"/>
                </a:cubicBezTo>
              </a:path>
              <a:path w="1192" h="447">
                <a:moveTo>
                  <a:pt x="9054" y="13915"/>
                </a:moveTo>
                <a:cubicBezTo>
                  <a:pt x="9142" y="13915"/>
                  <a:pt x="9216" y="13903"/>
                  <a:pt x="9302" y="13891"/>
                </a:cubicBezTo>
              </a:path>
              <a:path w="1192" h="447">
                <a:moveTo>
                  <a:pt x="9426" y="13742"/>
                </a:moveTo>
                <a:cubicBezTo>
                  <a:pt x="9475" y="13742"/>
                  <a:pt x="9512" y="13725"/>
                  <a:pt x="9525" y="13791"/>
                </a:cubicBezTo>
                <a:cubicBezTo>
                  <a:pt x="9543" y="13885"/>
                  <a:pt x="9504" y="13859"/>
                  <a:pt x="9475" y="13915"/>
                </a:cubicBezTo>
                <a:cubicBezTo>
                  <a:pt x="9572" y="13925"/>
                  <a:pt x="9659" y="13992"/>
                  <a:pt x="9575" y="14114"/>
                </a:cubicBezTo>
                <a:cubicBezTo>
                  <a:pt x="9550" y="14150"/>
                  <a:pt x="9351" y="14190"/>
                  <a:pt x="9351" y="14139"/>
                </a:cubicBezTo>
                <a:cubicBezTo>
                  <a:pt x="9359" y="14106"/>
                  <a:pt x="9368" y="14072"/>
                  <a:pt x="9376" y="14039"/>
                </a:cubicBezTo>
              </a:path>
              <a:path w="1192" h="447">
                <a:moveTo>
                  <a:pt x="9773" y="13990"/>
                </a:moveTo>
                <a:cubicBezTo>
                  <a:pt x="9847" y="13990"/>
                  <a:pt x="9872" y="13990"/>
                  <a:pt x="9922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70120" y="5661000"/>
            <a:ext cx="3759120" cy="260280"/>
          </a:xfrm>
          <a:custGeom>
            <a:avLst/>
            <a:gdLst/>
            <a:ahLst/>
            <a:rect l="l" t="t" r="r" b="b"/>
            <a:pathLst>
              <a:path w="10443" h="721">
                <a:moveTo>
                  <a:pt x="7417" y="16222"/>
                </a:moveTo>
                <a:cubicBezTo>
                  <a:pt x="7505" y="16209"/>
                  <a:pt x="7539" y="16188"/>
                  <a:pt x="7615" y="16148"/>
                </a:cubicBezTo>
              </a:path>
              <a:path w="10443" h="721">
                <a:moveTo>
                  <a:pt x="8310" y="16049"/>
                </a:moveTo>
                <a:cubicBezTo>
                  <a:pt x="8360" y="16071"/>
                  <a:pt x="8404" y="16089"/>
                  <a:pt x="8458" y="16098"/>
                </a:cubicBezTo>
              </a:path>
              <a:path w="10443" h="721">
                <a:moveTo>
                  <a:pt x="8334" y="16222"/>
                </a:moveTo>
                <a:cubicBezTo>
                  <a:pt x="8405" y="16187"/>
                  <a:pt x="8445" y="16174"/>
                  <a:pt x="8508" y="16173"/>
                </a:cubicBezTo>
              </a:path>
              <a:path w="10443" h="721">
                <a:moveTo>
                  <a:pt x="13593" y="15900"/>
                </a:moveTo>
                <a:cubicBezTo>
                  <a:pt x="13748" y="16030"/>
                  <a:pt x="14021" y="16170"/>
                  <a:pt x="13940" y="16371"/>
                </a:cubicBezTo>
              </a:path>
              <a:path w="10443" h="721">
                <a:moveTo>
                  <a:pt x="13816" y="15776"/>
                </a:moveTo>
                <a:cubicBezTo>
                  <a:pt x="13740" y="15999"/>
                  <a:pt x="13670" y="16224"/>
                  <a:pt x="13593" y="16446"/>
                </a:cubicBezTo>
              </a:path>
              <a:path w="10443" h="721">
                <a:moveTo>
                  <a:pt x="17338" y="15726"/>
                </a:moveTo>
                <a:cubicBezTo>
                  <a:pt x="17409" y="15817"/>
                  <a:pt x="17717" y="16284"/>
                  <a:pt x="17859" y="16247"/>
                </a:cubicBezTo>
                <a:cubicBezTo>
                  <a:pt x="17859" y="16222"/>
                  <a:pt x="17859" y="16198"/>
                  <a:pt x="17859" y="16173"/>
                </a:cubicBezTo>
              </a:path>
              <a:path w="10443" h="721">
                <a:moveTo>
                  <a:pt x="17562" y="15776"/>
                </a:moveTo>
                <a:cubicBezTo>
                  <a:pt x="17463" y="15950"/>
                  <a:pt x="17382" y="16087"/>
                  <a:pt x="17314" y="16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920" y="3759120"/>
            <a:ext cx="874800" cy="214560"/>
          </a:xfrm>
          <a:custGeom>
            <a:avLst/>
            <a:gdLst/>
            <a:ahLst/>
            <a:rect l="l" t="t" r="r" b="b"/>
            <a:pathLst>
              <a:path w="2432" h="596">
                <a:moveTo>
                  <a:pt x="6970" y="10542"/>
                </a:moveTo>
                <a:cubicBezTo>
                  <a:pt x="7119" y="10542"/>
                  <a:pt x="7268" y="10542"/>
                  <a:pt x="7417" y="10542"/>
                </a:cubicBezTo>
                <a:cubicBezTo>
                  <a:pt x="7389" y="10679"/>
                  <a:pt x="7298" y="10809"/>
                  <a:pt x="7243" y="10939"/>
                </a:cubicBezTo>
                <a:cubicBezTo>
                  <a:pt x="7224" y="10996"/>
                  <a:pt x="7215" y="11003"/>
                  <a:pt x="7218" y="11038"/>
                </a:cubicBezTo>
              </a:path>
              <a:path w="2432" h="596">
                <a:moveTo>
                  <a:pt x="7665" y="10616"/>
                </a:moveTo>
                <a:cubicBezTo>
                  <a:pt x="7665" y="10600"/>
                  <a:pt x="7665" y="10583"/>
                  <a:pt x="7665" y="10567"/>
                </a:cubicBezTo>
                <a:cubicBezTo>
                  <a:pt x="7653" y="10675"/>
                  <a:pt x="7622" y="10781"/>
                  <a:pt x="7615" y="10889"/>
                </a:cubicBezTo>
                <a:cubicBezTo>
                  <a:pt x="7615" y="10897"/>
                  <a:pt x="7615" y="10906"/>
                  <a:pt x="7615" y="10914"/>
                </a:cubicBezTo>
              </a:path>
              <a:path w="2432" h="596">
                <a:moveTo>
                  <a:pt x="7516" y="10790"/>
                </a:moveTo>
                <a:cubicBezTo>
                  <a:pt x="7585" y="10778"/>
                  <a:pt x="7642" y="10765"/>
                  <a:pt x="7714" y="10765"/>
                </a:cubicBezTo>
                <a:cubicBezTo>
                  <a:pt x="7722" y="10765"/>
                  <a:pt x="7731" y="10765"/>
                  <a:pt x="7739" y="10765"/>
                </a:cubicBezTo>
              </a:path>
              <a:path w="2432" h="596">
                <a:moveTo>
                  <a:pt x="8186" y="10443"/>
                </a:moveTo>
                <a:cubicBezTo>
                  <a:pt x="8155" y="10451"/>
                  <a:pt x="7979" y="10451"/>
                  <a:pt x="7962" y="10468"/>
                </a:cubicBezTo>
                <a:cubicBezTo>
                  <a:pt x="7932" y="10497"/>
                  <a:pt x="7901" y="10602"/>
                  <a:pt x="7888" y="10641"/>
                </a:cubicBezTo>
                <a:cubicBezTo>
                  <a:pt x="7888" y="10649"/>
                  <a:pt x="7888" y="10658"/>
                  <a:pt x="7888" y="10666"/>
                </a:cubicBezTo>
                <a:cubicBezTo>
                  <a:pt x="7955" y="10666"/>
                  <a:pt x="8056" y="10611"/>
                  <a:pt x="8111" y="10666"/>
                </a:cubicBezTo>
                <a:cubicBezTo>
                  <a:pt x="8200" y="10755"/>
                  <a:pt x="8131" y="10887"/>
                  <a:pt x="8037" y="10939"/>
                </a:cubicBezTo>
                <a:cubicBezTo>
                  <a:pt x="7957" y="10983"/>
                  <a:pt x="7851" y="10964"/>
                  <a:pt x="7764" y="10964"/>
                </a:cubicBezTo>
              </a:path>
              <a:path w="2432" h="596">
                <a:moveTo>
                  <a:pt x="8384" y="10716"/>
                </a:moveTo>
                <a:cubicBezTo>
                  <a:pt x="8458" y="10716"/>
                  <a:pt x="8533" y="10716"/>
                  <a:pt x="8607" y="10716"/>
                </a:cubicBezTo>
              </a:path>
              <a:path w="2432" h="596">
                <a:moveTo>
                  <a:pt x="8359" y="10889"/>
                </a:moveTo>
                <a:cubicBezTo>
                  <a:pt x="8436" y="10878"/>
                  <a:pt x="8503" y="10864"/>
                  <a:pt x="8582" y="10864"/>
                </a:cubicBezTo>
              </a:path>
              <a:path w="2432" h="596">
                <a:moveTo>
                  <a:pt x="8880" y="10492"/>
                </a:moveTo>
                <a:cubicBezTo>
                  <a:pt x="8905" y="10518"/>
                  <a:pt x="8848" y="10766"/>
                  <a:pt x="8830" y="10889"/>
                </a:cubicBezTo>
                <a:cubicBezTo>
                  <a:pt x="8830" y="10914"/>
                  <a:pt x="8830" y="10922"/>
                  <a:pt x="8830" y="10939"/>
                </a:cubicBezTo>
              </a:path>
              <a:path w="2432" h="596">
                <a:moveTo>
                  <a:pt x="9203" y="10492"/>
                </a:moveTo>
                <a:cubicBezTo>
                  <a:pt x="9154" y="10492"/>
                  <a:pt x="9243" y="10447"/>
                  <a:pt x="9277" y="10443"/>
                </a:cubicBezTo>
                <a:cubicBezTo>
                  <a:pt x="9332" y="10436"/>
                  <a:pt x="9392" y="10508"/>
                  <a:pt x="9376" y="10567"/>
                </a:cubicBezTo>
                <a:cubicBezTo>
                  <a:pt x="9363" y="10615"/>
                  <a:pt x="9310" y="10681"/>
                  <a:pt x="9277" y="10716"/>
                </a:cubicBezTo>
                <a:cubicBezTo>
                  <a:pt x="9223" y="10773"/>
                  <a:pt x="9159" y="10807"/>
                  <a:pt x="9103" y="10864"/>
                </a:cubicBezTo>
                <a:cubicBezTo>
                  <a:pt x="9057" y="10911"/>
                  <a:pt x="9033" y="10980"/>
                  <a:pt x="9004" y="11038"/>
                </a:cubicBezTo>
                <a:cubicBezTo>
                  <a:pt x="9045" y="10971"/>
                  <a:pt x="9060" y="10922"/>
                  <a:pt x="9153" y="10889"/>
                </a:cubicBezTo>
                <a:cubicBezTo>
                  <a:pt x="9193" y="10875"/>
                  <a:pt x="9251" y="10924"/>
                  <a:pt x="9277" y="10939"/>
                </a:cubicBezTo>
                <a:cubicBezTo>
                  <a:pt x="9336" y="10974"/>
                  <a:pt x="9343" y="10954"/>
                  <a:pt x="9401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823160" y="4510080"/>
            <a:ext cx="27000" cy="1440"/>
          </a:xfrm>
          <a:custGeom>
            <a:avLst/>
            <a:gdLst/>
            <a:ahLst/>
            <a:rect l="l" t="t" r="r" b="b"/>
            <a:pathLst>
              <a:path w="75" h="1">
                <a:moveTo>
                  <a:pt x="21729" y="12526"/>
                </a:moveTo>
                <a:cubicBezTo>
                  <a:pt x="21754" y="12526"/>
                  <a:pt x="21778" y="12526"/>
                  <a:pt x="21803" y="12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74880" y="5956200"/>
            <a:ext cx="189000" cy="44640"/>
          </a:xfrm>
          <a:custGeom>
            <a:avLst/>
            <a:gdLst/>
            <a:ahLst/>
            <a:rect l="l" t="t" r="r" b="b"/>
            <a:pathLst>
              <a:path w="522" h="125">
                <a:moveTo>
                  <a:pt x="5209" y="16570"/>
                </a:moveTo>
                <a:cubicBezTo>
                  <a:pt x="5325" y="16559"/>
                  <a:pt x="5635" y="16459"/>
                  <a:pt x="5556" y="16545"/>
                </a:cubicBezTo>
                <a:cubicBezTo>
                  <a:pt x="5445" y="16600"/>
                  <a:pt x="5399" y="16619"/>
                  <a:pt x="5308" y="16619"/>
                </a:cubicBezTo>
                <a:cubicBezTo>
                  <a:pt x="5124" y="16592"/>
                  <a:pt x="5436" y="16575"/>
                  <a:pt x="5507" y="16570"/>
                </a:cubicBezTo>
                <a:cubicBezTo>
                  <a:pt x="5434" y="16606"/>
                  <a:pt x="5252" y="16670"/>
                  <a:pt x="5432" y="16644"/>
                </a:cubicBezTo>
                <a:cubicBezTo>
                  <a:pt x="5598" y="16623"/>
                  <a:pt x="5633" y="16623"/>
                  <a:pt x="5730" y="165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89120" y="5732640"/>
            <a:ext cx="312840" cy="188640"/>
          </a:xfrm>
          <a:custGeom>
            <a:avLst/>
            <a:gdLst/>
            <a:ahLst/>
            <a:rect l="l" t="t" r="r" b="b"/>
            <a:pathLst>
              <a:path w="870" h="522">
                <a:moveTo>
                  <a:pt x="7218" y="16024"/>
                </a:moveTo>
                <a:cubicBezTo>
                  <a:pt x="7272" y="15970"/>
                  <a:pt x="7256" y="15983"/>
                  <a:pt x="7342" y="15974"/>
                </a:cubicBezTo>
                <a:cubicBezTo>
                  <a:pt x="7320" y="16084"/>
                  <a:pt x="7306" y="16102"/>
                  <a:pt x="7243" y="16197"/>
                </a:cubicBezTo>
                <a:cubicBezTo>
                  <a:pt x="7359" y="16214"/>
                  <a:pt x="7449" y="16253"/>
                  <a:pt x="7342" y="16371"/>
                </a:cubicBezTo>
                <a:cubicBezTo>
                  <a:pt x="7220" y="16505"/>
                  <a:pt x="7202" y="16419"/>
                  <a:pt x="7193" y="16297"/>
                </a:cubicBezTo>
              </a:path>
              <a:path w="870" h="522">
                <a:moveTo>
                  <a:pt x="7789" y="15974"/>
                </a:moveTo>
                <a:cubicBezTo>
                  <a:pt x="7776" y="16023"/>
                  <a:pt x="7686" y="16233"/>
                  <a:pt x="7813" y="16247"/>
                </a:cubicBezTo>
                <a:cubicBezTo>
                  <a:pt x="7949" y="16262"/>
                  <a:pt x="8001" y="16158"/>
                  <a:pt x="8062" y="16073"/>
                </a:cubicBezTo>
              </a:path>
              <a:path w="870" h="522">
                <a:moveTo>
                  <a:pt x="7962" y="15925"/>
                </a:moveTo>
                <a:cubicBezTo>
                  <a:pt x="7939" y="16075"/>
                  <a:pt x="7937" y="16266"/>
                  <a:pt x="7888" y="16396"/>
                </a:cubicBezTo>
              </a:path>
              <a:path w="870" h="522">
                <a:moveTo>
                  <a:pt x="7491" y="16098"/>
                </a:moveTo>
                <a:cubicBezTo>
                  <a:pt x="7491" y="16164"/>
                  <a:pt x="7491" y="16231"/>
                  <a:pt x="7491" y="162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54320" y="5607000"/>
            <a:ext cx="223920" cy="287280"/>
          </a:xfrm>
          <a:custGeom>
            <a:avLst/>
            <a:gdLst/>
            <a:ahLst/>
            <a:rect l="l" t="t" r="r" b="b"/>
            <a:pathLst>
              <a:path w="621" h="795">
                <a:moveTo>
                  <a:pt x="11261" y="15776"/>
                </a:moveTo>
                <a:cubicBezTo>
                  <a:pt x="11451" y="15979"/>
                  <a:pt x="11641" y="16148"/>
                  <a:pt x="11857" y="16321"/>
                </a:cubicBezTo>
                <a:cubicBezTo>
                  <a:pt x="11886" y="16351"/>
                  <a:pt x="11891" y="16353"/>
                  <a:pt x="11857" y="16297"/>
                </a:cubicBezTo>
              </a:path>
              <a:path w="621" h="795">
                <a:moveTo>
                  <a:pt x="11683" y="15577"/>
                </a:moveTo>
                <a:cubicBezTo>
                  <a:pt x="11529" y="15835"/>
                  <a:pt x="11118" y="16635"/>
                  <a:pt x="11261" y="16371"/>
                </a:cubicBezTo>
                <a:cubicBezTo>
                  <a:pt x="11294" y="16305"/>
                  <a:pt x="11328" y="16239"/>
                  <a:pt x="11361" y="161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54800" y="5742000"/>
            <a:ext cx="241200" cy="241200"/>
          </a:xfrm>
          <a:custGeom>
            <a:avLst/>
            <a:gdLst/>
            <a:ahLst/>
            <a:rect l="l" t="t" r="r" b="b"/>
            <a:pathLst>
              <a:path w="670" h="671">
                <a:moveTo>
                  <a:pt x="15429" y="15949"/>
                </a:moveTo>
                <a:cubicBezTo>
                  <a:pt x="15627" y="16164"/>
                  <a:pt x="15842" y="16466"/>
                  <a:pt x="16098" y="16619"/>
                </a:cubicBezTo>
                <a:cubicBezTo>
                  <a:pt x="16098" y="16611"/>
                  <a:pt x="16098" y="16602"/>
                  <a:pt x="16098" y="165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sibility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1 Pick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2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 mcgrath</cp:lastModifiedBy>
  <dcterms:modified xsi:type="dcterms:W3CDTF">2011-09-27T19:22:07Z</dcterms:modified>
  <cp:revision>39</cp:revision>
  <dc:subject/>
  <dc:title>Unit 1 – Variables and Equations </dc:title>
</cp:coreProperties>
</file>